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wmf" ContentType="image/x-wmf"/>
  <Override PartName="/ppt/media/image2.png" ContentType="image/png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9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6.wmf" ContentType="image/x-wmf"/>
  <Override PartName="/ppt/media/image11.wmf" ContentType="image/x-wmf"/>
  <Override PartName="/ppt/media/image3.png" ContentType="image/png"/>
  <Override PartName="/ppt/media/image7.wmf" ContentType="image/x-wmf"/>
  <Override PartName="/ppt/media/image12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8DDC-EEA5-4B9B-A353-DD382D70F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D801-D5CB-4BF7-9845-145490CCE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4B38-939F-4389-A08F-5B884D029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E299-14B0-453C-BC51-1D3065147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FB7AC-7F3B-4A47-9742-FA40C1142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F06D5-1AEE-4660-9136-E2278C23F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40A43-C601-4B1F-B284-78282AAC8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84536-3011-4C3D-A941-95DE708FF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715D2-F1BD-4063-BF96-6067BE86B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6C195-CDFA-4AF4-973D-D074FEF41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0E0D2-9A99-4AFE-B074-1CE7EEC97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0DAB-331D-43E0-B424-AC485A298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9EFA4-C422-4A46-ACEC-E709CFB11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3EE73-57DE-4860-9A08-FCF102838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78CAD-FD9F-4A8B-8958-7D5958675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25AB1-5807-47D0-B9B9-1A784D750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5F1EC-541A-4DBA-938E-158D90FF5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5F14-EA35-4773-BCA1-3E21F1873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F384-F7DC-425F-ABCB-6177E7290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B872-05A0-470B-A6BC-724FBA1CD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2662-718E-48EE-9CDB-1D602A708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C77A-EBA7-4B63-95AF-2DBC09149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87B1-3293-493F-9BCA-16CB4DF69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7B25-0B30-498E-A677-F715A7E73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63BF0-79DD-446F-B391-2052B425A728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F8669-4C78-4E18-88D8-8C965935BB66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Herramientas Contables para la Planificación y el Control.</a:t>
            </a:r>
            <a:br>
              <a:rPr sz="3600"/>
            </a:br>
            <a:br>
              <a:rPr sz="3600"/>
            </a:b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El Presupuesto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381880" cy="81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mulación de Presupuest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23640" y="1413000"/>
            <a:ext cx="8591400" cy="475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Ciclo Presupuestario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s el proceso por el cual una empresa elabora el presupuesto para un determinado período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upuesto Maestr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)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Presupuesto Operacional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11089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upuesto de Vent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11089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upuesto de Producc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11089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upuesto de MP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11089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upuesto de MO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11089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upuesto de Gastos de Fabricac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11089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upuesto de Existenci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11089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84360" y="4653000"/>
            <a:ext cx="71992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)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Presupuestos Financiero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upuesto de Caj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.G. presupuestad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ERR presupuestad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683600" y="4941720"/>
            <a:ext cx="505080" cy="10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Symbol"/>
                <a:ea typeface="Symbol"/>
              </a:rPr>
              <a:t>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219640" y="5229360"/>
            <a:ext cx="24544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Estado Financiero Proform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3505320" y="3657600"/>
            <a:ext cx="1981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3492360" y="3657600"/>
            <a:ext cx="12960" cy="29401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486400" y="3657600"/>
            <a:ext cx="22320" cy="29401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581280" y="3733920"/>
            <a:ext cx="1828800" cy="57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cc00cc"/>
                </a:solidFill>
                <a:latin typeface="Arial"/>
              </a:rPr>
              <a:t>Presupues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cc00cc"/>
                </a:solidFill>
                <a:latin typeface="Arial"/>
              </a:rPr>
              <a:t>Inversion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505320" y="4419720"/>
            <a:ext cx="1981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492360" y="4479840"/>
            <a:ext cx="2087640" cy="21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96920" indent="-1969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Nueva Tecnologí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Renovación Activo Fij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Nuevas Instalacione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Nuevas Maq. y Equip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Aumento capacida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3492360" y="6597720"/>
            <a:ext cx="19814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838080" y="304920"/>
            <a:ext cx="19814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38080" y="304920"/>
            <a:ext cx="0" cy="28191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38080" y="3124080"/>
            <a:ext cx="19814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819520" y="304920"/>
            <a:ext cx="0" cy="28191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914400" y="380880"/>
            <a:ext cx="1828800" cy="57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cc00cc"/>
                </a:solidFill>
                <a:latin typeface="Arial"/>
              </a:rPr>
              <a:t>Planifica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cc00cc"/>
                </a:solidFill>
                <a:latin typeface="Arial"/>
              </a:rPr>
              <a:t>Estratégi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838080" y="1066680"/>
            <a:ext cx="19814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914400" y="1197000"/>
            <a:ext cx="200196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96920" indent="-196920">
              <a:lnSpc>
                <a:spcPct val="10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is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nálisis interno y exter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strategi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lanes de Ac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172200" y="228600"/>
            <a:ext cx="1981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172200" y="228600"/>
            <a:ext cx="0" cy="28954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172200" y="3124080"/>
            <a:ext cx="1981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8153280" y="228600"/>
            <a:ext cx="0" cy="28954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248520" y="304920"/>
            <a:ext cx="1828800" cy="57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cc00cc"/>
                </a:solidFill>
                <a:latin typeface="Arial"/>
              </a:rPr>
              <a:t>Presupues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cc00cc"/>
                </a:solidFill>
                <a:latin typeface="Arial"/>
              </a:rPr>
              <a:t>Financier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172200" y="990720"/>
            <a:ext cx="1981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248520" y="1295280"/>
            <a:ext cx="182880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96920" indent="-196920">
              <a:lnSpc>
                <a:spcPct val="10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alance Gener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stado de Resultad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lujo de Caj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505320" y="304920"/>
            <a:ext cx="1981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505320" y="304920"/>
            <a:ext cx="0" cy="28191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486400" y="304920"/>
            <a:ext cx="0" cy="28191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581280" y="380880"/>
            <a:ext cx="1828800" cy="57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cc00cc"/>
                </a:solidFill>
                <a:latin typeface="Arial"/>
              </a:rPr>
              <a:t>Presupues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cc00cc"/>
                </a:solidFill>
                <a:latin typeface="Arial"/>
              </a:rPr>
              <a:t>Operacion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505320" y="1066680"/>
            <a:ext cx="1981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581280" y="1127160"/>
            <a:ext cx="1981440" cy="17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96920" indent="-1969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Vent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oduc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mpr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erson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Gastos Administrativ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tc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3504960" y="3124080"/>
            <a:ext cx="1981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819520" y="1676520"/>
            <a:ext cx="68580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486400" y="1676520"/>
            <a:ext cx="68580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828800" y="3124080"/>
            <a:ext cx="0" cy="11430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835280" y="4221000"/>
            <a:ext cx="167616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486400" y="4343400"/>
            <a:ext cx="167652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7162920" y="3123720"/>
            <a:ext cx="0" cy="1219320"/>
          </a:xfrm>
          <a:prstGeom prst="line">
            <a:avLst/>
          </a:prstGeom>
          <a:ln w="7632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50560" y="3805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58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Características de los Presupuestos Operacion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eben comprender todas y cada una de las funciones que se desarrollan en la empresa, en situación de normalidad. Habrá presupuestos de ventas, de compras, de remuneraciones, de producción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epresentan la actuación futura de la organización, por lo que la información que contienen se refiere a proyecciones y no a hechos históric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Suelen comprender el horizonte temporal correspondiente al ejercicio contable, generalmente un añ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179280" y="333000"/>
            <a:ext cx="8686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438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4. Deben presentar información en términos cuantitativ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8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8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Arial"/>
              </a:rPr>
              <a:t>Ejemplo: La empresa Cetrix SA planea vender 9.500 computadores 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8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Arial"/>
              </a:rPr>
              <a:t>próximo año. Su presupuesto de ventas es el siguiente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1979640" y="2205000"/>
            <a:ext cx="475308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250560" y="685800"/>
            <a:ext cx="8512200" cy="15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eben especificar tanto los objetivos concretos que se quieren alcanzar como los medios necesarios para conseguirl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Arial"/>
              </a:rPr>
              <a:t>Ejemplo: Para poder alcanzar las ventas deseadas, Cetrix deberá incurrir en los siguientes gastos de venta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1258920" y="2421000"/>
            <a:ext cx="525780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324000" y="685440"/>
            <a:ext cx="8424720" cy="15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as diferentes variables o conceptos que lo componen deben venir desagregadas por centros de responsabilidad. Esto facilita la evaluación en base a los objetivos asignados a cada unidad de la organización (control de gestión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23640" y="228240"/>
            <a:ext cx="8134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58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Presupuestos parciales e integración presupuesta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as distintas actividades llevadas a cabo dentro de la organización dará lugar a la necesidad de elaborar presupuesto en cada centro de responsabilidad, que se conocen como presupuestos parciale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or ejemplo: presupuesto de ventas, presupuestos de fabricación, presupuestos de compras, presupuestos financieros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Sin embargo, la empresa debe ser vista como un todo unitario, coordinado y coherente, en busca de un objetivo comú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a integración de los presupuestos parciales dará lugar al Presupuesto Maestr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380880" y="533520"/>
            <a:ext cx="838224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Normalmente se usa el método de integración sucesiva, en donde 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unto de partida es el presupuesto de venta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a secuencia de la integración sucesiva es la siguien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esupuesto de ventas y gastos de vent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esupuesto de existencias de productos en proceso y productos terminad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Arial"/>
              </a:rPr>
              <a:t>Ejemplo: La empresa Cetrix tiene un stock de 1.200 computadores valorados en $60 millones. Desea mantener un stock de seguridad de 900 unidades. Luego, necesitará producir 9.200 computadores el próximo añ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395280" y="533160"/>
            <a:ext cx="82915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esupuestos de costos de producción por departamentos o centros de actividad. Con la información anterior es posible planificar la producción, señalando los recursos necesari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Arial"/>
              </a:rPr>
              <a:t>Ejemplo:</a:t>
            </a:r>
            <a:r>
              <a:rPr b="0" lang="es-CL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Cetrix </a:t>
            </a:r>
            <a:r>
              <a:rPr b="0" i="1" lang="es-CL" sz="2000" spc="-1" strike="noStrike">
                <a:solidFill>
                  <a:srgbClr val="ffffff"/>
                </a:solidFill>
                <a:latin typeface="Arial"/>
              </a:rPr>
              <a:t>a determinado que para producir 9.200 computadores requerirá los siguientes recurso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971640" y="3141720"/>
            <a:ext cx="6913440" cy="26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Objetivo de la cl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Mostrar el empleo de dos instrumentos básicos de la contabilidad gerencial (o administrativa) como son, el Presupuesto y los Estados Financieros Pro Forma, en la planificación y control de gest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324000" y="609120"/>
            <a:ext cx="8362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esupuesto de existencias de materias primas. En función del inventario actual y de las necesidades de producción, el responsable del almacén deberá determinar el volumen de existencias a mantener a lo largo del perío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Arial"/>
              </a:rPr>
              <a:t>Ejemplo: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s-CL" sz="2000" spc="-1" strike="noStrike">
                <a:solidFill>
                  <a:srgbClr val="ffffff"/>
                </a:solidFill>
                <a:latin typeface="Arial"/>
              </a:rPr>
              <a:t>El responsable del almacén de Cetrix, ha estimado mantener siempre un stock de seguridad que le permitan atender la producción de 850 unidad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250560" y="457200"/>
            <a:ext cx="843588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esupuestos de compras y gastos de compras. Con la información del punto anterior, el responsable de las compras determinará los volúmenes que deberá solicitar mensualmente a los proveedores, así como los precios, las fechas de pago y los demás costos asociados a las compr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1187280" y="2565360"/>
            <a:ext cx="6400800" cy="27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323640" y="228600"/>
            <a:ext cx="8134200" cy="24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esupuesto de inversiones. Paralelamente, los ingenieros de producción determinarán las necesidades de nuevos equipos, para llevar a cabo la fabricación previst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7. 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esupuesto de gastos de administración. El responsable de administración calculará las necesidades de la empresa en estas funcion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1403280" y="3213000"/>
            <a:ext cx="6400800" cy="30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250560" y="609480"/>
            <a:ext cx="8435880" cy="18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esupuesto de caja y de gastos financiero. El centro de administración financiera estimará los recursos líquidos necesarios para hacer frente a todos los pagos y las necesidades de financiamiento. Además, deberá presupuestar los costos del propio centr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900000" y="2997360"/>
            <a:ext cx="7086600" cy="27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Otros tipos de presupuest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39640" y="1052640"/>
            <a:ext cx="8305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e acuerdo al período temporal que comprende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Presupuesto estático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: se efectúa una vez al añ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Presupuesto progresivo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: una vez transcurrido un subperíodo (mes, trimestre o cuatrimestre) se agrega el siguien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e acuerdo a la posibilidad de introducir modificacion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Presupuesto único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: se mantiene pase lo que p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Presupuesto revisado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: se actualiza, para reflejar los cambios en las condiciones que sirvieron de base para su elaborac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e acuerdo a la adaptación de los valores presupuestados a los volúmenes realmente alcanzado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Presupuesto fij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Presupuesto flexible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: se ajusta o se rehace con los valores reales de cantidades vendidas y producid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ntajas del Proceso Presupuestar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23640" y="1218960"/>
            <a:ext cx="821052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bliga a los ejecutivos o administradores a pensar en forma estructurada sobre el futur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mite establecer metas que posibiliten la evaluación del desempeñ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 obtiene una mayor coordinación y coherencia en el trabajo de las distintas unidades o centros de responsabilida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rve como motivac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mite comunicar los objetivos de la alta dirección a las divisiones operativ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jemplo: Elaboración de Presupuest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61048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78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5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Una empresa comercial se encuentra en el proceso de elaboración 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78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5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resupuesto Maestro para los primeros cuatro meses de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2006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, para l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78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5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ual dispone de la siguiente informació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78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5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788400" indent="-78840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romanUcPeriod"/>
              <a:tabLst>
                <a:tab algn="l" pos="75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Operac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88400" indent="-788400">
              <a:lnSpc>
                <a:spcPct val="9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75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Pronóstico de venta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 proyecta vender las siguien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78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5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antidades de mercaderí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228600" y="3933720"/>
            <a:ext cx="8915400" cy="89244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324000" y="4842000"/>
            <a:ext cx="8515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as ventas en diciembre pasado alcanzaron a las 4.000 unidades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l precio de venta es de $10 por unidad y se espera que no cambie en el futuro. Las ventas se efectúan 60% al contado y el resto pagadero al mes siguient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86868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osto de ventas y niveles de existenci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a empresa vende con un Margen de Explotación del 30%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 desea mantener existencias de $20.000 como base más un 80% del costo de venta del mes siguien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as mercaderías se compran pagando un 50% al contado y el resto al mes siguien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395280" y="549360"/>
            <a:ext cx="8424720" cy="43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Gastos de Administración y Vent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Remuneracione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 pagan cada 15 días, en el período siguien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l que son ganadas, ascendiendo a $2.500 por m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Comisiones sobre venta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scienden al 15% de las ventas y 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agan de la misma forma que las remuneraciones fija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Otros gastos variables: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lcanzan al 5% de las ventas y se pagan 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ontad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Otros gastos de administración y ventas fijo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ebe pagar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$2.000 al mes por concepto de arriendo, se consumen seguros por $200 y la depreciación se calcula en $400 al m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/>
          </p:nvPr>
        </p:nvSpPr>
        <p:spPr>
          <a:xfrm>
            <a:off x="380520" y="457200"/>
            <a:ext cx="8458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roman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Invers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 proyecta realizar una inversión de $3.000, al contado, durante el primer mes, en un vehículo que se destinará al transporte de mercadería. Este se deprecia en 30 mes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81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roman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aja y financia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1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 desea mantener, por motivos de seguridad, un saldo de caja mínimo de $10.000 a fines de cada m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81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n casos de déficit de caja, la empresa dispone de una línea de crédito, cuya tasa de interés es del 2% mensual. Las amortizaciones y el pago de intereses pueden efectuarse cuando la empresa lo dese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El Presupues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s una herramienta de gestió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s una expresión, en términos monetarios, de un plan de acció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poya la implementación de la estrategi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l presupuesto considera las operaciones, las inversiones, los flujos de efectivo y, en general, los recursos que movilizará la organización en un periodo futuro para lograr sus objetiv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324000" y="533520"/>
            <a:ext cx="8362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IV.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Balance general al 31 de diciembre de 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2005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179280" y="1557360"/>
            <a:ext cx="881244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0" y="765000"/>
            <a:ext cx="8893080" cy="50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0" y="692280"/>
            <a:ext cx="891540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865980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152280" y="139680"/>
            <a:ext cx="8686800" cy="64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5905440" cy="47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228600" y="404640"/>
            <a:ext cx="8736120" cy="39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468360" y="495360"/>
            <a:ext cx="80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ffffff"/>
                </a:solidFill>
                <a:latin typeface="Tahoma"/>
              </a:rPr>
              <a:t>Planificación Estratégica y Presupuest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95280" y="1484280"/>
            <a:ext cx="8496360" cy="45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39640" y="3573360"/>
            <a:ext cx="1224000" cy="720720"/>
          </a:xfrm>
          <a:prstGeom prst="rect">
            <a:avLst/>
          </a:prstGeom>
          <a:solidFill>
            <a:srgbClr val="3366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Misión +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Objetiv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124000" y="3573360"/>
            <a:ext cx="1224000" cy="720720"/>
          </a:xfrm>
          <a:prstGeom prst="rect">
            <a:avLst/>
          </a:prstGeom>
          <a:solidFill>
            <a:srgbClr val="3366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Análisi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Entor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780000" y="3573360"/>
            <a:ext cx="1223640" cy="720720"/>
          </a:xfrm>
          <a:prstGeom prst="rect">
            <a:avLst/>
          </a:prstGeom>
          <a:solidFill>
            <a:srgbClr val="3366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Formula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Estrateg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435640" y="3573360"/>
            <a:ext cx="1584360" cy="719280"/>
          </a:xfrm>
          <a:prstGeom prst="rect">
            <a:avLst/>
          </a:prstGeom>
          <a:solidFill>
            <a:srgbClr val="3366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Implementa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Estrateg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3573360"/>
            <a:ext cx="1368360" cy="720720"/>
          </a:xfrm>
          <a:prstGeom prst="rect">
            <a:avLst/>
          </a:prstGeom>
          <a:solidFill>
            <a:srgbClr val="3366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Evaluación +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Contro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763640" y="3933720"/>
            <a:ext cx="36036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348000" y="3933720"/>
            <a:ext cx="4320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003640" y="3933720"/>
            <a:ext cx="36036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020000" y="3933720"/>
            <a:ext cx="361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95280" y="4869000"/>
            <a:ext cx="158436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Visión: el sueñ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Misión: cual es nuestro negoci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Objetivos: donde se llegará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508720" y="4941720"/>
            <a:ext cx="143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Programa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492360" y="4869000"/>
            <a:ext cx="180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Búsqueda de una ventaja competitiv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908000" y="4869000"/>
            <a:ext cx="180036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Análisis Externo: que podría hac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Análisis Interno: que puedo hac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236000" y="4941720"/>
            <a:ext cx="143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Indicadores. Comparacion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87280" y="4292640"/>
            <a:ext cx="0" cy="504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698920" y="4292640"/>
            <a:ext cx="0" cy="504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56000" y="4292640"/>
            <a:ext cx="0" cy="504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227640" y="4292640"/>
            <a:ext cx="0" cy="504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956720" y="4292640"/>
            <a:ext cx="0" cy="504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148360" y="1989000"/>
            <a:ext cx="0" cy="4319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164360" y="1989000"/>
            <a:ext cx="0" cy="4392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191600" y="2060640"/>
            <a:ext cx="266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ff00"/>
                </a:solidFill>
                <a:latin typeface="Arial"/>
              </a:rPr>
              <a:t>Planificación Estratégic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222880" y="2060640"/>
            <a:ext cx="179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ff00"/>
                </a:solidFill>
                <a:latin typeface="Arial"/>
              </a:rPr>
              <a:t>I</a:t>
            </a:r>
            <a:r>
              <a:rPr b="0" lang="es-ES_tradnl" sz="1800" spc="-1" strike="noStrike">
                <a:solidFill>
                  <a:srgbClr val="00ff00"/>
                </a:solidFill>
                <a:latin typeface="Arial"/>
              </a:rPr>
              <a:t>mplementa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507440" y="2081160"/>
            <a:ext cx="129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ff00"/>
                </a:solidFill>
                <a:latin typeface="Arial"/>
              </a:rPr>
              <a:t>Evalua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134880" y="6021360"/>
            <a:ext cx="184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Plan Estratégic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366160" y="6021360"/>
            <a:ext cx="16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00cc"/>
                </a:solidFill>
                <a:latin typeface="Arial"/>
              </a:rPr>
              <a:t>Presupuest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435800" y="6040440"/>
            <a:ext cx="129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Evalua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laboración del Presupues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unque se requiere de ciertas definiciones previa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Vis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Mis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Objetivos Estratégic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strategia    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in embargo, para fines de confección de un presupuesto, es suficiente contar con un conjunto de lineamientos, que puedan orientar el desarrollo futuro de la organizac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Tipos de Presupues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00cc"/>
                </a:solidFill>
                <a:latin typeface="Arial"/>
              </a:rPr>
              <a:t>Largo plazo: 5 a 10 añ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dición o eliminación de líneas de product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iseño y ubicación de nuevas plant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dquisiciones de nuevas instalaciones, edificios y maquinar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00cc"/>
                </a:solidFill>
                <a:latin typeface="Arial"/>
              </a:rPr>
              <a:t>Mediano plazo: 3 a 5 añ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Gestión de marc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xpansiones de loc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00cc"/>
                </a:solidFill>
                <a:latin typeface="Arial"/>
              </a:rPr>
              <a:t>Corto plazo: 1 añ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Operac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pos de Presupuest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520" y="1773000"/>
            <a:ext cx="8153640" cy="401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pendiendo del horizonte de planificació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Presupuestos Maestros (1 año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upuesto Operacio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upuesto Financier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Presupuesto de Capital (más de 1 año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468360" y="3456720"/>
            <a:ext cx="2089080" cy="642600"/>
          </a:xfrm>
          <a:prstGeom prst="rect">
            <a:avLst/>
          </a:prstGeom>
          <a:solidFill>
            <a:srgbClr val="66ffff"/>
          </a:solidFill>
          <a:ln w="5724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Arial"/>
              </a:rPr>
              <a:t>Planificación Estratégic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564000" y="2809080"/>
            <a:ext cx="2089080" cy="642600"/>
          </a:xfrm>
          <a:prstGeom prst="rect">
            <a:avLst/>
          </a:prstGeom>
          <a:solidFill>
            <a:srgbClr val="66ffff"/>
          </a:solidFill>
          <a:ln w="5724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Arial"/>
              </a:rPr>
              <a:t>Presupues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Arial"/>
              </a:rPr>
              <a:t>Maestro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659640" y="3385440"/>
            <a:ext cx="2089080" cy="642600"/>
          </a:xfrm>
          <a:prstGeom prst="rect">
            <a:avLst/>
          </a:prstGeom>
          <a:solidFill>
            <a:srgbClr val="66ffff"/>
          </a:solidFill>
          <a:ln w="5724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Arial"/>
              </a:rPr>
              <a:t>Presupues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Arial"/>
              </a:rPr>
              <a:t>Financier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87640" y="981000"/>
            <a:ext cx="0" cy="4535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372360" y="981000"/>
            <a:ext cx="0" cy="4535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41800" y="1412280"/>
            <a:ext cx="203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Nivel Estratégic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460680" y="1366200"/>
            <a:ext cx="21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Nivel Operacion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813000" y="1342440"/>
            <a:ext cx="194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Nivel Financier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627280" y="3716280"/>
            <a:ext cx="504720" cy="0"/>
          </a:xfrm>
          <a:prstGeom prst="line">
            <a:avLst/>
          </a:prstGeom>
          <a:ln w="76320">
            <a:solidFill>
              <a:srgbClr val="cc00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156360" y="3716280"/>
            <a:ext cx="503280" cy="0"/>
          </a:xfrm>
          <a:prstGeom prst="line">
            <a:avLst/>
          </a:prstGeom>
          <a:ln w="76320">
            <a:solidFill>
              <a:srgbClr val="cc00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64000" y="4033080"/>
            <a:ext cx="2089080" cy="642600"/>
          </a:xfrm>
          <a:prstGeom prst="rect">
            <a:avLst/>
          </a:prstGeom>
          <a:solidFill>
            <a:srgbClr val="66ffff"/>
          </a:solidFill>
          <a:ln w="5724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Arial"/>
              </a:rPr>
              <a:t>Presupues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Arial"/>
              </a:rPr>
              <a:t>Inversion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132000" y="3068640"/>
            <a:ext cx="0" cy="1297080"/>
          </a:xfrm>
          <a:prstGeom prst="line">
            <a:avLst/>
          </a:prstGeom>
          <a:ln w="5724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132000" y="3068640"/>
            <a:ext cx="432000" cy="0"/>
          </a:xfrm>
          <a:prstGeom prst="line">
            <a:avLst/>
          </a:prstGeom>
          <a:ln w="5724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132000" y="4365720"/>
            <a:ext cx="432000" cy="0"/>
          </a:xfrm>
          <a:prstGeom prst="line">
            <a:avLst/>
          </a:prstGeom>
          <a:ln w="57240">
            <a:solidFill>
              <a:srgbClr val="cc00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156360" y="3141720"/>
            <a:ext cx="0" cy="1224000"/>
          </a:xfrm>
          <a:prstGeom prst="line">
            <a:avLst/>
          </a:prstGeom>
          <a:ln w="5724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51640" y="3141720"/>
            <a:ext cx="504720" cy="0"/>
          </a:xfrm>
          <a:prstGeom prst="line">
            <a:avLst/>
          </a:prstGeom>
          <a:ln w="57240">
            <a:solidFill>
              <a:srgbClr val="cc00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651640" y="4365720"/>
            <a:ext cx="504720" cy="0"/>
          </a:xfrm>
          <a:prstGeom prst="line">
            <a:avLst/>
          </a:prstGeom>
          <a:ln w="57240">
            <a:solidFill>
              <a:srgbClr val="cc00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Tipos de Presupues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ff00"/>
                </a:solidFill>
                <a:latin typeface="Arial"/>
              </a:rPr>
              <a:t>Presupuesto Maestro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s un análisis exhaustivo del primer año del plan de largo plazo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onsidera y resume las actividades planeadas en todas las unidades de la empres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ff00"/>
                </a:solidFill>
                <a:latin typeface="Arial"/>
              </a:rPr>
              <a:t>Presupuesto de Capit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s un informe de las inversiones que se proyecta realizar, es decir, de las adiciones de activo fijo, que se proyecta en cada periodo y que es consistente con las operaciones planificad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2-10T16:31:30Z</dcterms:created>
  <dc:creator>mmv</dc:creator>
  <dc:description/>
  <cp:keywords/>
  <dc:language>en-US</dc:language>
  <cp:lastModifiedBy>Ivan Alvarez</cp:lastModifiedBy>
  <cp:lastPrinted>1999-04-29T23:00:42Z</cp:lastPrinted>
  <dcterms:modified xsi:type="dcterms:W3CDTF">2007-08-17T02:43:08Z</dcterms:modified>
  <cp:revision>52</cp:revision>
  <dc:subject/>
  <dc:title>Sin título de diapositiva</dc:title>
</cp:coreProperties>
</file>