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A93-D920-4D2A-9F07-ACDF4BFF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D0B-9C13-4251-A519-A14B3B13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82C-E6A1-421E-98CB-2BCB143D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2F7-8A43-47FC-8B6F-C26E98BF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8F2F-5C57-4D2D-8775-C7F26182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F802-BF9A-4034-9FB9-D75943A8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51A0-D436-4A6B-944E-C5A6F2D8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3AFF-D504-44DC-A766-7BE80EDF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8FDA-9057-4A23-B741-BA3D5FDC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87FF-CEB2-42F8-9424-95A8227F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3867-F9D9-4B35-9BBF-61EDCC84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24A-9C84-40F2-ACC3-BFA72899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4D85-C131-435A-ACDA-7D56C71D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04FD-701A-4585-B5D0-364F88F0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BA28-8C85-440E-AB29-F21279D3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BDE9-19B6-4AB8-8FA1-0235B1AF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3B17-DF60-4E09-89C1-A85975B7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6AB-4241-47BB-A545-BBB36336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B44-4688-47B3-A488-8F621CA9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895-3CB1-4AC1-9D3E-4BFC2CF2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044-E9C3-44E3-9343-0D67DB4F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42A-ED8B-4F04-B7E0-2565AE1A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7E6-A93C-42AF-8787-5BC24A77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0B9-C573-4C4B-9092-A7EBE51D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3D55-AE39-4313-91D8-C9C23D30CC3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38F4-5E00-47FF-911A-0AE0C6840F4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erramientas Contables para la Planificación y el Control.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Presupues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el proceso por el cual una empresa elabora el presupuesto para un determinado perío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4653000"/>
            <a:ext cx="7199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s Financie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stado Financiero Profo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733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Invers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4479840"/>
            <a:ext cx="2087640" cy="21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 Tecnolog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novación Activo Fi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Instalacion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Maq. y Equip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umento capac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Estratég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197000"/>
            <a:ext cx="20019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álisis interno y 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nes de A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304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Financie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295280"/>
            <a:ext cx="1828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ujo de Ca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Oper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1127160"/>
            <a:ext cx="198144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stos Administra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35280" y="4221000"/>
            <a:ext cx="1676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Habrá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Cetrix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etrix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strar el empleo de dos instrumentos básicos de la contabilidad gerencial (o administrativa) como son, el Presupuesto y los Estados Financieros Pro Forma, en la planificación y control de gest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Cetrix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progresiv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ú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revis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supu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herramienta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expresión, en términos monetarios, de un plan de a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poya la implementación de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esupuesto considera las operaciones, las inversiones, los flujos de efectivo y, en general, los recursos que movilizará la organización en un periodo futuro para lograr sus obje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484280"/>
            <a:ext cx="84963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3573360"/>
            <a:ext cx="1584360" cy="719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3573360"/>
            <a:ext cx="136836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3933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933720"/>
            <a:ext cx="36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4869000"/>
            <a:ext cx="1584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isión: el sueñ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isión: cual es nuestro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jetivos: donde se llegar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494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4869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úsqueda de una ventaja competi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4869000"/>
            <a:ext cx="180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Externo: que podría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Interno: que puedo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4941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dicadores. Compar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2764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1989000"/>
            <a:ext cx="0" cy="431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1989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91600" y="20606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22880" y="2060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mple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07440" y="20811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4880" y="6021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66160" y="6021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cc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35800" y="6040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aboración del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nque se requiere de ciertas definiciones previ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jetivos Estratég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   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n embargo, para fines de confección de un presupuesto, es suficiente contar con un conjunto de lineamientos, que puedan orientar el desarrollo futur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Largo plazo: 5 a 1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ición o eliminación de líneas de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ño y ubicación de nuevas pla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quisiciones de nuevas instalaciones, edificios y maqu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Mediano plazo: 3 a 5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stión de mar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ansiones de lo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Corto plazo: 1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345672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64000" y="280908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Maestr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338544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Financi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981000"/>
            <a:ext cx="0" cy="453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981000"/>
            <a:ext cx="0" cy="453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800" y="1412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60680" y="136620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Ope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13000" y="134244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Financi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3716280"/>
            <a:ext cx="5047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3716280"/>
            <a:ext cx="50328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403308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Invers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3068640"/>
            <a:ext cx="0" cy="129708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32000" y="306864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32000" y="436572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56360" y="3141720"/>
            <a:ext cx="0" cy="122400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1640" y="3141720"/>
            <a:ext cx="5047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4365720"/>
            <a:ext cx="5047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Maest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análisis exhaustivo del primer año del plan de largo plaz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idera y resume las actividades planeadas en todas las unidad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de 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informe de las inversiones que se proyecta realizar, es decir, de las adiciones de activo fijo, que se proyecta en cada periodo y que es consistente con las operaciones planific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08-17T02:43:08Z</dcterms:modified>
  <cp:revision>52</cp:revision>
  <dc:subject/>
  <dc:title>Sin título de diapositiva</dc:title>
</cp:coreProperties>
</file>