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1FF17-6AC0-482B-9CBC-FA41E71A0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966FC-A369-40D4-8F1D-61904F0B3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33989-FA4C-43AA-8443-18DA53A5F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B9203-FAE4-4BDF-9F7A-0761D3F41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CD8620-1D1F-4F73-959E-CD8674F00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A669B-7CB8-47AC-BCBD-F0BC1C877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8E02E-4395-4CEF-A709-658EACDD5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5DA71-A641-48F5-A4F9-CA4B64303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19342-8B21-4648-BE21-D3810B0B8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F19AB-CC07-4EDE-9927-51667C5A2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2B053-08A9-4F7E-AC29-EE1BBBADD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32C16-D88F-4A1E-8555-DB70D93A7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93C91-9599-4FC9-9EEF-51BEB16B4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67F59-BC21-40FF-9C81-3212EC6C2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19FA8-8003-4EC1-9BEE-50520080C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8FBA9-74D7-43A3-8CF3-866185625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1F61D-360D-419F-9F61-8306745DE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4D9F0-5D88-440F-A8BA-03AAD90F4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3EAAC-1B50-494F-9EA8-218E59A6C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FBCE1-8918-4911-A6CE-DD3FC55FB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7EF19-D043-403E-81F1-F4CE50887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8864A-35CB-447D-A3FE-06899518D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DC2C3-3954-41CC-A675-8ABDA3454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8A142-9F1B-440A-99C6-ED27D49D1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8E7A-3557-4BA3-AA7D-4E8D7BF117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B2FC-03FE-41CA-9DAE-81FE92A36F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      </a:t>
            </a:r>
            <a:r>
              <a:rPr b="0" lang="es-CL" sz="4000" spc="-1" strike="noStrike">
                <a:solidFill>
                  <a:srgbClr val="ffffff"/>
                </a:solidFill>
                <a:latin typeface="Arial"/>
              </a:rPr>
              <a:t>Herramientas contables para </a:t>
            </a:r>
            <a:br>
              <a:rPr sz="4000"/>
            </a:br>
            <a:r>
              <a:rPr b="0" lang="es-CL" sz="4000" spc="-1" strike="noStrike">
                <a:solidFill>
                  <a:srgbClr val="ffffff"/>
                </a:solidFill>
                <a:latin typeface="Arial"/>
              </a:rPr>
              <a:t>la Planificación y el Control</a:t>
            </a:r>
            <a:endParaRPr b="0" lang="en-US" sz="40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ván Álvarez 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de razones, índices o ratios</a:t>
            </a:r>
            <a:endParaRPr b="0" lang="en-US" sz="32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Arial"/>
              </a:rPr>
              <a:t>	</a:t>
            </a:r>
            <a:r>
              <a:rPr b="0" lang="es-CO" sz="2000" spc="-1" strike="noStrike">
                <a:solidFill>
                  <a:srgbClr val="ffffff"/>
                </a:solidFill>
                <a:latin typeface="Arial"/>
              </a:rPr>
              <a:t>Las razones típicamente determinadas s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66ff33"/>
                </a:solidFill>
                <a:latin typeface="Arial"/>
              </a:rPr>
              <a:t>Liquidez</a:t>
            </a:r>
            <a:r>
              <a:rPr b="0" lang="es-CO" sz="2000" spc="-1" strike="noStrike">
                <a:solidFill>
                  <a:srgbClr val="ffffff"/>
                </a:solidFill>
                <a:latin typeface="Arial"/>
              </a:rPr>
              <a:t>: indican la solvencia de la posición financiera general de la empres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Endeudamiento</a:t>
            </a:r>
            <a:r>
              <a:rPr b="0" lang="es-ES" sz="2000" spc="-1" strike="noStrike">
                <a:solidFill>
                  <a:srgbClr val="ffffff"/>
                </a:solidFill>
                <a:latin typeface="Arial"/>
              </a:rPr>
              <a:t>: indica la cantidad de dinero prestado por otras personas que se utiliza para tratar de obtener utilidad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Rentabilidad</a:t>
            </a:r>
            <a:r>
              <a:rPr b="0" lang="es-ES" sz="2000" spc="-1" strike="noStrike">
                <a:solidFill>
                  <a:srgbClr val="ffffff"/>
                </a:solidFill>
                <a:latin typeface="Arial"/>
              </a:rPr>
              <a:t>: relaciona los rendimientos de la empresa con sus ventas, activos o capital contabl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Actividad</a:t>
            </a:r>
            <a:r>
              <a:rPr b="0" lang="es-ES" sz="2000" spc="-1" strike="noStrike">
                <a:solidFill>
                  <a:srgbClr val="ffffff"/>
                </a:solidFill>
                <a:latin typeface="Arial"/>
              </a:rPr>
              <a:t>: miden la velocidad con que diversas cuentas se convierten en ventas o efectiv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Vertical</a:t>
            </a:r>
            <a:endParaRPr b="0" lang="en-US" sz="32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Vertical (AV) se puede considerar como una forma particular de aplicación de razones, pues se sustenta sobre la misma base conceptual de obtener cuocientes a partir de la relación entre dos ítem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ste caso se trata de la relación de la parte con el to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V busca medir las variaciones experimentadas en las tres estructuras que se mueve la empresa: la estructura de inversiones (activo total), la estructura deuda – capital (pasivo + patrimonio) y la estructura de resultad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ello, relaciona en cada una de las estructuras sus distintas partes con el to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ocedimiento</a:t>
            </a:r>
            <a:r>
              <a:rPr b="0" lang="es-ES_tradnl" sz="4400" spc="-1" strike="noStrike">
                <a:solidFill>
                  <a:srgbClr val="ffffff"/>
                </a:solidFill>
                <a:latin typeface="Arial"/>
              </a:rPr>
              <a:t>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analiza el comportamiento de las estructuras en forma comparada, a través de sus agrupaciones principales en componente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Inversiones</a:t>
            </a: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t>
            </a:r>
            <a:endParaRPr b="0" lang="en-US" sz="1600" spc="-1" strike="noStrike">
              <a:solidFill>
                <a:srgbClr val="ffffff"/>
              </a:solidFill>
              <a:latin typeface="Arial"/>
            </a:endParaRPr>
          </a:p>
          <a:p>
            <a:pPr lvl="2" marL="1143000" indent="-228600">
              <a:spcBef>
                <a:spcPts val="349"/>
              </a:spcBef>
              <a:buSzPct val="15876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Circulante</a:t>
            </a:r>
            <a:endParaRPr b="0" lang="en-US" sz="1400" spc="-1" strike="noStrike">
              <a:solidFill>
                <a:srgbClr val="ffffff"/>
              </a:solidFill>
              <a:latin typeface="Arial"/>
            </a:endParaRPr>
          </a:p>
          <a:p>
            <a:pPr lvl="2" marL="1143000" indent="-228600">
              <a:spcBef>
                <a:spcPts val="349"/>
              </a:spcBef>
              <a:buSzPct val="15876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Fij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uda- Capital</a:t>
            </a:r>
            <a:endParaRPr b="0" lang="en-US" sz="1600" spc="-1" strike="noStrike">
              <a:solidFill>
                <a:srgbClr val="ffffff"/>
              </a:solidFill>
              <a:latin typeface="Arial"/>
            </a:endParaRPr>
          </a:p>
          <a:p>
            <a:pPr lvl="2" marL="1143000" indent="-228600">
              <a:spcBef>
                <a:spcPts val="349"/>
              </a:spcBef>
              <a:buSzPct val="15876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Circulante</a:t>
            </a:r>
            <a:endParaRPr b="0" lang="en-US" sz="1400" spc="-1" strike="noStrike">
              <a:solidFill>
                <a:srgbClr val="ffffff"/>
              </a:solidFill>
              <a:latin typeface="Arial"/>
            </a:endParaRPr>
          </a:p>
          <a:p>
            <a:pPr lvl="2" marL="1143000" indent="-228600">
              <a:spcBef>
                <a:spcPts val="349"/>
              </a:spcBef>
              <a:buSzPct val="15876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Largo Plazo</a:t>
            </a:r>
            <a:endParaRPr b="0" lang="en-US" sz="1400" spc="-1" strike="noStrike">
              <a:solidFill>
                <a:srgbClr val="ffffff"/>
              </a:solidFill>
              <a:latin typeface="Arial"/>
            </a:endParaRPr>
          </a:p>
          <a:p>
            <a:pPr lvl="2" marL="1143000" indent="-228600">
              <a:spcBef>
                <a:spcPts val="349"/>
              </a:spcBef>
              <a:buSzPct val="15876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trimoni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Resultados</a:t>
            </a:r>
            <a:endParaRPr b="0" lang="en-US" sz="1600" spc="-1" strike="noStrike">
              <a:solidFill>
                <a:srgbClr val="ffffff"/>
              </a:solidFill>
              <a:latin typeface="Arial"/>
            </a:endParaRPr>
          </a:p>
          <a:p>
            <a:pPr lvl="2" marL="1143000" indent="-228600">
              <a:spcBef>
                <a:spcPts val="349"/>
              </a:spcBef>
              <a:buSzPct val="15876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argen Bruto</a:t>
            </a:r>
            <a:endParaRPr b="0" lang="en-US" sz="1400" spc="-1" strike="noStrike">
              <a:solidFill>
                <a:srgbClr val="ffffff"/>
              </a:solidFill>
              <a:latin typeface="Arial"/>
            </a:endParaRPr>
          </a:p>
          <a:p>
            <a:pPr lvl="2" marL="1143000" indent="-228600">
              <a:spcBef>
                <a:spcPts val="349"/>
              </a:spcBef>
              <a:buSzPct val="15876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antes de intereses e impuestos</a:t>
            </a:r>
            <a:endParaRPr b="0" lang="en-US" sz="1400" spc="-1" strike="noStrike">
              <a:solidFill>
                <a:srgbClr val="ffffff"/>
              </a:solidFill>
              <a:latin typeface="Arial"/>
            </a:endParaRPr>
          </a:p>
          <a:p>
            <a:pPr lvl="2" marL="1143000" indent="-228600">
              <a:spcBef>
                <a:spcPts val="349"/>
              </a:spcBef>
              <a:buSzPct val="15876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Net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24000" y="260280"/>
            <a:ext cx="4464000" cy="6408720"/>
          </a:xfrm>
          <a:prstGeom prst="rect">
            <a:avLst/>
          </a:prstGeom>
          <a:ln w="0">
            <a:noFill/>
          </a:ln>
        </p:spPr>
      </p:pic>
      <p:pic>
        <p:nvPicPr>
          <p:cNvPr id="187" name="" descr=""/>
          <p:cNvPicPr/>
          <p:nvPr/>
        </p:nvPicPr>
        <p:blipFill>
          <a:blip r:embed="rId2"/>
          <a:stretch/>
        </p:blipFill>
        <p:spPr>
          <a:xfrm>
            <a:off x="5219640" y="260280"/>
            <a:ext cx="3529080" cy="27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692360" y="836640"/>
            <a:ext cx="5688000" cy="52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Horizontal</a:t>
            </a:r>
            <a:endParaRPr b="0" lang="en-US" sz="32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Horizontal (AH), es una técnica menos utilizada, por las dificultades de aplicación y especialmente de interpretació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H consiste n medir la variación que ha experimentado cada rubro de las distintas estructuras de la empresa con respecto al periodo inmediatamente anterior.</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ifras deben estar en moneda del mismo periodo (actualiz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195640" y="836640"/>
            <a:ext cx="4464000" cy="532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Dupont constituye un sistema básicamente orientado al contro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á dirigido principalmente a los directivos de las organizacion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196" name=""/>
              <p:cNvSpPr txBox="1"/>
              <p:nvPr/>
            </p:nvSpPr>
            <p:spPr>
              <a:xfrm>
                <a:off x="1979640" y="2133720"/>
                <a:ext cx="4753080" cy="7905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197"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formula Du Pont se estructura a partir de estos ratios, los que se descomponen en todos sus element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 anterior permite visualizar lo que ocurre al actuar sobre algunas de las variables sobre las cuales existe contro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or ejemplo, se puede ver el impacto que tiene el disminuir el nivel de caja o los gastos de administración sobre el retorno de la invers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pic>
        <p:nvPicPr>
          <p:cNvPr id="199"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Objetivos</a:t>
            </a:r>
            <a:endParaRPr b="0" lang="en-US" sz="32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tilizar las herramientas contables para fines de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r  y aplicar nuevas técnicas contables a los Estados Financieros, a fin de generar información para la toma de decis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01"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cálculo del ROI no es imprescindible establecerlo sobre la inversión total, se podría calcular sobre el patrimonio.</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2" name=""/>
              <p:cNvSpPr txBox="1"/>
              <p:nvPr/>
            </p:nvSpPr>
            <p:spPr>
              <a:xfrm>
                <a:off x="826920" y="26686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203" name=""/>
          <p:cNvSpPr/>
          <p:nvPr/>
        </p:nvSpPr>
        <p:spPr>
          <a:xfrm>
            <a:off x="835200" y="4292640"/>
            <a:ext cx="2666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uestra el % de marg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 cada $ vendido.</a:t>
            </a:r>
            <a:endParaRPr b="0" lang="en-US" sz="1800" spc="-1" strike="noStrike">
              <a:solidFill>
                <a:srgbClr val="ffffff"/>
              </a:solidFill>
              <a:latin typeface="Arial"/>
            </a:endParaRPr>
          </a:p>
        </p:txBody>
      </p:sp>
      <p:sp>
        <p:nvSpPr>
          <p:cNvPr id="204" name=""/>
          <p:cNvSpPr/>
          <p:nvPr/>
        </p:nvSpPr>
        <p:spPr>
          <a:xfrm>
            <a:off x="3859560" y="4292640"/>
            <a:ext cx="2018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una medida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a eficiencia total</a:t>
            </a:r>
            <a:endParaRPr b="0" lang="en-US" sz="1800" spc="-1" strike="noStrike">
              <a:solidFill>
                <a:srgbClr val="ffffff"/>
              </a:solidFill>
              <a:latin typeface="Arial"/>
            </a:endParaRPr>
          </a:p>
        </p:txBody>
      </p:sp>
      <p:sp>
        <p:nvSpPr>
          <p:cNvPr id="205" name=""/>
          <p:cNvSpPr/>
          <p:nvPr/>
        </p:nvSpPr>
        <p:spPr>
          <a:xfrm>
            <a:off x="6217200" y="4313160"/>
            <a:ext cx="181440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palanca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V="1">
            <a:off x="2124000" y="3499920"/>
            <a:ext cx="287280" cy="792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4211280" y="3428640"/>
            <a:ext cx="36036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flipV="1">
            <a:off x="6012000" y="3428640"/>
            <a:ext cx="100800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edición de resultados</a:t>
            </a:r>
            <a:endParaRPr b="0" lang="en-US" sz="32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Tradicionalmente la medición de la situación de una empresa queda expresada en tres reportes denominados “Estados Financieros”, y las notas explicativas que acompañan a estos repor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lance Genera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Resultado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Flujo de Efectiv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as explicativ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Balance</a:t>
            </a:r>
            <a:r>
              <a:rPr b="0" lang="es-ES_tradnl" sz="2000" spc="-1" strike="noStrike">
                <a:solidFill>
                  <a:srgbClr val="ffffff"/>
                </a:solidFill>
                <a:latin typeface="Arial"/>
              </a:rPr>
              <a:t> es un informe de stock que muestra el destino (activo) que una entidad ha dado a los recursos obtenidos, y el origen o fuente de estos recursos (pasivo y patrimonio), a una fecha determinada.</a:t>
            </a:r>
            <a:endParaRPr b="0" lang="en-US" sz="2000" spc="-1" strike="noStrike">
              <a:solidFill>
                <a:srgbClr val="ffffff"/>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Estado de Resultados</a:t>
            </a:r>
            <a:r>
              <a:rPr b="0" lang="es-ES_tradnl" sz="2000" spc="-1" strike="noStrike">
                <a:solidFill>
                  <a:srgbClr val="ffffff"/>
                </a:solidFill>
                <a:latin typeface="Arial"/>
              </a:rPr>
              <a:t> es un informe de flujo, que muestra los ingresos generados y los gastos en que se ha incurrido, producto de la operaciones efectuadas durante un cierto período.</a:t>
            </a:r>
            <a:endParaRPr b="0" lang="en-US" sz="2000" spc="-1" strike="noStrike">
              <a:solidFill>
                <a:srgbClr val="ffffff"/>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t>
            </a:r>
            <a:r>
              <a:rPr b="0" lang="es-CL" sz="2000" spc="-1" strike="noStrike">
                <a:solidFill>
                  <a:srgbClr val="66ff33"/>
                </a:solidFill>
                <a:latin typeface="Arial"/>
              </a:rPr>
              <a:t>Estado de Flujo de Efectivo</a:t>
            </a:r>
            <a:r>
              <a:rPr b="0" lang="es-CL" sz="2000" spc="-1" strike="noStrike">
                <a:solidFill>
                  <a:srgbClr val="ffffff"/>
                </a:solidFill>
                <a:latin typeface="Arial"/>
              </a:rPr>
              <a:t> es un estado financiero básico cuyo objetivo es proveer información relevante sobre los ingresos y egresos de efectivo de una entidad durante un período determin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a </a:t>
            </a:r>
            <a:r>
              <a:rPr b="0" lang="en-US" sz="2000" spc="-1" strike="noStrike" u="sng">
                <a:solidFill>
                  <a:srgbClr val="ffff00"/>
                </a:solidFill>
                <a:uFillTx/>
                <a:latin typeface="Arial"/>
              </a:rPr>
              <a:t>situación financiera</a:t>
            </a:r>
            <a:r>
              <a:rPr b="0" lang="en-US" sz="2000" spc="-1" strike="noStrike">
                <a:solidFill>
                  <a:srgbClr val="ffffff"/>
                </a:solidFill>
                <a:latin typeface="Arial"/>
              </a:rPr>
              <a:t> es proporcionada básicamente por el Balance General. </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l </a:t>
            </a:r>
            <a:r>
              <a:rPr b="0" lang="en-US" sz="2000" spc="-1" strike="noStrike" u="sng">
                <a:solidFill>
                  <a:srgbClr val="ffff00"/>
                </a:solidFill>
                <a:uFillTx/>
                <a:latin typeface="Arial"/>
              </a:rPr>
              <a:t>desempeño</a:t>
            </a:r>
            <a:r>
              <a:rPr b="0" lang="en-US" sz="2000" spc="-1" strike="noStrike" u="sng">
                <a:solidFill>
                  <a:srgbClr val="ffffff"/>
                </a:solidFill>
                <a:uFillTx/>
                <a:latin typeface="Arial"/>
              </a:rPr>
              <a:t> </a:t>
            </a:r>
            <a:r>
              <a:rPr b="0" lang="en-US" sz="2000" spc="-1" strike="noStrike">
                <a:solidFill>
                  <a:srgbClr val="ffffff"/>
                </a:solidFill>
                <a:latin typeface="Arial"/>
              </a:rPr>
              <a:t>es suministrada fundamentalmente por el Estado de Resultad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os </a:t>
            </a:r>
            <a:r>
              <a:rPr b="0" lang="en-US" sz="2000" spc="-1" strike="noStrike" u="sng">
                <a:solidFill>
                  <a:srgbClr val="ffff00"/>
                </a:solidFill>
                <a:uFillTx/>
                <a:latin typeface="Arial"/>
              </a:rPr>
              <a:t>flujos de fondos</a:t>
            </a:r>
            <a:r>
              <a:rPr b="0" lang="en-US" sz="2000" spc="-1" strike="noStrike">
                <a:solidFill>
                  <a:srgbClr val="ffffff"/>
                </a:solidFill>
                <a:latin typeface="Arial"/>
              </a:rPr>
              <a:t> es suministrada por el Estado de Flujo de Efectiv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Financieros cubren las necesidades comunes de la mayoría de los usuari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embargo, los Estados Financieros no proporcionan toda la información necesaria para tomar las decisiones económicas, pues se refieren a efectos financieros de hechos pasados y no incluyen necesariamente información que no sea de tipo financi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nálisis Financiero como Control de Gestión</a:t>
            </a:r>
            <a:endParaRPr b="0" lang="en-US" sz="28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Financiero es un conjunto de técnicas que aplicadas a los Estados Financieros, permitirá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 posición financiera de la empres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poya el proceso de adopción de decision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porcionar información para el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herramienta de control de gestión, el Análisis Financiero usa indicadores que permiten realizar el seguimiento de los logros estratégicos, y regular su avan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Financiero</a:t>
            </a:r>
            <a:endParaRPr b="0" lang="en-US" sz="32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Análisis Financiero considera las siguientes técni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de razones, índices o ratios</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Vertical </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Horizo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en el Análisis Financiero</a:t>
            </a:r>
            <a:endParaRPr b="0" lang="en-US" sz="28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paratividad: los datos no tienen sentido en si mismos, sino que solamente en la medida que se compare con otros.</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rencia de estándar: no existen índices buenos o malos a priori.</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dad de un refinamiento de la información contable, dado que la Contabilidad Financiera enfatiza la prolijidad de los datos a nivel agregado.</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riodo de los Estados Financiero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ariaciones estacionale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l sector: ventas anticipadas, alto endeudamiento u ot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8:21:59Z</dcterms:created>
  <dc:creator>IALVAREZ</dc:creator>
  <dc:description/>
  <dc:language>en-US</dc:language>
  <cp:lastModifiedBy>IALVAREZ</cp:lastModifiedBy>
  <dcterms:modified xsi:type="dcterms:W3CDTF">2007-08-10T12:49:11Z</dcterms:modified>
  <cp:revision>16</cp:revision>
  <dc:subject/>
  <dc:title>Diapositiva 1</dc:title>
</cp:coreProperties>
</file>