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E3E132-FFF2-4A4B-A1B2-77E1AE64C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A5A40-2620-42C8-B96D-36D93C53C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E8C0F-5D21-483E-A557-C27C3A8C1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32B12-3585-4100-B2D8-4F8AF1FD0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EA5BD-50C8-468D-AA0A-D429E687C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87D1E-B172-4BA8-A54D-9F7878A0B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0ED247-BF2C-4069-96BD-B41165A5EB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93F50-26FC-4511-9C44-112048DC0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77D5D-68AA-4912-8BD0-72595E074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B45AF-0881-4276-868C-045B5E302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6F26F-2CB3-41EE-8249-7EDDCE206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CDA57-F08A-4A4D-A023-A2B19DD62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B4373-2D14-42AC-BEEC-41813929A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B8A3A-FE39-4974-8548-F70074B41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B8572-A711-4614-A83C-B44D11FD7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A718EE-4EBD-4A4F-BAD7-A8D5DEE3D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F155B-A3DE-4858-A758-4FACA81187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AA009-8B55-46A6-983D-66930FC2C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F23C9-2CCF-41DF-9CB7-34E384D7C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579B0-7917-4F07-A001-852BDD104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47C8E-EBFE-4CF3-9340-7CE801A8A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45FAD-960C-4E9D-97C9-9CC176746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30734-EA5D-44BF-8141-3A8B65D65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E5E81-0888-4428-8AC8-B2B784363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20275-7862-4F3E-8C54-8568836A0E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5A97-61E8-431C-928F-D4BEC36CF3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      </a:t>
            </a:r>
            <a:r>
              <a:rPr b="0" lang="es-CL" sz="4000" spc="-1" strike="noStrike">
                <a:solidFill>
                  <a:srgbClr val="ffffff"/>
                </a:solidFill>
                <a:latin typeface="Arial"/>
              </a:rPr>
              <a:t>Herramientas contables para </a:t>
            </a:r>
            <a:br>
              <a:rPr sz="4000"/>
            </a:br>
            <a:r>
              <a:rPr b="0" lang="es-CL" sz="4000" spc="-1" strike="noStrike">
                <a:solidFill>
                  <a:srgbClr val="ffffff"/>
                </a:solidFill>
                <a:latin typeface="Arial"/>
              </a:rPr>
              <a:t>la Planificación y el Control</a:t>
            </a:r>
            <a:endParaRPr b="0" lang="en-US" sz="40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ván Álvarez 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de razones, índices o ratios</a:t>
            </a:r>
            <a:endParaRPr b="0" lang="en-US" sz="32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Arial"/>
              </a:rPr>
              <a:t>	</a:t>
            </a:r>
            <a:r>
              <a:rPr b="0" lang="es-CO" sz="2000" spc="-1" strike="noStrike">
                <a:solidFill>
                  <a:srgbClr val="ffffff"/>
                </a:solidFill>
                <a:latin typeface="Arial"/>
              </a:rPr>
              <a:t>Las razones típicamente determinadas s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66ff33"/>
                </a:solidFill>
                <a:latin typeface="Arial"/>
              </a:rPr>
              <a:t>Liquidez</a:t>
            </a:r>
            <a:r>
              <a:rPr b="0" lang="es-CO" sz="2000" spc="-1" strike="noStrike">
                <a:solidFill>
                  <a:srgbClr val="ffffff"/>
                </a:solidFill>
                <a:latin typeface="Arial"/>
              </a:rPr>
              <a:t>: indican la solvencia de la posición financiera general de la empres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Endeudamiento</a:t>
            </a:r>
            <a:r>
              <a:rPr b="0" lang="es-ES" sz="2000" spc="-1" strike="noStrike">
                <a:solidFill>
                  <a:srgbClr val="ffffff"/>
                </a:solidFill>
                <a:latin typeface="Arial"/>
              </a:rPr>
              <a:t>: indica la cantidad de dinero prestado por otras personas que se utiliza para tratar de obtener utilidad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Rentabilidad</a:t>
            </a:r>
            <a:r>
              <a:rPr b="0" lang="es-ES" sz="2000" spc="-1" strike="noStrike">
                <a:solidFill>
                  <a:srgbClr val="ffffff"/>
                </a:solidFill>
                <a:latin typeface="Arial"/>
              </a:rPr>
              <a:t>: relaciona los rendimientos de la empresa con sus ventas, activos o capital contabl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6ff33"/>
                </a:solidFill>
                <a:latin typeface="Arial"/>
              </a:rPr>
              <a:t>Actividad</a:t>
            </a:r>
            <a:r>
              <a:rPr b="0" lang="es-ES" sz="2000" spc="-1" strike="noStrike">
                <a:solidFill>
                  <a:srgbClr val="ffffff"/>
                </a:solidFill>
                <a:latin typeface="Arial"/>
              </a:rPr>
              <a:t>: miden la velocidad con que diversas cuentas se convierten en ventas o efectiv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Vertical</a:t>
            </a:r>
            <a:endParaRPr b="0" lang="en-US" sz="32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Vertical (AV) se puede considerar como una forma particular de aplicación de razones, pues se sustenta sobre la misma base conceptual de obtener cuocientes a partir de la relación entre dos ítem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ste caso se trata de la relación de la parte con el todo.</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V busca medir las variaciones experimentadas en las tres estructuras que se mueve la empresa: la estructura de inversiones (activo total), la estructura deuda – capital (pasivo + patrimonio) y la estructura de resultado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ara ello, relaciona en cada una de las estructuras sus distintas partes con el to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rocedimiento</a:t>
            </a:r>
            <a:r>
              <a:rPr b="0" lang="es-ES_tradnl" sz="4400" spc="-1" strike="noStrike">
                <a:solidFill>
                  <a:srgbClr val="ffffff"/>
                </a:solidFill>
                <a:latin typeface="Arial"/>
              </a:rPr>
              <a:t>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analiza el comportamiento de las estructuras en forma comparada, a través de sus agrupaciones principales en componente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Inversiones</a:t>
            </a: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t>
            </a:r>
            <a:endParaRPr b="0" lang="en-US" sz="1600" spc="-1" strike="noStrike">
              <a:solidFill>
                <a:srgbClr val="ffffff"/>
              </a:solidFill>
              <a:latin typeface="Arial"/>
            </a:endParaRPr>
          </a:p>
          <a:p>
            <a:pPr lvl="2" marL="1143000" indent="-228600">
              <a:spcBef>
                <a:spcPts val="349"/>
              </a:spcBef>
              <a:buSzPct val="15876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Circulante</a:t>
            </a:r>
            <a:endParaRPr b="0" lang="en-US" sz="1400" spc="-1" strike="noStrike">
              <a:solidFill>
                <a:srgbClr val="ffffff"/>
              </a:solidFill>
              <a:latin typeface="Arial"/>
            </a:endParaRPr>
          </a:p>
          <a:p>
            <a:pPr lvl="2" marL="1143000" indent="-228600">
              <a:spcBef>
                <a:spcPts val="349"/>
              </a:spcBef>
              <a:buSzPct val="15876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Activo Fij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uda- Capital</a:t>
            </a:r>
            <a:endParaRPr b="0" lang="en-US" sz="1600" spc="-1" strike="noStrike">
              <a:solidFill>
                <a:srgbClr val="ffffff"/>
              </a:solidFill>
              <a:latin typeface="Arial"/>
            </a:endParaRPr>
          </a:p>
          <a:p>
            <a:pPr lvl="2" marL="1143000" indent="-228600">
              <a:spcBef>
                <a:spcPts val="349"/>
              </a:spcBef>
              <a:buSzPct val="15876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Circulante</a:t>
            </a:r>
            <a:endParaRPr b="0" lang="en-US" sz="1400" spc="-1" strike="noStrike">
              <a:solidFill>
                <a:srgbClr val="ffffff"/>
              </a:solidFill>
              <a:latin typeface="Arial"/>
            </a:endParaRPr>
          </a:p>
          <a:p>
            <a:pPr lvl="2" marL="1143000" indent="-228600">
              <a:spcBef>
                <a:spcPts val="349"/>
              </a:spcBef>
              <a:buSzPct val="15876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sivo Largo Plazo</a:t>
            </a:r>
            <a:endParaRPr b="0" lang="en-US" sz="1400" spc="-1" strike="noStrike">
              <a:solidFill>
                <a:srgbClr val="ffffff"/>
              </a:solidFill>
              <a:latin typeface="Arial"/>
            </a:endParaRPr>
          </a:p>
          <a:p>
            <a:pPr lvl="2" marL="1143000" indent="-228600">
              <a:spcBef>
                <a:spcPts val="349"/>
              </a:spcBef>
              <a:buSzPct val="15876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Patrimonio</a:t>
            </a:r>
            <a:endParaRPr b="0" lang="en-US" sz="14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66ff33"/>
                </a:solidFill>
                <a:latin typeface="Arial"/>
              </a:rPr>
              <a:t>Estructura de Resultados</a:t>
            </a:r>
            <a:endParaRPr b="0" lang="en-US" sz="1600" spc="-1" strike="noStrike">
              <a:solidFill>
                <a:srgbClr val="ffffff"/>
              </a:solidFill>
              <a:latin typeface="Arial"/>
            </a:endParaRPr>
          </a:p>
          <a:p>
            <a:pPr lvl="2" marL="1143000" indent="-228600">
              <a:spcBef>
                <a:spcPts val="349"/>
              </a:spcBef>
              <a:buSzPct val="15876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Margen Bruto</a:t>
            </a:r>
            <a:endParaRPr b="0" lang="en-US" sz="1400" spc="-1" strike="noStrike">
              <a:solidFill>
                <a:srgbClr val="ffffff"/>
              </a:solidFill>
              <a:latin typeface="Arial"/>
            </a:endParaRPr>
          </a:p>
          <a:p>
            <a:pPr lvl="2" marL="1143000" indent="-228600">
              <a:spcBef>
                <a:spcPts val="349"/>
              </a:spcBef>
              <a:buSzPct val="15876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antes de intereses e impuestos</a:t>
            </a:r>
            <a:endParaRPr b="0" lang="en-US" sz="1400" spc="-1" strike="noStrike">
              <a:solidFill>
                <a:srgbClr val="ffffff"/>
              </a:solidFill>
              <a:latin typeface="Arial"/>
            </a:endParaRPr>
          </a:p>
          <a:p>
            <a:pPr lvl="2" marL="1143000" indent="-228600">
              <a:spcBef>
                <a:spcPts val="349"/>
              </a:spcBef>
              <a:buSzPct val="15876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Utilidad Net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24000" y="260280"/>
            <a:ext cx="4464000" cy="6408720"/>
          </a:xfrm>
          <a:prstGeom prst="rect">
            <a:avLst/>
          </a:prstGeom>
          <a:ln w="0">
            <a:noFill/>
          </a:ln>
        </p:spPr>
      </p:pic>
      <p:pic>
        <p:nvPicPr>
          <p:cNvPr id="187" name="" descr=""/>
          <p:cNvPicPr/>
          <p:nvPr/>
        </p:nvPicPr>
        <p:blipFill>
          <a:blip r:embed="rId2"/>
          <a:stretch/>
        </p:blipFill>
        <p:spPr>
          <a:xfrm>
            <a:off x="5219640" y="260280"/>
            <a:ext cx="3529080" cy="27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692360" y="836640"/>
            <a:ext cx="5688000" cy="525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Horizontal</a:t>
            </a:r>
            <a:endParaRPr b="0" lang="en-US" sz="32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Horizontal (AH), es una técnica menos utilizada, por las dificultades de aplicación y especialmente de interpretación.</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H consiste n medir la variación que ha experimentado cada rubro de las distintas estructuras de la empresa con respecto al periodo inmediatamente anterior.</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ifras deben estar en moneda del mismo periodo (actualiz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195640" y="836640"/>
            <a:ext cx="4464000" cy="5329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Dupont constituye un sistema básicamente orientado al control.</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á dirigido principalmente a los directivos de las organizacione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195"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196" name=""/>
              <p:cNvSpPr txBox="1"/>
              <p:nvPr/>
            </p:nvSpPr>
            <p:spPr>
              <a:xfrm>
                <a:off x="1979640" y="2133720"/>
                <a:ext cx="4753080" cy="7905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197"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formula Du Pont se estructura a partir de estos ratios, los que se descomponen en todos sus element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 anterior permite visualizar lo que ocurre al actuar sobre algunas de las variables sobre las cuales existe contro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or ejemplo, se puede ver el impacto que tiene el disminuir el nivel de caja o los gastos de administración sobre el retorno de la invers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pic>
        <p:nvPicPr>
          <p:cNvPr id="199"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Objetivos</a:t>
            </a:r>
            <a:endParaRPr b="0" lang="en-US" sz="32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tilizar las herramientas contables para fines de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dentificar  y aplicar nuevas técnicas contables a los Estados Financieros, a fin de generar información para la toma de decis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01"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cálculo del ROI no es imprescindible establecerlo sobre la inversión total, se podría calcular sobre el patrimonio.</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02" name=""/>
              <p:cNvSpPr txBox="1"/>
              <p:nvPr/>
            </p:nvSpPr>
            <p:spPr>
              <a:xfrm>
                <a:off x="826920" y="26686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203" name=""/>
          <p:cNvSpPr/>
          <p:nvPr/>
        </p:nvSpPr>
        <p:spPr>
          <a:xfrm>
            <a:off x="835200" y="4292640"/>
            <a:ext cx="2666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Muestra el % de marg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 cada $ vendido.</a:t>
            </a:r>
            <a:endParaRPr b="0" lang="en-US" sz="1800" spc="-1" strike="noStrike">
              <a:solidFill>
                <a:srgbClr val="ffffff"/>
              </a:solidFill>
              <a:latin typeface="Arial"/>
            </a:endParaRPr>
          </a:p>
        </p:txBody>
      </p:sp>
      <p:sp>
        <p:nvSpPr>
          <p:cNvPr id="204" name=""/>
          <p:cNvSpPr/>
          <p:nvPr/>
        </p:nvSpPr>
        <p:spPr>
          <a:xfrm>
            <a:off x="3859560" y="4292640"/>
            <a:ext cx="201852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 una medida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la eficiencia total</a:t>
            </a:r>
            <a:endParaRPr b="0" lang="en-US" sz="1800" spc="-1" strike="noStrike">
              <a:solidFill>
                <a:srgbClr val="ffffff"/>
              </a:solidFill>
              <a:latin typeface="Arial"/>
            </a:endParaRPr>
          </a:p>
        </p:txBody>
      </p:sp>
      <p:sp>
        <p:nvSpPr>
          <p:cNvPr id="205" name=""/>
          <p:cNvSpPr/>
          <p:nvPr/>
        </p:nvSpPr>
        <p:spPr>
          <a:xfrm>
            <a:off x="6217200" y="4313160"/>
            <a:ext cx="1814400" cy="642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palanca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V="1">
            <a:off x="2124000" y="3499920"/>
            <a:ext cx="287280" cy="792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4211280" y="3428640"/>
            <a:ext cx="36036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flipV="1">
            <a:off x="6012000" y="3428640"/>
            <a:ext cx="1008000" cy="863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nálisis Du Pont</a:t>
            </a:r>
            <a:endParaRPr b="0" lang="en-US" sz="28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edición de resultados</a:t>
            </a:r>
            <a:endParaRPr b="0" lang="en-US" sz="32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000" spc="-1" strike="noStrike">
                <a:solidFill>
                  <a:srgbClr val="ffffff"/>
                </a:solidFill>
                <a:latin typeface="Arial"/>
              </a:rPr>
              <a:t>Tradicionalmente la medición de la situación de una empresa queda expresada en tres reportes denominados “Estados Financieros”, y las notas explicativas que acompañan a estos report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lance Genera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Resultado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de Flujo de Efectivo</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as explicativ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Balance</a:t>
            </a:r>
            <a:r>
              <a:rPr b="0" lang="es-ES_tradnl" sz="2000" spc="-1" strike="noStrike">
                <a:solidFill>
                  <a:srgbClr val="ffffff"/>
                </a:solidFill>
                <a:latin typeface="Arial"/>
              </a:rPr>
              <a:t> es un informe de stock que muestra el destino (activo) que una entidad ha dado a los recursos obtenidos, y el origen o fuente de estos recursos (pasivo y patrimonio), a una fecha determinada.</a:t>
            </a:r>
            <a:endParaRPr b="0" lang="en-US" sz="2000" spc="-1" strike="noStrike">
              <a:solidFill>
                <a:srgbClr val="ffffff"/>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t>
            </a:r>
            <a:r>
              <a:rPr b="0" lang="es-ES_tradnl" sz="2000" spc="-1" strike="noStrike">
                <a:solidFill>
                  <a:srgbClr val="66ff33"/>
                </a:solidFill>
                <a:latin typeface="Arial"/>
              </a:rPr>
              <a:t>Estado de Resultados</a:t>
            </a:r>
            <a:r>
              <a:rPr b="0" lang="es-ES_tradnl" sz="2000" spc="-1" strike="noStrike">
                <a:solidFill>
                  <a:srgbClr val="ffffff"/>
                </a:solidFill>
                <a:latin typeface="Arial"/>
              </a:rPr>
              <a:t> es un informe de flujo, que muestra los ingresos generados y los gastos en que se ha incurrido, producto de la operaciones efectuadas durante un cierto período.</a:t>
            </a:r>
            <a:endParaRPr b="0" lang="en-US" sz="2000" spc="-1" strike="noStrike">
              <a:solidFill>
                <a:srgbClr val="ffffff"/>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l </a:t>
            </a:r>
            <a:r>
              <a:rPr b="0" lang="es-CL" sz="2000" spc="-1" strike="noStrike">
                <a:solidFill>
                  <a:srgbClr val="66ff33"/>
                </a:solidFill>
                <a:latin typeface="Arial"/>
              </a:rPr>
              <a:t>Estado de Flujo de Efectivo</a:t>
            </a:r>
            <a:r>
              <a:rPr b="0" lang="es-CL" sz="2000" spc="-1" strike="noStrike">
                <a:solidFill>
                  <a:srgbClr val="ffffff"/>
                </a:solidFill>
                <a:latin typeface="Arial"/>
              </a:rPr>
              <a:t> es un estado financiero básico cuyo objetivo es proveer información relevante sobre los ingresos y egresos de efectivo de una entidad durante un período determinad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a </a:t>
            </a:r>
            <a:r>
              <a:rPr b="0" lang="en-US" sz="2000" spc="-1" strike="noStrike" u="sng">
                <a:solidFill>
                  <a:srgbClr val="ffff00"/>
                </a:solidFill>
                <a:uFillTx/>
                <a:latin typeface="Arial"/>
              </a:rPr>
              <a:t>situación financiera</a:t>
            </a:r>
            <a:r>
              <a:rPr b="0" lang="en-US" sz="2000" spc="-1" strike="noStrike">
                <a:solidFill>
                  <a:srgbClr val="ffffff"/>
                </a:solidFill>
                <a:latin typeface="Arial"/>
              </a:rPr>
              <a:t> es proporcionada básicamente por el Balance General. </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l </a:t>
            </a:r>
            <a:r>
              <a:rPr b="0" lang="en-US" sz="2000" spc="-1" strike="noStrike" u="sng">
                <a:solidFill>
                  <a:srgbClr val="ffff00"/>
                </a:solidFill>
                <a:uFillTx/>
                <a:latin typeface="Arial"/>
              </a:rPr>
              <a:t>desempeño</a:t>
            </a:r>
            <a:r>
              <a:rPr b="0" lang="en-US" sz="2000" spc="-1" strike="noStrike" u="sng">
                <a:solidFill>
                  <a:srgbClr val="ffffff"/>
                </a:solidFill>
                <a:uFillTx/>
                <a:latin typeface="Arial"/>
              </a:rPr>
              <a:t> </a:t>
            </a:r>
            <a:r>
              <a:rPr b="0" lang="en-US" sz="2000" spc="-1" strike="noStrike">
                <a:solidFill>
                  <a:srgbClr val="ffffff"/>
                </a:solidFill>
                <a:latin typeface="Arial"/>
              </a:rPr>
              <a:t>es suministrada fundamentalmente por el Estado de Resultad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información acerca de los </a:t>
            </a:r>
            <a:r>
              <a:rPr b="0" lang="en-US" sz="2000" spc="-1" strike="noStrike" u="sng">
                <a:solidFill>
                  <a:srgbClr val="ffff00"/>
                </a:solidFill>
                <a:uFillTx/>
                <a:latin typeface="Arial"/>
              </a:rPr>
              <a:t>flujos de fondos</a:t>
            </a:r>
            <a:r>
              <a:rPr b="0" lang="en-US" sz="2000" spc="-1" strike="noStrike">
                <a:solidFill>
                  <a:srgbClr val="ffffff"/>
                </a:solidFill>
                <a:latin typeface="Arial"/>
              </a:rPr>
              <a:t> es suministrada por el Estado de Flujo de Efectiv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s Financieros</a:t>
            </a:r>
            <a:endParaRPr b="0" lang="en-US" sz="32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Financieros cubren las necesidades comunes de la mayoría de los usuarios.  </a:t>
            </a:r>
            <a:endParaRPr b="0" lang="en-US" sz="2000" spc="-1" strike="noStrike">
              <a:solidFill>
                <a:srgbClr val="ffffff"/>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 embargo, los Estados Financieros no proporcionan toda la información necesaria para tomar las decisiones económicas, pues se refieren a efectos financieros de hechos pasados y no incluyen necesariamente información que no sea de tipo financi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Análisis Financiero como Control de Gestión</a:t>
            </a:r>
            <a:endParaRPr b="0" lang="en-US" sz="28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nálisis Financiero es un conjunto de técnicas que aplicadas a los Estados Financieros, permitirá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terminar la posición financiera de la empres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poya el proceso de adopción de decision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porcionar información para el control de gestión</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herramienta de control de gestión, el Análisis Financiero usa indicadores que permiten realizar el seguimiento de los logros estratégicos, y regular su avanc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nálisis Financiero</a:t>
            </a:r>
            <a:endParaRPr b="0" lang="en-US" sz="32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Análisis Financiero considera las siguientes técni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de razones, índices o ratios</a:t>
            </a:r>
            <a:endParaRPr b="0" lang="en-US" sz="2000" spc="-1" strike="noStrike">
              <a:solidFill>
                <a:srgbClr val="ffffff"/>
              </a:solidFill>
              <a:latin typeface="Arial"/>
            </a:endParaRPr>
          </a:p>
          <a:p>
            <a:pPr marL="343080" indent="-34308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Vertical </a:t>
            </a:r>
            <a:endParaRPr b="0" lang="en-US" sz="2000" spc="-1" strike="noStrike">
              <a:solidFill>
                <a:srgbClr val="ffffff"/>
              </a:solidFill>
              <a:latin typeface="Arial"/>
            </a:endParaRPr>
          </a:p>
          <a:p>
            <a:pPr marL="343080" indent="-34308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nálisis Horizont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Aspectos a considerar en el Análisis Financiero</a:t>
            </a:r>
            <a:endParaRPr b="0" lang="en-US" sz="28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paratividad: los datos no tienen sentido en si mismos, sino que solamente en la medida que se compare con otros.</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arencia de estándar: no existen índices buenos o malos a priori.</a:t>
            </a:r>
            <a:endParaRPr b="0" lang="en-US" sz="2000" spc="-1" strike="noStrike">
              <a:solidFill>
                <a:srgbClr val="ffffff"/>
              </a:solidFill>
              <a:latin typeface="Arial"/>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dad de un refinamiento de la información contable, dado que la Contabilidad Financiera enfatiza la prolijidad de los datos a nivel agregado.</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riodo de los Estados Financiero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ariaciones estacionales</a:t>
            </a:r>
            <a:endParaRPr b="0" lang="en-US" sz="2000" spc="-1" strike="noStrike">
              <a:solidFill>
                <a:srgbClr val="ffffff"/>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2120" indent="-312120">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ocimiento del sector: ventas anticipadas, alto endeudamiento u ot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8T18:21:59Z</dcterms:created>
  <dc:creator>IALVAREZ</dc:creator>
  <dc:description/>
  <dc:language>en-US</dc:language>
  <cp:lastModifiedBy>IALVAREZ</cp:lastModifiedBy>
  <dcterms:modified xsi:type="dcterms:W3CDTF">2007-08-10T12:49:11Z</dcterms:modified>
  <cp:revision>16</cp:revision>
  <dc:subject/>
  <dc:title>Diapositiva 1</dc:title>
</cp:coreProperties>
</file>