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40EED-1C14-4F14-8A3C-A6811DC75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03218-8BA8-4E63-8D2C-1891C4B15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FBAB4-64DF-44CF-ABF2-EF84FF1BF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4E577-BEE4-4AD0-9B43-5EBDE768C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D352D-1724-4349-9734-329F700D6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6F1E5-E0A7-4AC2-ABB4-E45EDEC2E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86258-3C9F-4732-9D92-37CB276CF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12655-8AED-4A47-9E45-F55354BAD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46AE-7A20-403F-8526-9B369F72C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5DF35-B268-46FC-A3F7-4654AD712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8520E-8BF0-4154-BCC5-3BFC9E6AC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E2107-C861-45AD-AEB0-2B1D8B3A1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76D8-2EB0-43AB-A163-9E4E07F138A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95280" y="2205000"/>
            <a:ext cx="8496360" cy="15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 la Acreditación Institucional </a:t>
            </a:r>
            <a:br>
              <a:rPr sz="2800"/>
            </a:br>
            <a:r>
              <a:rPr b="0" lang="es-ES_tradnl" sz="2800" spc="-1" strike="noStrike">
                <a:solidFill>
                  <a:srgbClr val="000000"/>
                </a:solidFill>
                <a:latin typeface="Arial"/>
              </a:rPr>
              <a:t>Comisión Nacional de Acreditación, CNAP</a:t>
            </a:r>
            <a:endParaRPr b="0" lang="en-US" sz="2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000" spc="-1" strike="noStrike">
                <a:solidFill>
                  <a:srgbClr val="000000"/>
                </a:solidFill>
                <a:latin typeface="Arial"/>
              </a:rPr>
              <a:t>El objetivo central de la evaluación externa es verificar que las instituciones de educación superior cuentan con las condiciones necesarias para asegurar un avance sistemático hacia el logro de sus propósitos declarados, a partir de la </a:t>
            </a:r>
            <a:r>
              <a:rPr b="0" i="1" lang="es-ES" sz="2000" spc="-1" strike="noStrike" u="sng">
                <a:solidFill>
                  <a:srgbClr val="000000"/>
                </a:solidFill>
                <a:uFillTx/>
                <a:latin typeface="Arial"/>
              </a:rPr>
              <a:t>evaluación de las políticas y mecanismos de autorregulación</a:t>
            </a:r>
            <a:r>
              <a:rPr b="0" lang="es-ES" sz="2000" spc="-1" strike="noStrike">
                <a:solidFill>
                  <a:srgbClr val="000000"/>
                </a:solidFill>
                <a:latin typeface="Arial"/>
              </a:rPr>
              <a:t> vigentes en la instit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1800" spc="-1" strike="noStrike">
                <a:solidFill>
                  <a:srgbClr val="000000"/>
                </a:solidFill>
                <a:latin typeface="Arial"/>
              </a:rPr>
              <a:t>Ref. </a:t>
            </a:r>
            <a:r>
              <a:rPr b="0" lang="es-ES" sz="1800" spc="-1" strike="noStrike">
                <a:solidFill>
                  <a:srgbClr val="000000"/>
                </a:solidFill>
                <a:latin typeface="Arial"/>
              </a:rPr>
              <a:t>Elementos de juicio para la evaluación, www.cnap.c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04640"/>
            <a:ext cx="8435880" cy="6120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evaluación tiene por objeto concluir, para cada una de las áreas,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o en que la institución satisface los siguientes criteri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enta con propósitos y fines institucionales apropiados y claros, que orientan adecuadamente su desarroll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enta con políticas y mecanismos formalmente establecidos para el aseguramiento de la calidad y el cumplimiento de sus propósitos institucion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 evidencias de que sus políticas y mecanismos de aseguramiento de la calidad se aplican sistemáticamente en los diversos niveles institucionales, de modo eficiente y efica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 evidencias de resultados concordantes con los propósitos declarados de la institución y cautelados mediante las políticas y mecanismos de autorregulación, 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uestra que tiene capacidad para efectuar los ajustes y cambios necesarios para mejorar su calidad y avanzar consistentemente hacia el logro de sus propósitos declarad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2:32:19Z</dcterms:created>
  <dc:creator>IALVAREZ</dc:creator>
  <dc:description/>
  <dc:language>en-US</dc:language>
  <cp:lastModifiedBy>IALVAREZ</cp:lastModifiedBy>
  <dcterms:modified xsi:type="dcterms:W3CDTF">2007-08-02T22:58:43Z</dcterms:modified>
  <cp:revision>3</cp:revision>
  <dc:subject/>
  <dc:title>Diapositiva 1</dc:title>
</cp:coreProperties>
</file>