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60A-7364-4978-8FF0-55873371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D29-6481-4FBB-8D45-A6C001C9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DE4-AC00-4056-BEAF-16CD56D2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4D4-B6A1-4667-BBAD-EC14CBF6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FD91-0412-494C-9287-B32A5BDB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CFB4-14CE-4445-ADAA-153D6447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10DC-6AE3-4E22-8820-1E17C7C8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F529-26B9-4CB4-AA16-243ED530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AA48-93FA-4F91-9589-7FEC1458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9F71-9E5E-4AB3-9938-1CAA6C63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FE99-E45E-4F8E-98D3-476A3332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E86-62AC-4E15-93C3-38AA2357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0FAC-6F92-461E-8622-3359541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0077-912D-41A0-993F-7604695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8D7A-34EE-4195-9851-CDB783E3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D6F3-1924-4486-9A7B-D8EA97F1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6155-ADF7-4CE5-AB46-B24AAF55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95F-22D9-4085-9905-1B988897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B44-B41B-41BB-A7B7-7A8E5146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F05-E231-48E2-B922-98FD49FE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A4E-F118-4A59-B7E3-F4C97FD8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0FE-9979-4090-921B-B4C42A8C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CAE-DED6-4DA5-8FAE-8CA66CB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907-CA1B-4BC9-892D-5C03D90D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82B4-6FBE-4176-9564-5B94A7B15AC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AA9B-F447-44F1-AFDD-A03366F6C72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La fases de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Planificación Estratégic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762120"/>
            <a:ext cx="8382240" cy="759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1 :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externo (entorno, secto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interno (recur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2 : REFLEXIÓN ESTRATÉ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que precisan un replanteamiento profun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3 :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s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59120" y="10620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(PE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914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1 : CONO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- PROPÓSITO ESTRATÉGICO (MISIÓN-VIS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Qué queremos ser de destacad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- OBJETIVOS BÁSICOS A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ecimiento, Penetración,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- ESTRATEGIAS FUN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ductos, Mercados, Estructura, RRHH, Tecnología, Inver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4- OBJETIVOS OPERATIVOS A CORT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de Mkt, Plan de Inversiones, Plan de I+D, Plan de 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- PROGR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producción, Compras, Ampliación, Lanzamiento 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- 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gresos, Gastos, Inversiones, Tesorería y Finan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1520" y="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7650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3 : IMPLA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Generales (Visión, Misión, Políticas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álisis F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estraté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es estratég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8280" y="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Áreas potencialmente import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so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econó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colaboración o alianzas pos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ve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leg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cion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ntos medioamb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aspe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8800" y="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izar el 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T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mer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DINERO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inanci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ecnologías, Procesos, 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ERSONA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curs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 Estratégico: define la dirección de un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la 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Extern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1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47720" y="17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404640"/>
            <a:ext cx="74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anificación Estratégica como proceso previo para la existencia del Control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278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de s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198900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formulación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 de estrateg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68360" y="2349000"/>
            <a:ext cx="2133720" cy="6858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3141720"/>
            <a:ext cx="2210040" cy="9144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37893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evisión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e estrateg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47242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cef6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53006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ste contexto la Planificación Estratégica es un proceso de toma de decisiones, sobre las modificaciones que deben ser incorporadas en las estrategias exis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42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4495680"/>
            <a:ext cx="7056720" cy="1143000"/>
          </a:xfrm>
          <a:prstGeom prst="rect">
            <a:avLst/>
          </a:prstGeom>
          <a:solidFill>
            <a:srgbClr val="91c1c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4508640"/>
            <a:ext cx="71042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lanificación Estratégica fija los límites dentro de los cuales tiene lugar el control y evaluación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ocer los aspectos centrales del desarrollo de un Plan Estraté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45c98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28560" y="2286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quema del Proceso de Planificación Estraté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7b46d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7b46d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763640" y="1341360"/>
            <a:ext cx="3504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0" y="17"/>
                </a:moveTo>
                <a:arcTo wR="10800" hR="10800" stAng="-5590941" swAng="5769019"/>
                <a:lnTo>
                  <a:pt x="10800" y="10800"/>
                </a:lnTo>
                <a:close/>
              </a:path>
              <a:path fill="none" w="21600" h="21600">
                <a:moveTo>
                  <a:pt x="10200" y="17"/>
                </a:moveTo>
                <a:arcTo wR="10800" hR="10800" stAng="-5590941" swAng="576901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0920" y="1339200"/>
            <a:ext cx="345708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19" y="39"/>
                </a:moveTo>
                <a:arcTo wR="10800" hR="10800" stAng="-5107071" swAng="5107071"/>
                <a:lnTo>
                  <a:pt x="10800" y="10800"/>
                </a:lnTo>
                <a:close/>
              </a:path>
              <a:path fill="none" w="21600" h="21600">
                <a:moveTo>
                  <a:pt x="11719" y="39"/>
                </a:moveTo>
                <a:arcTo wR="10800" hR="10800" stAng="-5107071" swAng="5107071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ceso Formal y Sistemático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lleva a definir  estrategias para mejorar la posición competitiva de la empresa en los negocios en que actualmente se desenvuel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rovechar nuevas oport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contien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 objetivos, políticas y secuencias de acciones más import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 se hac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iendo cambios en el medio externo y en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izando el uso de los recursos int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6800" y="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é es 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25360"/>
            <a:ext cx="838188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33336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os cla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470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n del futuro que quiere conseguir la empresa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ser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En qué negocio esta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necesidad queremos satisfacer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do colectivo de ident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sión compartida de lo que es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guías para la toma de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R UNA MISIÓN/ 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y clarifica a dónde se quiere  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ece una meta a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sentido a la estrateg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404280"/>
            <a:ext cx="85341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 DE MIS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para qué exist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cómo va a buscar su cumpl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 qué es la empresa: el cómo lo conseguirá definirá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ve, concisa y fácil de comunic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1440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ULAR la estrategia es, determinar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do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tá hoy la empresa y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ó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bería estar en el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una brecha (gap) entre ambas situ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LANTAR la estrategia es, decidir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irigir la empresa desde donde está hoy, hasta debería estar mañ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" y="182520"/>
            <a:ext cx="84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EGIA: Formulación e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van Alvarez</cp:lastModifiedBy>
  <cp:lastPrinted>2001-11-23T07:32:28Z</cp:lastPrinted>
  <dcterms:modified xsi:type="dcterms:W3CDTF">2007-08-03T02:25:23Z</dcterms:modified>
  <cp:revision>46</cp:revision>
  <dc:subject/>
  <dc:title>Los cuatro grandes sistemas sociales</dc:title>
</cp:coreProperties>
</file>