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A507-07AC-4C20-B902-888E7B3C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97D-F95D-4B26-9701-433E8587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7C0-C1B8-4B31-A40F-AA64099D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C28-E5D8-41CA-97E5-9E2E0274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894D-0268-4772-AA16-37E9B1AA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98D6-2A6D-4431-BF0B-7E6ADD2C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65FD-9DE2-45C4-8250-D51674BF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4966-1B20-42EF-9A34-778F9F5F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482E-ABD7-473D-9FFA-E992AD50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C8C1-665B-4F3F-90F7-BE2EB79E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3064-47F3-4ECA-A11E-D6EEB3EB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0D4-A359-4C00-947A-A34A034D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7187-C42F-41BF-9873-586C9E6D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EC14-C8B4-4253-A1AB-DD342258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DCDE-F052-4F01-BDA8-DA0387D1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180D-5494-486B-BA73-81B58908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480D-6B12-4419-9828-99AB61F1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DE5-1F8D-4FDF-92C9-E0F8FDD4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63F-60FB-43C7-A3AB-03005C47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B6E-7733-4C5B-9BF0-C2CC1E97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E90-7B54-4113-BAE0-4BBCB8EC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B4C-E3A7-41F8-86A9-0D9FE5A5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148-7977-4AA3-8AB1-3B4B00B0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FD7-8218-4F1C-9D09-416FC033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3D86-6126-4745-9498-D19A8768C4D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0D24-F32E-4C40-8140-A5A9E53B3A0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58920" y="2349360"/>
            <a:ext cx="6842160" cy="16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La fases de l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Planificación Estratégic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762120"/>
            <a:ext cx="8382240" cy="7596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FASE 1 : 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is externo (entorno, secto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is interno (recurs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FASE 2 : REFLEXIÓN ESTRATÉ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s que precisan un replanteamiento profun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FASE 3 : IMPLA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sió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lí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59120" y="106200"/>
            <a:ext cx="77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oceso de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oceso de Planificación Estraté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8380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907920"/>
            <a:ext cx="2873160" cy="132156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DEL 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(PES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OLÍTICO-ECONÓMICO-SOCIAL-TECNOLOG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687920"/>
            <a:ext cx="2873160" cy="218952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ECURSOS HUMAN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INNOVA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EN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5334120"/>
            <a:ext cx="304920" cy="609480"/>
          </a:xfrm>
          <a:prstGeom prst="upArrow">
            <a:avLst>
              <a:gd name="adj1" fmla="val 28574"/>
              <a:gd name="adj2" fmla="val 84561"/>
            </a:avLst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5867280"/>
            <a:ext cx="1904760" cy="76320"/>
          </a:xfrm>
          <a:prstGeom prst="rect">
            <a:avLst/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2209680"/>
            <a:ext cx="2895840" cy="3048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2349360"/>
            <a:ext cx="2873160" cy="230580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DEL S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NUEVOS ENTR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ROD. SUSTITU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ODER DE NEGOCIACION DE PROVEEDORES Y CL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IVALIDAD ACTU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22860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PORTUN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18288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562720" y="228564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266688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41148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37339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37339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ORTALEZ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3733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BIL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2286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MENAZ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220968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73392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3374400">
            <a:off x="2994840" y="2305800"/>
            <a:ext cx="1114200" cy="264960"/>
          </a:xfrm>
          <a:prstGeom prst="rightArrow">
            <a:avLst>
              <a:gd name="adj1" fmla="val 35889"/>
              <a:gd name="adj2" fmla="val 133962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960400">
            <a:off x="3053880" y="3341880"/>
            <a:ext cx="1028520" cy="395280"/>
          </a:xfrm>
          <a:prstGeom prst="rightArrow">
            <a:avLst>
              <a:gd name="adj1" fmla="val 35889"/>
              <a:gd name="adj2" fmla="val 82891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1506400">
            <a:off x="7020000" y="2998440"/>
            <a:ext cx="431640" cy="272880"/>
          </a:xfrm>
          <a:prstGeom prst="rightArrow">
            <a:avLst>
              <a:gd name="adj1" fmla="val 35889"/>
              <a:gd name="adj2" fmla="val 50390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20000" y="4653000"/>
            <a:ext cx="431640" cy="228600"/>
          </a:xfrm>
          <a:prstGeom prst="rightArrow">
            <a:avLst>
              <a:gd name="adj1" fmla="val 37843"/>
              <a:gd name="adj2" fmla="val 51269"/>
            </a:avLst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443700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DIAGNÓSTICO EM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24720" y="2708280"/>
            <a:ext cx="1619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9144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1 : CONO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- PROPÓSITO ESTRATÉGICO (MISIÓN-VIS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¿Qué queremos ser de destacado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2- OBJETIVOS BÁSICOS A LARG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recimiento, Penetración, Rent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3- ESTRATEGIAS FUN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ductos, Mercados, Estructura, RRHH, Tecnología, Inver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4- OBJETIVOS OPERATIVOS A CORT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de Mkt, Plan de Inversiones, Plan de I+D, Plan de 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5- PROGRA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 producción, Compras, Ampliación, Lanzamiento N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6- 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gresos, Gastos, Inversiones, Tesorería y Financi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1520" y="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oceso de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76500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3 : IMPLAN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Generales (Visión, Misión, Políticas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ción de la situación ex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ción de la situación in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álisis F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estratég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es estratég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a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8280" y="0"/>
            <a:ext cx="49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Áreas potencialmente importa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os so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os económ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colaboración o alianzas pos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ven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ectos leg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cionaliz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untos medioambi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aspec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38800" y="0"/>
            <a:ext cx="38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izar el ento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RODUCT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omer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DINERO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inanci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RODUC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ecnologías, Procesos, 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ERSONA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Recursos Huma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4080" y="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álisis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1676520"/>
            <a:ext cx="84960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Plan Estratégico: define la dirección de una organ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ceso de la 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256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5640" y="3573360"/>
            <a:ext cx="136836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3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7840" y="393372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7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7564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4869000"/>
            <a:ext cx="15843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Visión: su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: que h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: donde se lleg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rogramas. 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3528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Búsqueda ventaja competi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5013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 Interno Análisis Extern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94172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arámetros. Objetivos. Indicadores. Comparaciones. Camb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3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6764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11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47720" y="17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404640"/>
            <a:ext cx="74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lanificación Estratégica como proceso previo para la existencia del Control de 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2781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ede s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00720" y="1989000"/>
            <a:ext cx="39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Un  proceso de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formulación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 de estrateg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268360" y="2349000"/>
            <a:ext cx="2133720" cy="685800"/>
          </a:xfrm>
          <a:prstGeom prst="line">
            <a:avLst/>
          </a:prstGeom>
          <a:ln cap="sq" w="76320">
            <a:solidFill>
              <a:srgbClr val="dcef6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68360" y="3141720"/>
            <a:ext cx="2210040" cy="914400"/>
          </a:xfrm>
          <a:prstGeom prst="line">
            <a:avLst/>
          </a:prstGeom>
          <a:ln cap="sq" w="76320">
            <a:solidFill>
              <a:srgbClr val="dcef6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95640" y="37893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Un proceso de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evisión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de estrateg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0360" y="47242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cef6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53006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este contexto la Planificación Estratégica es un proceso de toma de decisiones, sobre las modificaciones que deben ser incorporadas en las estrategias exis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42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4772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6920" y="476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1916280"/>
            <a:ext cx="6858000" cy="192276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o que se sigue para determinar las metas de una organización y las estrategias que permitirán alcanzar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3809880"/>
            <a:ext cx="83844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4495680"/>
            <a:ext cx="7056720" cy="1143000"/>
          </a:xfrm>
          <a:prstGeom prst="rect">
            <a:avLst/>
          </a:prstGeom>
          <a:solidFill>
            <a:srgbClr val="91c1c5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6920" y="4508640"/>
            <a:ext cx="710424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Planificación Estratégica fija los límites dentro de los cuales tiene lugar el control y evaluación de 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ocer los aspectos centrales del desarrollo de un Plan Estraté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lanificación Estratégica y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trol de Gest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2060640"/>
            <a:ext cx="2089080" cy="9144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64000" y="3573360"/>
            <a:ext cx="2089080" cy="914400"/>
          </a:xfrm>
          <a:prstGeom prst="rect">
            <a:avLst/>
          </a:prstGeom>
          <a:solidFill>
            <a:srgbClr val="45c984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5157720"/>
            <a:ext cx="2089080" cy="9144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92360" y="2997360"/>
            <a:ext cx="0" cy="1079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4076640"/>
            <a:ext cx="1800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4508640"/>
            <a:ext cx="0" cy="108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5589720"/>
            <a:ext cx="1655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28560" y="228600"/>
            <a:ext cx="78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quema del Proceso de Planificación Estratég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08360" y="981000"/>
            <a:ext cx="15429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989000"/>
            <a:ext cx="1511280" cy="3173760"/>
          </a:xfrm>
          <a:prstGeom prst="rect">
            <a:avLst/>
          </a:prstGeom>
          <a:solidFill>
            <a:srgbClr val="7b46d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ISIS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09000" y="1773360"/>
            <a:ext cx="485280" cy="37432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talezas y Debil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1844640"/>
            <a:ext cx="533520" cy="36576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enazas y Oport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19320" y="1905120"/>
            <a:ext cx="1523880" cy="3257640"/>
          </a:xfrm>
          <a:prstGeom prst="rect">
            <a:avLst/>
          </a:prstGeom>
          <a:solidFill>
            <a:srgbClr val="7b46d0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óm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nológ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g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2360" y="2209680"/>
            <a:ext cx="20163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ATEG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92360" y="3357720"/>
            <a:ext cx="2057400" cy="33732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5589720"/>
            <a:ext cx="2057400" cy="33732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59280" y="4149720"/>
            <a:ext cx="2952720" cy="838080"/>
          </a:xfrm>
          <a:prstGeom prst="ellipse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S, PROGRAMA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763640" y="1341360"/>
            <a:ext cx="35042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00" y="17"/>
                </a:moveTo>
                <a:arcTo wR="10800" hR="10800" stAng="-5590941" swAng="5769019"/>
                <a:lnTo>
                  <a:pt x="10800" y="10800"/>
                </a:lnTo>
                <a:close/>
              </a:path>
              <a:path fill="none" w="21600" h="21600">
                <a:moveTo>
                  <a:pt x="10200" y="17"/>
                </a:moveTo>
                <a:arcTo wR="10800" hR="10800" stAng="-5590941" swAng="576901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0920" y="1339200"/>
            <a:ext cx="3457080" cy="12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19" y="39"/>
                </a:moveTo>
                <a:arcTo wR="10800" hR="10800" stAng="-5107071" swAng="5107071"/>
                <a:lnTo>
                  <a:pt x="10800" y="10800"/>
                </a:lnTo>
                <a:close/>
              </a:path>
              <a:path fill="none" w="21600" h="21600">
                <a:moveTo>
                  <a:pt x="11719" y="39"/>
                </a:moveTo>
                <a:arcTo wR="10800" hR="10800" stAng="-5107071" swAng="5107071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27640" y="5013360"/>
            <a:ext cx="0" cy="504720"/>
          </a:xfrm>
          <a:prstGeom prst="line">
            <a:avLst/>
          </a:prstGeom>
          <a:ln cap="sq"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66247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771640" y="2565360"/>
            <a:ext cx="749520" cy="22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08720" y="2565360"/>
            <a:ext cx="769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27640" y="2997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19720" y="1773360"/>
            <a:ext cx="7920" cy="436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27640" y="3789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 Proceso Formal y Sistemático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 lleva a definir  estrategias para mejorar la posición competitiva de la empresa en los negocios en que actualmente se desenvuel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rovechar nuevas oport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 contien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s objetivos, políticas y secuencias de acciones más importa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o se hac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iendo cambios en el medio externo y en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timizando el uso de los recursos inter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6800" y="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é es la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125360"/>
            <a:ext cx="838188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333360"/>
            <a:ext cx="51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os cla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470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n del futuro que quiere conseguir la empresa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ser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En qué negocio estam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necesidad queremos satisfacer?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Val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ido colectivo de ident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nsión compartida de lo que es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ptos Cl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laración tangible y mensurable sobre los resultados estratégicos dese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Estrate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los medios por los cuales se logran los objetivo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ineamientos de acuerdo con los cuales se guía el funcionamiento al interior de una organ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guías para la toma de dec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ptos Cl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476280"/>
            <a:ext cx="81392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R UNA MISIÓN/ 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y clarifica a dónde se quiere  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ece una meta a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sentido a la estrateg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404280"/>
            <a:ext cx="853416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 DE MIS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para qué exist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cómo va a buscar su cumpl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 qué es la empresa: el cómo lo conseguirá definirá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ve, concisa y fácil de comunic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1440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RMULAR la estrategia es, determinar 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dond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stá hoy la empresa y </a:t>
            </a: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dónd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bería estar en el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una brecha (gap) entre ambas situ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LANTAR la estrategia es, decidir </a:t>
            </a: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cóm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irigir la empresa desde donde está hoy, hasta debería estar mañ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" y="182520"/>
            <a:ext cx="84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RATEGIA: Formulación e impla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39:15Z</dcterms:created>
  <dc:creator>CARLOS REY ESCRIBANO</dc:creator>
  <dc:description/>
  <dc:language>en-US</dc:language>
  <cp:lastModifiedBy>Ivan Alvarez</cp:lastModifiedBy>
  <cp:lastPrinted>2001-11-23T07:32:28Z</cp:lastPrinted>
  <dcterms:modified xsi:type="dcterms:W3CDTF">2007-08-03T02:25:23Z</dcterms:modified>
  <cp:revision>46</cp:revision>
  <dc:subject/>
  <dc:title>Los cuatro grandes sistemas sociales</dc:title>
</cp:coreProperties>
</file>