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C8D-EBFB-4341-BE95-643D12E7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2DD-1C50-4BBB-828F-A7AA7107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598-72C0-4849-A3FD-F4FDC0B3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706-4D9A-4C6F-83E6-E15FCFCB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5397-E8B0-4EB2-9328-9DDBC686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E771-924D-48C2-A1C1-0C18403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18B6-0ACB-4938-A882-E1DBDEDC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075D-F61B-4E95-AAB1-DCBE8AB1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C7B1-B0F2-476C-8844-D336E33A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F785-1113-45FD-B5DE-7FEAB080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CD77-A6EF-466D-A9B4-2DBCD6A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BF4-0CA1-46F8-91E2-9B159913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B15B-217F-4686-83DE-85BA6B8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974F-ECB9-4639-9D69-3DE604A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2208-2305-49E9-BE13-4E7DA17B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E084-340F-443C-874E-722AFF68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F4C0-3D21-407F-BAA1-BDC96292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151-2689-42FA-B6FE-4CF1B603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6C2-30DE-495A-A2DD-23CDFF86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6EE-E4AA-4F4A-8F77-1E24731B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AD2-29EB-4BD8-BD16-CF116863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72F-165C-4BBA-80D0-9A46DB5E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021-63B6-47D0-ADBC-35F71A7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6A4-DF86-4762-9C33-EEA7BB24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C7AE-0736-48B1-BFCC-55E547CB05A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BF40-FA70-4795-B92C-0CEAC7EFA04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La fases de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Planificación Estratégic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762120"/>
            <a:ext cx="8382240" cy="759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1 :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externo (entorno, secto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interno (recur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2 : REFLEXIÓN ESTRATÉ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que precisan un replanteamiento profun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3 :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s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9120" y="10620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(PE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914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1 : CONO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- PROPÓSITO ESTRATÉGICO (MISIÓN-VIS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Qué queremos ser de destacad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- OBJETIVOS BÁSICOS A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cimiento, Penetración,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- ESTRATEGIAS FUN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ductos, Mercados, Estructura, RRHH, Tecnología, 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4- OBJETIVOS OPERATIVOS A CORT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de Mkt, Plan de Inversiones, Plan de I+D, Plan de 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- PROGR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producción, Compras, Ampliación, Lanzamiento 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- 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gresos, Gastos, Inversiones, Tesorería y Finan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1520" y="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7650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3 : IMPLA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Generales (Visión, Misión, Políticas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álisis F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es estratég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8280" y="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reas potencialmente im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so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econ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colaboración o alianzas pos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ve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cion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ntos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aspe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8800" y="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izar 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T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mer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DINERO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inanci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ecnologías, Procesos, 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ERSONA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curs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Exter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47720" y="17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404640"/>
            <a:ext cx="74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nificación Estratégica como proceso previo para la existencia del Control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78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de s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198900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formulación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 de estrateg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68360" y="2349000"/>
            <a:ext cx="2133720" cy="6858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3141720"/>
            <a:ext cx="2210040" cy="9144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37893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evisión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e estrateg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47242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cef6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53006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ste contexto la Planificación Estratégica es un proceso de toma de decisiones, sobre las modificaciones que deben ser incorporadas en las estrategias exis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42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4495680"/>
            <a:ext cx="7056720" cy="1143000"/>
          </a:xfrm>
          <a:prstGeom prst="rect">
            <a:avLst/>
          </a:prstGeom>
          <a:solidFill>
            <a:srgbClr val="91c1c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4508640"/>
            <a:ext cx="71042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nificación Estratégica fija los límites dentro de los cuales tiene lugar el control y evaluación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ocer los aspectos centrales del desarrollo de un Plan Estraté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45c98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28560" y="2286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quema del Proceso de Planifica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7b46d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7b46d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763640" y="1341360"/>
            <a:ext cx="3504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0" y="17"/>
                </a:moveTo>
                <a:arcTo wR="10800" hR="10800" stAng="-5590941" swAng="5769019"/>
                <a:lnTo>
                  <a:pt x="10800" y="10800"/>
                </a:lnTo>
                <a:close/>
              </a:path>
              <a:path fill="none" w="21600" h="21600">
                <a:moveTo>
                  <a:pt x="10200" y="17"/>
                </a:moveTo>
                <a:arcTo wR="10800" hR="10800" stAng="-5590941" swAng="576901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0920" y="1339200"/>
            <a:ext cx="345708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9" y="39"/>
                </a:moveTo>
                <a:arcTo wR="10800" hR="10800" stAng="-5107071" swAng="5107071"/>
                <a:lnTo>
                  <a:pt x="10800" y="10800"/>
                </a:lnTo>
                <a:close/>
              </a:path>
              <a:path fill="none" w="21600" h="21600">
                <a:moveTo>
                  <a:pt x="11719" y="39"/>
                </a:moveTo>
                <a:arcTo wR="10800" hR="10800" stAng="-5107071" swAng="5107071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ceso Formal y Sistemático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lleva a definir  estrategias para mejorar la posición competitiva de la empresa en los negocios en que actualmente se desenvuel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rovechar nuevas oport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contien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 objetivos, políticas y secuencias de acciones más import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 se hac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iendo cambios en el medio externo y en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izando el uso de los recursos int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6800" y="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é es 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838188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33336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os cl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470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n del futuro que quiere conseguir la empresa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ser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En qué negocio esta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necesidad queremos satisfacer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do colectivo de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sión compartida de lo que es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guías para la toma de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R UNA MISIÓN/ 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y clarifica a dónde se quiere  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ece una meta a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sentido a la 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404280"/>
            <a:ext cx="85341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 DE MIS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para qué exist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cómo va a buscar su cumpl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 qué es la empresa: el cómo lo conseguirá definirá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ve, concisa y fácil de comunic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1440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ULAR la estrategia es, determinar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do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tá hoy la empresa y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ó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bería estar en el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una brecha (gap) entre ambas situ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LANTAR la estrategia es, decidir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irigir la empresa desde donde está hoy, hasta debería estar mañ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" y="18252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EGIA: Formulación 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van Alvarez</cp:lastModifiedBy>
  <cp:lastPrinted>2001-11-23T07:32:28Z</cp:lastPrinted>
  <dcterms:modified xsi:type="dcterms:W3CDTF">2007-08-03T02:25:23Z</dcterms:modified>
  <cp:revision>46</cp:revision>
  <dc:subject/>
  <dc:title>Los cuatro grandes sistemas sociales</dc:title>
</cp:coreProperties>
</file>