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A02-58EC-43AB-9BE2-3F20E12B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EEF-52CF-4CC1-8D70-EB24ABF9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834-E2F0-4B28-9B11-859408B8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221-4EBE-4EEA-A29E-FCC2A243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E34-0EB3-4CEC-99F8-7A04EECD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BBE7-FC8D-4274-8540-54F67FE1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855-907E-4C58-A894-3C3B570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6CD7-7A93-4FC5-9B4E-4654531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20C-4F31-4206-A857-9DA5F7B1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7D66-47A2-48CE-B390-9FD4419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D25-89B9-415B-BF03-B4E6717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110-3A38-4885-B6F1-8BF120B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BADF-F35F-40C6-B0FE-0CBB98C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50F1-B55B-4F5E-9B1D-7C5147D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C5B-0EEA-4935-867E-C3447360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258-8DBE-43AB-98DE-01FFEF4C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71A-0624-4AF9-A624-0FBC24B5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323-837C-446A-A112-8DBD89C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C2E-4035-4BD4-8562-10B1F1D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704-5540-49FC-9C1D-8A9C9235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3F7-3BAB-46C7-B39E-315AD20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20D-8740-4D39-B6D0-2A425BA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DE7-7771-4B43-9A77-C2C049C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2B-4463-4611-B76A-7809D4D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E42-B26B-4B5E-930C-C9974B03C2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915-2892-4556-9B55-00D1C418794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La fases de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Planifica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762120"/>
            <a:ext cx="8382240" cy="759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1 :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externo (entorno, secto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interno (recur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2 : REFLEX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que precisan un replanteamiento profu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3 :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9120" y="1062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914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1 : CONO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- PROPÓSITO ESTRATÉGICO (MISIÓN-VIS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queremos ser de destac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- OBJETIVOS BÁSICOS A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cimiento, Penetración,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- ESTRATEGIAS FUN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ductos, Mercados, Estructura, RRHH, Tecnología,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4- OBJETIVOS OPERATIVOS A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de Mkt, Plan de Inversiones, Plan de I+D, Plan de 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-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producción, Compras, Ampliación, Lanzamiento 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-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, Gastos, Inversiones, Tesorería y Finan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1520" y="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765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 : IMPLA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Generales (Visión, Misión, Políticas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colaboración o alianzas pos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ve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DINERO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nanci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cnologías, Procesos,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ERSONA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urs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72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04640"/>
            <a:ext cx="74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nificación Estratégica como proceso previo para la existencia d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s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989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formulación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 de estrateg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68360" y="2349000"/>
            <a:ext cx="2133720" cy="6858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3141720"/>
            <a:ext cx="2210040" cy="9144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3789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evisión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e estrate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24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ef6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3006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e contexto la Planificación Estratégica es un proceso de toma de decisiones, sobre las modificaciones que deben ser incorporadas en las estrategias ex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495680"/>
            <a:ext cx="7056720" cy="1143000"/>
          </a:xfrm>
          <a:prstGeom prst="rect">
            <a:avLst/>
          </a:prstGeom>
          <a:solidFill>
            <a:srgbClr val="91c1c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y evaluación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ocer los aspectos centrales del desarrollo de un Plan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Planific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ceso Formal y Sistemátic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lleva a definir  estrategias para mejorar la posición competitiva de la empresa en los negocios en que actualmente se desenvue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ovechar nuevas oport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contien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 objetivos, políticas y secuencias de acciones más import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 se hac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endo cambios en el medio externo y en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ando el uso de los recurs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6800" y="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é es 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838188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33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os cl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70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MISIÓN/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404280"/>
            <a:ext cx="85341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 DE MIS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 qué exist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cómo va a buscar su cumpl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 qué es la empresa: el cómo lo conseguirá definirá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ve, concisa y fácil de comunic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A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" y="18252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</cp:lastModifiedBy>
  <cp:lastPrinted>2001-11-23T07:32:28Z</cp:lastPrinted>
  <dcterms:modified xsi:type="dcterms:W3CDTF">2007-08-03T02:25:23Z</dcterms:modified>
  <cp:revision>46</cp:revision>
  <dc:subject/>
  <dc:title>Los cuatro grandes sistemas sociales</dc:title>
</cp:coreProperties>
</file>