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673-16FA-4A28-9C9F-F072B375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E2A-593D-467D-8DEE-166876AB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21E-BE24-46F9-9DA4-3821F786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EED-0FAF-409E-BF8F-8B718B2F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1F00-7D0C-480E-AE46-8F2F11B4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E9D2-EBEE-429C-9D84-2C5C404D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DB63-0B27-4910-BC70-F4C31A27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A323-6926-4562-B546-759685CB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5234-5954-4933-8043-20E16E5D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0A0F-AD94-4928-9284-71263767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2427-4441-4F38-ACF1-B48B5B10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B4C-F47E-4C5E-B3CE-B2D75352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A7DB-0A66-4EAA-BDEA-18268BFB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876C-100A-4F3C-A25A-1152B4C4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B5DF-667F-4CEE-BBD9-81614579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BD5F-F276-44FB-81E0-80A47BCD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6E4E-4976-4BF9-966A-2D0CD8B0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743-4511-48E8-AB7E-C1F760D2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0F0-3B24-462A-93AB-069E4F01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9B0-7CE2-4E37-8C90-737BB1A4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BA3-4792-47A2-ADA0-62548A57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2C1-DCEA-408A-9B0D-A51F9FB5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9AD-9E96-499C-A558-BBAB4D0C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065-A07F-4F51-A609-A745162A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5223-33EB-41F1-86F9-64CF824F657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9391-2AE0-4CD8-9A21-9B5A8F2809A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258920" y="2349360"/>
            <a:ext cx="684216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La fases de l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Planificación Estratégic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762120"/>
            <a:ext cx="8382240" cy="759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1 :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externo (entorno, secto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interno (recurs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2 : REFLEXIÓN ESTRATÉ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que precisan un replanteamiento profun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FASE 3 : IMPLA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sió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59120" y="10620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8380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907920"/>
            <a:ext cx="2873160" cy="132156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(PE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LÍTICO-ECONÓMICO-SOCIAL-TECNOLO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687920"/>
            <a:ext cx="2873160" cy="218952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NOVA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5334120"/>
            <a:ext cx="304920" cy="609480"/>
          </a:xfrm>
          <a:prstGeom prst="upArrow">
            <a:avLst>
              <a:gd name="adj1" fmla="val 28574"/>
              <a:gd name="adj2" fmla="val 84561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67280"/>
            <a:ext cx="1904760" cy="76320"/>
          </a:xfrm>
          <a:prstGeom prst="rect">
            <a:avLst/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2209680"/>
            <a:ext cx="2895840" cy="304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2349360"/>
            <a:ext cx="2873160" cy="230580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80"/>
                </a:solidFill>
                <a:uFillTx/>
                <a:latin typeface="Arial"/>
              </a:rPr>
              <a:t>ANÁLISIS DEL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NUEVOS ENTR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ROD. SUSTITU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PODER DE NEGOCIACION DE PROVEEDORES Y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RIVALIDAD ACTU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PORTUN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1828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562720" y="228564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26668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41148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3733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37339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RTALE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3733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EBIL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MENAZ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220968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73392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3374400">
            <a:off x="2994840" y="2305800"/>
            <a:ext cx="1114200" cy="264960"/>
          </a:xfrm>
          <a:prstGeom prst="rightArrow">
            <a:avLst>
              <a:gd name="adj1" fmla="val 35889"/>
              <a:gd name="adj2" fmla="val 133962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960400">
            <a:off x="3053880" y="3341880"/>
            <a:ext cx="1028520" cy="395280"/>
          </a:xfrm>
          <a:prstGeom prst="rightArrow">
            <a:avLst>
              <a:gd name="adj1" fmla="val 35889"/>
              <a:gd name="adj2" fmla="val 82891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1506400">
            <a:off x="7020000" y="2998440"/>
            <a:ext cx="431640" cy="272880"/>
          </a:xfrm>
          <a:prstGeom prst="rightArrow">
            <a:avLst>
              <a:gd name="adj1" fmla="val 35889"/>
              <a:gd name="adj2" fmla="val 50390"/>
            </a:avLst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20000" y="4653000"/>
            <a:ext cx="431640" cy="228600"/>
          </a:xfrm>
          <a:prstGeom prst="rightArrow">
            <a:avLst>
              <a:gd name="adj1" fmla="val 37843"/>
              <a:gd name="adj2" fmla="val 51269"/>
            </a:avLst>
          </a:prstGeom>
          <a:solidFill>
            <a:srgbClr val="7b46d0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443700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IAGNÓSTICO EM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24720" y="2708280"/>
            <a:ext cx="1619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9144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1 : CONO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- PROPÓSITO ESTRATÉGICO (MISIÓN-VIS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Qué queremos ser de destacado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2- OBJETIVOS BÁSICOS A LARG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ecimiento, Penetración, Ren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- ESTRATEGIAS FUN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ductos, Mercados, Estructura, RRHH, Tecnología, Inver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4- OBJETIVOS OPERATIVOS A CORT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de Mkt, Plan de Inversiones, Plan de I+D, Plan de 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5- PROGRA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producción, Compras, Ampliación, Lanzamiento N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- 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gresos, Gastos, Inversiones, Tesorería y Finan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1520" y="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oceso de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76500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E 3 : IMPLA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Generales (Visión, Misión, Políticas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la situación ex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la situación inte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álisis F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estraté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es estratég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8280" y="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Áreas potencialmente importa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so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bios económ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colaboración o alianzas pos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ve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ctos leg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cional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untos medioambi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aspec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38800" y="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izar el ento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ODUCT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mer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DINERO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inanci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RODUC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ecnologías, Procesos, 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PERSONA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curs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4080" y="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álisis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1676520"/>
            <a:ext cx="84960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Plan Estratégico: define la dirección de una 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so de la 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5640" y="3573360"/>
            <a:ext cx="136836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7840" y="3933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7564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869000"/>
            <a:ext cx="1584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isión: su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: que h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: donde se lleg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ogramas. 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Búsqueda ventaja compet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501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 Interno Análisis Extern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941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arámetros. Objetivos. Indicadores. Comparaciones. Camb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3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1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47720" y="17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404640"/>
            <a:ext cx="74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lanificación Estratégica como proceso previo para la existencia del Control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278136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de s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00720" y="1989000"/>
            <a:ext cx="39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Un  proceso de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formulación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 de estrateg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268360" y="2349000"/>
            <a:ext cx="2133720" cy="685800"/>
          </a:xfrm>
          <a:prstGeom prst="line">
            <a:avLst/>
          </a:prstGeom>
          <a:ln cap="sq" w="76320">
            <a:solidFill>
              <a:srgbClr val="dcef6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3141720"/>
            <a:ext cx="2210040" cy="914400"/>
          </a:xfrm>
          <a:prstGeom prst="line">
            <a:avLst/>
          </a:prstGeom>
          <a:ln cap="sq" w="76320">
            <a:solidFill>
              <a:srgbClr val="dcef6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37893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Un proceso de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evisión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de estrateg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0360" y="47242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cef67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53006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este contexto la Planificación Estratégica es un proceso de toma de decisiones, sobre las modificaciones que deben ser incorporadas en las estrategias exis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42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4772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6920" y="47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1916280"/>
            <a:ext cx="6858000" cy="192276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o que se sigue para determinar las metas de una organización y las estrategias que permitirán alcanzar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380988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4495680"/>
            <a:ext cx="7056720" cy="1143000"/>
          </a:xfrm>
          <a:prstGeom prst="rect">
            <a:avLst/>
          </a:prstGeom>
          <a:solidFill>
            <a:srgbClr val="91c1c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4508640"/>
            <a:ext cx="710424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lanificación Estratégica fija los límites dentro de los cuales tiene lugar el control y evaluación de gest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ocer los aspectos centrales del desarrollo de un Plan Estraté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lanificación Estratégica y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06064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64000" y="3573360"/>
            <a:ext cx="2089080" cy="914400"/>
          </a:xfrm>
          <a:prstGeom prst="rect">
            <a:avLst/>
          </a:prstGeom>
          <a:solidFill>
            <a:srgbClr val="45c984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5157720"/>
            <a:ext cx="2089080" cy="9144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2997360"/>
            <a:ext cx="0" cy="1079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4076640"/>
            <a:ext cx="1800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508640"/>
            <a:ext cx="0" cy="108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5589720"/>
            <a:ext cx="1655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28560" y="22860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quema del Proceso de Planificación Estraté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08360" y="981000"/>
            <a:ext cx="15429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989000"/>
            <a:ext cx="1511280" cy="3173760"/>
          </a:xfrm>
          <a:prstGeom prst="rect">
            <a:avLst/>
          </a:prstGeom>
          <a:solidFill>
            <a:srgbClr val="7b46d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09000" y="1773360"/>
            <a:ext cx="485280" cy="37432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844640"/>
            <a:ext cx="533520" cy="365760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enazas y Oport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1905120"/>
            <a:ext cx="1523880" cy="3257640"/>
          </a:xfrm>
          <a:prstGeom prst="rect">
            <a:avLst/>
          </a:prstGeom>
          <a:solidFill>
            <a:srgbClr val="7b46d0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óm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noló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g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2209680"/>
            <a:ext cx="20163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RATEG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92360" y="3357720"/>
            <a:ext cx="2057400" cy="33732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5589720"/>
            <a:ext cx="2057400" cy="3373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59280" y="4149720"/>
            <a:ext cx="2952720" cy="838080"/>
          </a:xfrm>
          <a:prstGeom prst="ellipse">
            <a:avLst/>
          </a:prstGeom>
          <a:solidFill>
            <a:srgbClr val="3399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S, PROGRAMA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763640" y="1341360"/>
            <a:ext cx="3504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00" y="17"/>
                </a:moveTo>
                <a:arcTo wR="10800" hR="10800" stAng="-5590941" swAng="5769019"/>
                <a:lnTo>
                  <a:pt x="10800" y="10800"/>
                </a:lnTo>
                <a:close/>
              </a:path>
              <a:path fill="none" w="21600" h="21600">
                <a:moveTo>
                  <a:pt x="10200" y="17"/>
                </a:moveTo>
                <a:arcTo wR="10800" hR="10800" stAng="-5590941" swAng="576901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0920" y="1339200"/>
            <a:ext cx="345708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19" y="39"/>
                </a:moveTo>
                <a:arcTo wR="10800" hR="10800" stAng="-5107071" swAng="5107071"/>
                <a:lnTo>
                  <a:pt x="10800" y="10800"/>
                </a:lnTo>
                <a:close/>
              </a:path>
              <a:path fill="none" w="21600" h="21600">
                <a:moveTo>
                  <a:pt x="11719" y="39"/>
                </a:moveTo>
                <a:arcTo wR="10800" hR="10800" stAng="-5107071" swAng="5107071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5013360"/>
            <a:ext cx="0" cy="504720"/>
          </a:xfrm>
          <a:prstGeom prst="line">
            <a:avLst/>
          </a:prstGeom>
          <a:ln cap="sq"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6247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771640" y="2565360"/>
            <a:ext cx="749520" cy="22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08720" y="2565360"/>
            <a:ext cx="769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27640" y="2997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19720" y="1773360"/>
            <a:ext cx="7920" cy="43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27640" y="378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ceso Formal y Sistemático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 lleva a definir  estrategias para mejorar la posición competitiva de la empresa en los negocios en que actualmente se desenvuel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rovechar nuevas oport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 contien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s objetivos, políticas y secuencias de acciones más import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b46d0"/>
              </a:buClr>
              <a:buSzPct val="9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o se hac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iendo cambios en el medio externo y en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b46d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mizando el uso de los recursos inter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6800" y="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é es la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125360"/>
            <a:ext cx="838188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333360"/>
            <a:ext cx="51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os cla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470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n del futuro que quiere conseguir la empresa</a:t>
            </a: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ser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En qué negocio estam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necesidad queremos satisfacer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Val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ido colectivo de ident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nsión compartida de lo que es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laración tangible y mensurable sobre los resultados estratégicos dese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los medios por los cuales se logran los objetivo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ineamientos de acuerdo con los cuales se guía el funcionamiento al interior de una organ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guías para la toma de dec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476280"/>
            <a:ext cx="81392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R UNA MISIÓN/ 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y clarifica a dónde se quiere  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ece una meta a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sentido a la estrateg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404280"/>
            <a:ext cx="853416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 DE MIS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para qué exist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cómo va a buscar su cumpl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 qué es la empresa: el cómo lo conseguirá definirá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ve, concisa y fácil de comunic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14400"/>
            <a:ext cx="8382240" cy="76320"/>
          </a:xfrm>
          <a:prstGeom prst="rect">
            <a:avLst/>
          </a:prstGeom>
          <a:solidFill>
            <a:srgbClr val="7b46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RMULAR la estrategia es, determinar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do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stá hoy la empresa y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dónd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bería estar en el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una brecha (gap) entre ambas situ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LANTAR la estrategia es, decidir </a:t>
            </a: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Arial"/>
              </a:rPr>
              <a:t>cóm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irigir la empresa desde donde está hoy, hasta debería estar mañ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" y="182520"/>
            <a:ext cx="84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RATEGIA: Formulación e impla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39:15Z</dcterms:created>
  <dc:creator>CARLOS REY ESCRIBANO</dc:creator>
  <dc:description/>
  <dc:language>en-US</dc:language>
  <cp:lastModifiedBy>Ivan Alvarez</cp:lastModifiedBy>
  <cp:lastPrinted>2001-11-23T07:32:28Z</cp:lastPrinted>
  <dcterms:modified xsi:type="dcterms:W3CDTF">2007-08-03T02:25:23Z</dcterms:modified>
  <cp:revision>46</cp:revision>
  <dc:subject/>
  <dc:title>Los cuatro grandes sistemas sociales</dc:title>
</cp:coreProperties>
</file>