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59D-F1F8-4C4D-94D0-8FF9AD2E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FE4-199D-4948-B989-185D5C63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274-B6EE-444D-9AF8-FD0A5F80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648-DC1D-4019-BD7D-86A692A5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052A-CD27-4E1F-95DD-17413710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E29F-17FE-40EC-A165-AFAD6ED8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8B20-E4E6-42DE-B528-029B46DA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562D-0489-45F8-84D9-F4795A06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BCA8-7EC3-4251-92D9-5AFF2343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60D9-7D82-45EE-8A3F-73983130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C9D6-D92F-4CA4-BBED-58368A75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BEB-BCAA-464D-B84A-68BDC109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A306-E844-4A21-ABC0-06E3547B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6D70-FDEF-441A-BF7F-B5A8AD08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EB5A-4DC3-48DD-88B0-1459F949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7DEF-3898-482D-8634-C135F83C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1C75-4A91-441D-9201-BA28EC57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E95-0295-4097-B7C3-74CF8DAD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378-07FB-40BD-8EC9-61EDFEB3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66B-006E-4C80-88E4-7883B63D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9CC-4B2F-4C2A-98F5-847C80FA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AC8-F9A6-4630-A228-A787898E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EC0-A779-4965-BC2C-F1A698A8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F02-4499-4F32-A25C-F262986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25560">
            <a:solidFill>
              <a:srgbClr val="e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24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AD1F-2556-4679-B9FE-F67B66F8BA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8"/>
            </a:gs>
            <a:gs pos="100000">
              <a:srgbClr val="0b01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24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68360" y="6291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82760" y="6291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91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4A55-0BB1-4C4E-97C0-2F02DCA706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8"/>
            </a:gs>
            <a:gs pos="100000">
              <a:srgbClr val="0b01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247"/>
                </a:solidFill>
                <a:latin typeface="Arial"/>
              </a:rPr>
              <a:t>Control de Gestión Estratégico</a:t>
            </a:r>
            <a:endParaRPr b="0" lang="en-US" sz="40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imavera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Plan Estratégico es el conjunto de análisis, decisiones y acciones que una organización lleva a cabo para crear y mantener ventajas competitivas sustentables a lo largo del tiemp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247"/>
                </a:solidFill>
                <a:latin typeface="Arial"/>
              </a:rPr>
              <a:t>Fases de la gestión organizacional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Organización y asignación de recursos (dot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ire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09880"/>
            <a:ext cx="5257800" cy="762120"/>
          </a:xfrm>
          <a:prstGeom prst="wedgeRectCallout">
            <a:avLst>
              <a:gd name="adj1" fmla="val -49004"/>
              <a:gd name="adj2" fmla="val -11875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3809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mparar los resultados obtenidos </a:t>
            </a:r>
            <a:br>
              <a:rPr sz="2000"/>
            </a:b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n los objetivos plante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8"/>
            </a:gs>
            <a:gs pos="100000">
              <a:srgbClr val="0b01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247"/>
                </a:solidFill>
                <a:latin typeface="Arial"/>
              </a:rPr>
              <a:t>El Control de la Gestión</a:t>
            </a: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Un instrumento de realimentación para el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ogro de los objetivo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traz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Sistemas de control: un ejemplo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2924280"/>
            <a:ext cx="2087640" cy="914400"/>
          </a:xfrm>
          <a:prstGeom prst="rect">
            <a:avLst/>
          </a:prstGeom>
          <a:solidFill>
            <a:srgbClr val="00a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ermost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4724280"/>
            <a:ext cx="2016000" cy="914400"/>
          </a:xfrm>
          <a:prstGeom prst="rect">
            <a:avLst/>
          </a:prstGeom>
          <a:solidFill>
            <a:srgbClr val="00a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ns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3357720"/>
            <a:ext cx="1873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3357720"/>
            <a:ext cx="0" cy="1800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35640" y="515772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3068640"/>
            <a:ext cx="609840" cy="609480"/>
          </a:xfrm>
          <a:prstGeom prst="flowChartSummingJunction">
            <a:avLst/>
          </a:prstGeom>
          <a:solidFill>
            <a:srgbClr val="00a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050920" y="5157720"/>
            <a:ext cx="1368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050920" y="3716280"/>
            <a:ext cx="0" cy="144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35772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335772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5088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344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e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360" y="22050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aración de Temper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al con dese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stema de Control: esquema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01640" y="2424240"/>
            <a:ext cx="7128000" cy="3288600"/>
            <a:chOff x="701640" y="2424240"/>
            <a:chExt cx="7128000" cy="3288600"/>
          </a:xfrm>
        </p:grpSpPr>
        <p:sp>
          <p:nvSpPr>
            <p:cNvPr id="126" name=""/>
            <p:cNvSpPr/>
            <p:nvPr/>
          </p:nvSpPr>
          <p:spPr>
            <a:xfrm>
              <a:off x="6373080" y="2424240"/>
              <a:ext cx="1456560" cy="14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Arial"/>
                </a:rPr>
                <a:t>Entidad Control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83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Arial"/>
                </a:rPr>
                <a:t>Instrumento de Contro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424240"/>
              <a:ext cx="1457640" cy="14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Arial"/>
                </a:rPr>
                <a:t>Evaluador: comparación con un estánd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27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Arial"/>
                </a:rPr>
                <a:t>Ejecutor: alineación del comporta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27640" y="4302720"/>
              <a:ext cx="1458720" cy="14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Arial"/>
                </a:rPr>
                <a:t>Detector: información sobre lo que ocur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59280" y="3129480"/>
              <a:ext cx="324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42360" y="3129480"/>
              <a:ext cx="484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86720" y="3129480"/>
              <a:ext cx="486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20000" y="3832560"/>
              <a:ext cx="1080" cy="1175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886720" y="5007960"/>
              <a:ext cx="113328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132000" y="5007960"/>
              <a:ext cx="1295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132000" y="3832560"/>
              <a:ext cx="0" cy="1175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247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oceso de control de gestión es el proceso por el cuál los directivos de todos los niveles aseguran de que las personas a las que supervisan implantan sus estrategias formul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oceso de control utilizado por los directivos contiene los mismos elementos que los sistemas de control más simp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detectore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forman de lo que ocurre en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evaluador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comparan esta información con el estado dese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ejecutore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oman acciones correctoras una vez que perciben diferencias significativas entre el estado actual y el dese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sistemas de comunic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informan a los directivos sobre lo que está ocurriendo y de su comparación con el estado dese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247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n embargo existen diferencias entre el proceso de control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gestión y el proceso más simple descri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estándar no esta predetermin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control de gestión no es automá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control de gestión requiere coordinación entre individu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relación entre la percepción de la necesidad de actuar y la decisión sobre las medidas a tomar para obtener el resultado deseado puede no ser cla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a gran parte del control de gestión es auto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Sistema de Control de Gestión</a:t>
            </a:r>
            <a:endParaRPr b="0" lang="en-US" sz="28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una herramienta gerencial y estratégica de información que, apoyada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ud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vestig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índ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dr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ducidos en forma sistemática, periódica y objetiva, que permite que la organización sea eficaz, eficiente, efectiva y product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24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Un SCG es un instrumento de realimentación, para verificar que estamos cumpliendo lo que nos propusi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247"/>
                </a:solidFill>
                <a:latin typeface="Arial"/>
              </a:rPr>
              <a:t>Para qué controlar</a:t>
            </a:r>
            <a:endParaRPr b="0" lang="en-US" sz="28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Todos hacemos gestión, aunque sea intuitiva, y controlamos el rumbo, aunque no usemos indic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l control de gestión busca sistematizar estos datos par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Ordenar el aparente ca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Definir cursos de acción que potencien las fortalezas y neutralicen las deb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in control, de nada vale planificar, programar y operar bien, porque nunca sabremos si fuimos efec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Presentación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éxito empresarial, exige desarrollar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ventajas compet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quiere una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estrategia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se debe implementar, ejecutar y monitorear adecuadamente a fin de conseguir los resultados propues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implementación de un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Sistema de Control de Gest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proporciona el apoyo necesario para tomar decisiones correctivas a nivel estratégico y operacional, con el fin de alcanzar los objetivos propues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l finalizar el curso el participa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ocerá los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ptos fundamentales sobre Sistemas de Control de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rá capaz de analizar, diseñar, implementar y mejorar Sistemas de Control de Gestión orientados a la implementación de la estrateg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plicará los enfoques e instrumentos específicos del Control de Gestión tales como, análisis de desviaciones, presupuestos flexibles, Balanced Scorecard y Valor Económico Agregado (EVA) a situaciones re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tará con un marco conceptual actualizado para la toma de decis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Contenidos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ceptos y definiciones fund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erramientas contables de Planificación y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estión Corporativa y de Unidades Estratégicas de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estión basada en procesos y gestión estratégica de co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valuación del desempeño corporativo y de las unidades de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Control de Gestión y la C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1523880"/>
            <a:ext cx="86425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Un hombre caminaba por la calle de un pequeño pueblo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cuando de pronto se da cuenta que encima de el ha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un globo aerostático flotando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De ese globo cuelga una canasta, y en la canasta hay un hombre, que le hace señas desesperado. Con curiosidad, se aproxima lo mas que puede y escucha con atención al piloto del globo, quien le grit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Disculpe ¿podría ayudarme?. Le prometí a un amigo que me encontraría con el a las 2 p.m., pero ya son las 2:30 p.m., y no se donde estoy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El transeúnte, con mucha cortesía le responde: claro que puedo ayudarle, usted se encuentra flotando a unos 20 metros encima de la Calle Principal. Esta a 40 grados de latitud Norte y 58 grados de longitud Oe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495360"/>
            <a:ext cx="82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Introducción: el ingeniero y el g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4922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685800"/>
            <a:ext cx="8229600" cy="55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El aeronauta escucha con atención, y después le pregunta con una sonris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¿Amigo, es usted ingenier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Si señor, para servirle, pero ¿como lo sup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Porque todo lo que usted me ha dicho es técnicamente correcto, pero esa información no me sirve de nada, y sigo perd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El Ingeniero se queda callado a su vez, y al final le pregunta al del glob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¿Y usted, es por casualidad, gerent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Si, soy gerente de una empresa. ¿Como lo ha averigua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¡Ah! muy fácil: Mire, usted no sabe ni donde esta, ni para donde 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Hizo una promesa que no sabe como cumplir, y espera que otro 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resuelva el problema. Esta tan perdido como antes de preguntarme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además, por algún extraño motivo, resulta que ahora la culpa es mí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La planificación empresarial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Necesitan un plan las empres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evidencia empírica muestra que existe una alta correlación entre el grado de formalización de la planificación, y los buenos resultados obten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lanificación formal vs. Planificación emer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no se fijan objetivos, no se corre el riesgo de no cumplirlos, pero tampoco se alcanza el éx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un barco sin timón, cualquier viento es favorabl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s empresas están insertas en un mundo que cada vez más global, de cambios veloces y enfrentando una competencia cada vez más agres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ste contexto, la empresa debe trazar el rumbo que marcará su futuro. (“Diseña su futuro”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documento que recoge este plan se denomina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7:43:51Z</dcterms:created>
  <dc:creator>John M. Marshall</dc:creator>
  <dc:description/>
  <dc:language>en-US</dc:language>
  <cp:lastModifiedBy>Ivan Alvarez</cp:lastModifiedBy>
  <dcterms:modified xsi:type="dcterms:W3CDTF">2007-07-29T21:06:33Z</dcterms:modified>
  <cp:revision>22</cp:revision>
  <dc:subject/>
  <dc:title>No Slide Title</dc:title>
</cp:coreProperties>
</file>