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0A8-B13F-4F65-A99A-8B571DB2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14F-0A52-4B63-A643-64E5C924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A177-980D-4A49-84C3-64981DF5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60D7-6465-45F2-8A15-1A836270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FDA7-20BB-4028-A4D2-569EC8FE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1AF0-7C16-459B-8B33-890DF929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CD4A-8DAD-4813-ADAD-864EDA8F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B3BF-E926-4237-9AF5-0F4DFF41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C3BC-1D27-4AB1-937D-36F4C696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6112-6C9B-4156-B946-540BC9D3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FF2D-DEB0-43B5-A466-61578F05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EF6-E35A-444D-A5F8-A8175D47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7A23-E401-4C6E-A176-B45AA36F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EBC8-2B22-4A07-A521-5D1219FD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283A-9C32-43C8-BFE1-B408007D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4F51-4CAD-445C-BB56-1A95D7CA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1C9F-D1B9-49DD-9465-476279E3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97D-83F8-4EE4-855E-71D4A174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301A-6DEE-4048-BC44-7C13F748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C235-6B29-41B2-BC7E-28464BD1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5C5A-C132-4873-8295-3AB760D3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020-1043-45C7-9C4C-79C4C0C2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F96-7FF3-4660-BF17-E80CC12A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4763-5637-4E44-817B-ED6B0125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25560">
            <a:solidFill>
              <a:srgbClr val="e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24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6C41-5A1A-46D1-8B70-C74392C0EF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8"/>
            </a:gs>
            <a:gs pos="100000">
              <a:srgbClr val="0b01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24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68360" y="6291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82760" y="6291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91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83AD-6E53-4F43-9B96-1DFA74C8E9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8"/>
            </a:gs>
            <a:gs pos="100000">
              <a:srgbClr val="0b01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247"/>
                </a:solidFill>
                <a:latin typeface="Arial"/>
              </a:rPr>
              <a:t>Control de Gestión Estratégico</a:t>
            </a:r>
            <a:endParaRPr b="0" lang="en-US" sz="40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ván Álvarez 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imavera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Plan Estratégico es el conjunto de análisis, decisiones y acciones que una organización lleva a cabo para crear y mantener ventajas competitivas sustentables a lo largo del tiemp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247"/>
                </a:solidFill>
                <a:latin typeface="Arial"/>
              </a:rPr>
              <a:t>Fases de la gestión organizacional</a:t>
            </a:r>
            <a:endParaRPr b="0" lang="en-US" sz="32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lanifi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Organización y asignación de recursos (dot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Dire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09880"/>
            <a:ext cx="5257800" cy="762120"/>
          </a:xfrm>
          <a:prstGeom prst="wedgeRectCallout">
            <a:avLst>
              <a:gd name="adj1" fmla="val -49004"/>
              <a:gd name="adj2" fmla="val -11875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3809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omparar los resultados obtenidos </a:t>
            </a:r>
            <a:br>
              <a:rPr sz="2000"/>
            </a:b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on los objetivos plante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028"/>
            </a:gs>
            <a:gs pos="100000">
              <a:srgbClr val="0b013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247"/>
                </a:solidFill>
                <a:latin typeface="Arial"/>
              </a:rPr>
              <a:t>El Control de la Gestión</a:t>
            </a: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Un instrumento de realimentación para el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logro de los objetivo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traz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247"/>
                </a:solidFill>
                <a:latin typeface="Arial"/>
              </a:rPr>
              <a:t>Sistemas de control: un ejemplo</a:t>
            </a:r>
            <a:endParaRPr b="0" lang="en-US" sz="32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48000" y="2924280"/>
            <a:ext cx="2087640" cy="914400"/>
          </a:xfrm>
          <a:prstGeom prst="rect">
            <a:avLst/>
          </a:prstGeom>
          <a:solidFill>
            <a:srgbClr val="00a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ermost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4724280"/>
            <a:ext cx="2016000" cy="914400"/>
          </a:xfrm>
          <a:prstGeom prst="rect">
            <a:avLst/>
          </a:prstGeom>
          <a:solidFill>
            <a:srgbClr val="00a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ens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35640" y="3357720"/>
            <a:ext cx="1873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3357720"/>
            <a:ext cx="0" cy="1800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435640" y="5157720"/>
            <a:ext cx="936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3068640"/>
            <a:ext cx="609840" cy="609480"/>
          </a:xfrm>
          <a:prstGeom prst="flowChartSummingJunction">
            <a:avLst/>
          </a:prstGeom>
          <a:solidFill>
            <a:srgbClr val="00a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050920" y="5157720"/>
            <a:ext cx="1368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050920" y="3716280"/>
            <a:ext cx="0" cy="144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3357720"/>
            <a:ext cx="936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3357720"/>
            <a:ext cx="936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5088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3440" y="35002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e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360" y="2205000"/>
            <a:ext cx="32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mparación de Temper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al con dese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1128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stema de Control: esquema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01640" y="2424240"/>
            <a:ext cx="7128000" cy="3288600"/>
            <a:chOff x="701640" y="2424240"/>
            <a:chExt cx="7128000" cy="3288600"/>
          </a:xfrm>
        </p:grpSpPr>
        <p:sp>
          <p:nvSpPr>
            <p:cNvPr id="126" name=""/>
            <p:cNvSpPr/>
            <p:nvPr/>
          </p:nvSpPr>
          <p:spPr>
            <a:xfrm>
              <a:off x="6373080" y="2424240"/>
              <a:ext cx="1456560" cy="14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Arial"/>
                </a:rPr>
                <a:t>Entidad Control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83640" y="2424240"/>
              <a:ext cx="1458720" cy="14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Arial"/>
                </a:rPr>
                <a:t>Instrumento de Contro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640" y="2424240"/>
              <a:ext cx="1457640" cy="14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Arial"/>
                </a:rPr>
                <a:t>Evaluador: comparación con un estánda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27640" y="2424240"/>
              <a:ext cx="1458720" cy="14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Arial"/>
                </a:rPr>
                <a:t>Ejecutor: alineación del comportamien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27640" y="4302720"/>
              <a:ext cx="1458720" cy="141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99"/>
                  </a:solidFill>
                  <a:latin typeface="Arial"/>
                </a:rPr>
                <a:t>Detector: información sobre lo que ocur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59280" y="3129480"/>
              <a:ext cx="324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42360" y="3129480"/>
              <a:ext cx="484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86720" y="3129480"/>
              <a:ext cx="486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20000" y="3832560"/>
              <a:ext cx="1080" cy="1175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886720" y="5007960"/>
              <a:ext cx="1133280" cy="1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132000" y="5007960"/>
              <a:ext cx="12952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132000" y="3832560"/>
              <a:ext cx="0" cy="1175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247"/>
                </a:solidFill>
                <a:latin typeface="Arial"/>
              </a:rPr>
              <a:t>Control de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proceso de control de gestión es el proceso por el cuál los directivos de todos los niveles aseguran de que las personas a las que supervisan implantan sus estrategias formul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proceso de control utilizado por los directivos contiene los mismos elementos que los sistemas de control más simp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66ff33"/>
                </a:solidFill>
                <a:latin typeface="Arial"/>
              </a:rPr>
              <a:t>detectore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forman de lo que ocurre en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66ff33"/>
                </a:solidFill>
                <a:latin typeface="Arial"/>
              </a:rPr>
              <a:t>evaluador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comparan esta información con el estado dese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66ff33"/>
                </a:solidFill>
                <a:latin typeface="Arial"/>
              </a:rPr>
              <a:t>ejecutore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oman acciones correctoras una vez que perciben diferencias significativas entre el estado actual y el dese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66ff33"/>
                </a:solidFill>
                <a:latin typeface="Arial"/>
              </a:rPr>
              <a:t>sistemas de comunic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informan a los directivos sobre lo que está ocurriendo y de su comparación con el estado dese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247"/>
                </a:solidFill>
                <a:latin typeface="Arial"/>
              </a:rPr>
              <a:t>Control de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n embargo existen diferencias entre el proceso de control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gestión y el proceso más simple descri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estándar no esta predetermin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control de gestión no es automát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control de gestión requiere coordinación entre individu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relación entre la percepción de la necesidad de actuar y la decisión sobre las medidas a tomar para obtener el resultado deseado puede no ser cla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a gran parte del control de gestión es auto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ffffff"/>
                </a:solidFill>
                <a:latin typeface="Arial"/>
              </a:rPr>
              <a:t>Sistema de Control de Gestión</a:t>
            </a:r>
            <a:endParaRPr b="0" lang="en-US" sz="28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una herramienta gerencial y estratégica de información que, apoyada 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dic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ud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vestig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índ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dr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ducidos en forma sistemática, periódica y objetiva, que permite que la organización sea eficaz, eficiente, efectiva y productiv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24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Un SCG es un instrumento de realimentación, para verificar que estamos cumpliendo lo que nos propusi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247"/>
                </a:solidFill>
                <a:latin typeface="Arial"/>
              </a:rPr>
              <a:t>Para qué controlar</a:t>
            </a:r>
            <a:endParaRPr b="0" lang="en-US" sz="28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Todos hacemos gestión, aunque sea intuitiva, y controlamos el rumbo, aunque no usemos indic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l control de gestión busca sistematizar estos datos par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Ordenar el aparente ca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Definir cursos de acción que potencien las fortalezas y neutralicen las deb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Sin control, de nada vale planificar, programar y operar bien, porque nunca sabremos si fuimos efec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247"/>
                </a:solidFill>
                <a:latin typeface="Arial"/>
              </a:rPr>
              <a:t>Presentación</a:t>
            </a:r>
            <a:endParaRPr b="0" lang="en-US" sz="32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éxito empresarial, exige desarrollar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ventajas competi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quiere una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estrategia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se debe implementar, ejecutar y monitorear adecuadamente a fin de conseguir los resultados propuest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implementación de un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Sistema de Control de Gest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proporciona el apoyo necesario para tomar decisiones correctivas a nivel estratégico y operacional, con el fin de alcanzar los objetivos propuest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247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l finalizar el curso el participa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ocerá los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ceptos fundamentales sobre Sistemas de Control de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rá capaz de analizar, diseñar, implementar y mejorar Sistemas de Control de Gestión orientados a la implementación de la estrateg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plicará los enfoques e instrumentos específicos del Control de Gestión tales como, análisis de desviaciones, presupuestos flexibles, Balanced Scorecard y Valor Económico Agregado (EVA) a situaciones re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tará con un marco conceptual actualizado para la toma de decis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247"/>
                </a:solidFill>
                <a:latin typeface="Arial"/>
              </a:rPr>
              <a:t>Contenidos</a:t>
            </a:r>
            <a:endParaRPr b="0" lang="en-US" sz="32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ceptos y definiciones fund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erramientas contables de Planificación y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estión Corporativa y de Unidades Estratégicas de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estión basada en procesos y gestión estratégica de cos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valuación del desempeño corporativo y de las unidades de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Control de Gestión y la C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1523880"/>
            <a:ext cx="86425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Un hombre caminaba por la calle de un pequeño pueblo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cuando de pronto se da cuenta que encima de el ha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un globo aerostático flotando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De ese globo cuelga una canasta, y en la canasta hay un hombre, que le hace señas desesperado. Con curiosidad, se aproxima lo mas que puede y escucha con atención al piloto del globo, quien le grit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Disculpe ¿podría ayudarme?. Le prometí a un amigo que me encontraría con el a las 2 p.m., pero ya son las 2:30 p.m., y no se donde estoy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El transeúnte, con mucha cortesía le responde: claro que puedo ayudarle, usted se encuentra flotando a unos 20 metros encima de la Calle Principal. Esta a 40 grados de latitud Norte y 58 grados de longitud Oes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495360"/>
            <a:ext cx="82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Introducción: el ingeniero y el g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49220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685800"/>
            <a:ext cx="8229600" cy="557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El aeronauta escucha con atención, y después le pregunta con una sonris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¿Amigo, es usted ingenier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Si señor, para servirle, pero ¿como lo sup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Porque todo lo que usted me ha dicho es técnicamente correcto, pero esa información no me sirve de nada, y sigo perdi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El Ingeniero se queda callado a su vez, y al final le pregunta al del glob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¿Y usted, es por casualidad, gerent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Si, soy gerente de una empresa. ¿Como lo ha averiguad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¡Ah! muy fácil: Mire, usted no sabe ni donde esta, ni para donde v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Hizo una promesa que no sabe como cumplir, y espera que otro 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resuelva el problema. Esta tan perdido como antes de preguntarme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además, por algún extraño motivo, resulta que ahora la culpa es mí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247"/>
                </a:solidFill>
                <a:latin typeface="Arial"/>
              </a:rPr>
              <a:t>La planificación empresarial</a:t>
            </a:r>
            <a:endParaRPr b="0" lang="en-US" sz="32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Necesitan un plan las empres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evidencia empírica muestra que existe una alta correlación entre el grado de formalización de la planificación, y los buenos resultados obten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lanificación formal vs. Planificación emerg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no se fijan objetivos, no se corre el riesgo de no cumplirlos, pero tampoco se alcanza el éx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 un barco sin timón, cualquier viento es favorabl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72b"/>
            </a:gs>
            <a:gs pos="100000">
              <a:srgbClr val="030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247"/>
                </a:solidFill>
                <a:latin typeface="Arial"/>
              </a:rPr>
              <a:t>El plan estratégico</a:t>
            </a:r>
            <a:endParaRPr b="0" lang="en-US" sz="3200" spc="-1" strike="noStrike">
              <a:solidFill>
                <a:srgbClr val="fff24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s empresas están insertas en un mundo que cada vez más global, de cambios veloces y enfrentando una competencia cada vez más agresi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ste contexto, la empresa debe trazar el rumbo que marcará su futuro. (“Diseña su futuro”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247"/>
              </a:buClr>
              <a:buSzPct val="80000"/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documento que recoge este plan se denomina </a:t>
            </a:r>
            <a:r>
              <a:rPr b="0" lang="es-ES_tradnl" sz="2400" spc="-1" strike="noStrike">
                <a:solidFill>
                  <a:srgbClr val="00ff00"/>
                </a:solidFill>
                <a:latin typeface="Arial"/>
              </a:rPr>
              <a:t>Plan Estratég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8T17:43:51Z</dcterms:created>
  <dc:creator>John M. Marshall</dc:creator>
  <dc:description/>
  <dc:language>en-US</dc:language>
  <cp:lastModifiedBy>Ivan Alvarez</cp:lastModifiedBy>
  <dcterms:modified xsi:type="dcterms:W3CDTF">2007-07-29T21:06:33Z</dcterms:modified>
  <cp:revision>22</cp:revision>
  <dc:subject/>
  <dc:title>No Slide Title</dc:title>
</cp:coreProperties>
</file>