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8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20.png" ContentType="image/png"/>
  <Override PartName="/ppt/media/image57.png" ContentType="image/png"/>
  <Override PartName="/ppt/media/image11.jpeg" ContentType="image/jpeg"/>
  <Override PartName="/ppt/media/image24.png" ContentType="image/png"/>
  <Override PartName="/ppt/media/image16.png" ContentType="image/png"/>
  <Override PartName="/ppt/media/image17.png" ContentType="image/png"/>
  <Override PartName="/ppt/media/image21.png" ContentType="image/png"/>
  <Override PartName="/ppt/media/image67.jpeg" ContentType="image/jpeg"/>
  <Override PartName="/ppt/media/image58.png" ContentType="image/png"/>
  <Override PartName="/ppt/media/image22.png" ContentType="image/png"/>
  <Override PartName="/ppt/media/image14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41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1.jpeg" ContentType="image/jpeg"/>
  <Override PartName="/ppt/media/image8.wmf" ContentType="image/x-wmf"/>
  <Override PartName="/ppt/media/image40.png" ContentType="image/png"/>
  <Override PartName="/ppt/media/image63.png" ContentType="image/png"/>
  <Override PartName="/ppt/media/image65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59.png" ContentType="image/png"/>
  <Override PartName="/ppt/media/image4.wmf" ContentType="image/x-wmf"/>
  <Override PartName="/ppt/media/image5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12.jpeg" ContentType="image/jpeg"/>
  <Override PartName="/ppt/media/image34.png" ContentType="image/png"/>
  <Override PartName="/ppt/media/image1.png" ContentType="image/png"/>
  <Override PartName="/ppt/media/image10.gif" ContentType="image/gif"/>
  <Override PartName="/ppt/media/image23.png" ContentType="image/png"/>
  <Override PartName="/ppt/media/image13.jpeg" ContentType="image/jpeg"/>
  <Override PartName="/ppt/media/image44.png" ContentType="image/png"/>
  <Override PartName="/ppt/media/image30.png" ContentType="image/png"/>
  <Override PartName="/ppt/media/image32.png" ContentType="image/png"/>
  <Override PartName="/ppt/media/image35.png" ContentType="image/png"/>
  <Override PartName="/ppt/media/image38.png" ContentType="image/png"/>
  <Override PartName="/ppt/media/image42.png" ContentType="image/png"/>
  <Override PartName="/ppt/media/image4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7370-B730-4A70-A248-DAA66B4DD9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second factor why foreign companies are attracted to do business in Singapore is our pro-business environm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gapore respects and protects your intellectual property righ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second factor why foreign companies are attracted to do business in Singapore is our pro-business environm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141200" y="4343400"/>
            <a:ext cx="480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7240" y="434196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its business environment competiti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 has kept corporate and personal income taxes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orporate tax of 20% is one of the lowest in the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s enjoy zero tax for the first 3 years of in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’s personal income tax rate of 2o% is also lower than those in most other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 has also more than 50 Double Taxation Agreements with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conmpanies are able to enjoy tax savings on their incomes by leveraging on our D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rehensive Avoidance of Double Taxation Agreem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greements generally cover all types of in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ed Trea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greements cover only income from shipping and/or air trans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eaties which are Signed but not Ratifi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either comprehensive agreements or limited treaties which are not ratified and therefor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o not have the force of la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141200" y="4343400"/>
            <a:ext cx="480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3440" y="4146120"/>
            <a:ext cx="581328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 has a world class work force, of which 58% has a secondary or higher qual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act, Singapore workers has been voted the highest quality workforce in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Business Environment Risk Intelligence (BERI) in 200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ld Competitiveness Report also ranks Singapo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orldwide in the availability of skilled lab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orldwide in the availability of IT professio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 is a multi-racial and multi-cultural city with Chinese, Indians and Malay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together on the is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act, one of out every four persons in Singapore is a foreig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ingapore a truly cosmopolitan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41200" y="4343400"/>
            <a:ext cx="480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 is an easy place to do business due to its pro-business poli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 has been rank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st competitive place for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st competitive Asian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siest place in Asia to start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p in quality and integrity of judi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p in ease of doing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 has consistently been ranked top for ease of doing busin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red tape, efficient government processing, combined with transparent and consistent business framework, provide investors with ease of mind and a conducive enrvironment to grow and expand their busin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 has consistently been ranked top for ease of doing busin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red tape, efficient government processing, combined with transparent and consistent business framework, provide investors with ease of mind and a conducive enrvironment to grow and expand their busin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61D2-FD6C-4AEB-8799-EE652276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226-2E0D-46C2-9156-565C3A27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5751-9D90-448F-ADFD-CE2992BE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153-A38F-497C-817A-65A80D2B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F1E-5AEC-4721-BBAE-41849BDA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027-442A-4FD0-AEB5-3F02916C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4F1-1DB5-418A-BFF9-B38B0954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FF6-7EC4-417C-B8CA-72D78CED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18C-E360-4903-9C17-3CD06C83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357-2A8D-461B-99D6-DEBC181D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B7E-9748-4752-A260-373004A4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F09-7558-40F5-ABA3-6C80898B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E13D-2751-4841-AF5E-1156258C319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iras.gov.sg/tax%20treaties/doc/AustraliaDTA.htm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iras.gov.sg/tax%20treaties/doc/AustriaDTA.htm" TargetMode="External"/><Relationship Id="rId5" Type="http://schemas.openxmlformats.org/officeDocument/2006/relationships/image" Target="../media/image15.png"/><Relationship Id="rId6" Type="http://schemas.openxmlformats.org/officeDocument/2006/relationships/hyperlink" Target="http://www.iras.gov.sg/tax%20treaties/doc/BangladeshDTA.htm" TargetMode="External"/><Relationship Id="rId7" Type="http://schemas.openxmlformats.org/officeDocument/2006/relationships/image" Target="../media/image16.png"/><Relationship Id="rId8" Type="http://schemas.openxmlformats.org/officeDocument/2006/relationships/hyperlink" Target="http://www.iras.gov.sg/tax%20treaties/doc/BelgiumDTA.htm" TargetMode="External"/><Relationship Id="rId9" Type="http://schemas.openxmlformats.org/officeDocument/2006/relationships/image" Target="../media/image17.png"/><Relationship Id="rId10" Type="http://schemas.openxmlformats.org/officeDocument/2006/relationships/hyperlink" Target="http://www.iras.gov.sg/tax%20treaties/doc/BulgariaDTA.htm" TargetMode="External"/><Relationship Id="rId11" Type="http://schemas.openxmlformats.org/officeDocument/2006/relationships/image" Target="../media/image18.png"/><Relationship Id="rId12" Type="http://schemas.openxmlformats.org/officeDocument/2006/relationships/hyperlink" Target="http://www.iras.gov.sg/tax%20treaties/doc/CanadaDTA.htm" TargetMode="External"/><Relationship Id="rId13" Type="http://schemas.openxmlformats.org/officeDocument/2006/relationships/image" Target="../media/image19.png"/><Relationship Id="rId14" Type="http://schemas.openxmlformats.org/officeDocument/2006/relationships/hyperlink" Target="http://www.iras.gov.sg/tax%20treaties/doc/ChinaDTA.htm" TargetMode="External"/><Relationship Id="rId15" Type="http://schemas.openxmlformats.org/officeDocument/2006/relationships/image" Target="../media/image20.png"/><Relationship Id="rId16" Type="http://schemas.openxmlformats.org/officeDocument/2006/relationships/hyperlink" Target="http://www.iras.gov.sg/tax%20treaties/doc/CyprusDTA.htm" TargetMode="External"/><Relationship Id="rId17" Type="http://schemas.openxmlformats.org/officeDocument/2006/relationships/image" Target="../media/image21.png"/><Relationship Id="rId18" Type="http://schemas.openxmlformats.org/officeDocument/2006/relationships/hyperlink" Target="http://www.iras.gov.sg/tax%20treaties/doc/Czech_RepublicDTA.htm" TargetMode="External"/><Relationship Id="rId19" Type="http://schemas.openxmlformats.org/officeDocument/2006/relationships/image" Target="../media/image22.png"/><Relationship Id="rId20" Type="http://schemas.openxmlformats.org/officeDocument/2006/relationships/hyperlink" Target="http://www.iras.gov.sg/tax%20treaties/doc/DenmarkDTA.htm" TargetMode="External"/><Relationship Id="rId21" Type="http://schemas.openxmlformats.org/officeDocument/2006/relationships/image" Target="../media/image23.png"/><Relationship Id="rId22" Type="http://schemas.openxmlformats.org/officeDocument/2006/relationships/hyperlink" Target="http://www.iras.gov.sg/tax%20treaties/doc/EgyptDTA.htm" TargetMode="External"/><Relationship Id="rId23" Type="http://schemas.openxmlformats.org/officeDocument/2006/relationships/image" Target="../media/image24.png"/><Relationship Id="rId24" Type="http://schemas.openxmlformats.org/officeDocument/2006/relationships/hyperlink" Target="http://www.iras.gov.sg/tax%20treaties/doc/FinlandDTA.htm" TargetMode="External"/><Relationship Id="rId25" Type="http://schemas.openxmlformats.org/officeDocument/2006/relationships/image" Target="../media/image25.png"/><Relationship Id="rId26" Type="http://schemas.openxmlformats.org/officeDocument/2006/relationships/hyperlink" Target="http://www.iras.gov.sg/tax%20treaties/doc/FranceDTA.htm" TargetMode="External"/><Relationship Id="rId27" Type="http://schemas.openxmlformats.org/officeDocument/2006/relationships/image" Target="../media/image26.png"/><Relationship Id="rId28" Type="http://schemas.openxmlformats.org/officeDocument/2006/relationships/hyperlink" Target="http://www.iras.gov.sg/tax%20treaties/doc/GermanyDTA.htm" TargetMode="External"/><Relationship Id="rId29" Type="http://schemas.openxmlformats.org/officeDocument/2006/relationships/image" Target="../media/image27.png"/><Relationship Id="rId30" Type="http://schemas.openxmlformats.org/officeDocument/2006/relationships/hyperlink" Target="http://www.iras.gov.sg/tax%20treaties/doc/HungaryDTA.htm" TargetMode="External"/><Relationship Id="rId31" Type="http://schemas.openxmlformats.org/officeDocument/2006/relationships/image" Target="../media/image28.png"/><Relationship Id="rId32" Type="http://schemas.openxmlformats.org/officeDocument/2006/relationships/hyperlink" Target="http://www.iras.gov.sg/tax%20treaties/doc/IndiaDTA.htm" TargetMode="External"/><Relationship Id="rId33" Type="http://schemas.openxmlformats.org/officeDocument/2006/relationships/image" Target="../media/image29.png"/><Relationship Id="rId34" Type="http://schemas.openxmlformats.org/officeDocument/2006/relationships/hyperlink" Target="http://www.iras.gov.sg/tax%20treaties/doc/IndonesiaDTA.htm" TargetMode="External"/><Relationship Id="rId35" Type="http://schemas.openxmlformats.org/officeDocument/2006/relationships/image" Target="../media/image30.png"/><Relationship Id="rId36" Type="http://schemas.openxmlformats.org/officeDocument/2006/relationships/hyperlink" Target="http://www.iras.gov.sg/tax%20treaties/doc/IsraelDTA.htm" TargetMode="External"/><Relationship Id="rId37" Type="http://schemas.openxmlformats.org/officeDocument/2006/relationships/image" Target="../media/image31.png"/><Relationship Id="rId38" Type="http://schemas.openxmlformats.org/officeDocument/2006/relationships/hyperlink" Target="http://www.iras.gov.sg/tax%20treaties/doc/ItalyDTA.htm" TargetMode="External"/><Relationship Id="rId39" Type="http://schemas.openxmlformats.org/officeDocument/2006/relationships/image" Target="../media/image32.png"/><Relationship Id="rId40" Type="http://schemas.openxmlformats.org/officeDocument/2006/relationships/hyperlink" Target="http://www.iras.gov.sg/tax%20treaties/doc/JapanDTA.htm" TargetMode="External"/><Relationship Id="rId41" Type="http://schemas.openxmlformats.org/officeDocument/2006/relationships/image" Target="../media/image33.png"/><Relationship Id="rId42" Type="http://schemas.openxmlformats.org/officeDocument/2006/relationships/hyperlink" Target="http://www.iras.gov.sg/tax%20treaties/doc/KoreaDTA.htm" TargetMode="External"/><Relationship Id="rId43" Type="http://schemas.openxmlformats.org/officeDocument/2006/relationships/image" Target="../media/image34.png"/><Relationship Id="rId44" Type="http://schemas.openxmlformats.org/officeDocument/2006/relationships/hyperlink" Target="http://www.iras.gov.sg/tax%20treaties/doc/KuwaitDTA.htm" TargetMode="External"/><Relationship Id="rId45" Type="http://schemas.openxmlformats.org/officeDocument/2006/relationships/image" Target="../media/image35.png"/><Relationship Id="rId46" Type="http://schemas.openxmlformats.org/officeDocument/2006/relationships/hyperlink" Target="http://www.iras.gov.sg/tax%20treaties/doc/LatviaDTA.htm" TargetMode="External"/><Relationship Id="rId47" Type="http://schemas.openxmlformats.org/officeDocument/2006/relationships/image" Target="../media/image36.png"/><Relationship Id="rId48" Type="http://schemas.openxmlformats.org/officeDocument/2006/relationships/hyperlink" Target="http://www.iras.gov.sg/tax%20treaties/doc/LuxembourgDTA.htm" TargetMode="External"/><Relationship Id="rId49" Type="http://schemas.openxmlformats.org/officeDocument/2006/relationships/image" Target="../media/image37.png"/><Relationship Id="rId50" Type="http://schemas.openxmlformats.org/officeDocument/2006/relationships/hyperlink" Target="http://www.iras.gov.sg/tax%20treaties/doc/MalaysiaDTA.htm" TargetMode="External"/><Relationship Id="rId51" Type="http://schemas.openxmlformats.org/officeDocument/2006/relationships/image" Target="../media/image38.png"/><Relationship Id="rId52" Type="http://schemas.openxmlformats.org/officeDocument/2006/relationships/hyperlink" Target="http://www.iras.gov.sg/tax%20treaties/doc/MauritiusDTA.htm" TargetMode="External"/><Relationship Id="rId53" Type="http://schemas.openxmlformats.org/officeDocument/2006/relationships/image" Target="../media/image39.png"/><Relationship Id="rId54" Type="http://schemas.openxmlformats.org/officeDocument/2006/relationships/hyperlink" Target="http://www.iras.gov.sg/tax%20treaties/doc/MexicoDTA.htm" TargetMode="External"/><Relationship Id="rId55" Type="http://schemas.openxmlformats.org/officeDocument/2006/relationships/image" Target="../media/image40.png"/><Relationship Id="rId56" Type="http://schemas.openxmlformats.org/officeDocument/2006/relationships/hyperlink" Target="http://www.iras.gov.sg/tax%20treaties/doc/MyanmarDTA.htm" TargetMode="External"/><Relationship Id="rId57" Type="http://schemas.openxmlformats.org/officeDocument/2006/relationships/image" Target="../media/image41.png"/><Relationship Id="rId58" Type="http://schemas.openxmlformats.org/officeDocument/2006/relationships/hyperlink" Target="http://www.iras.gov.sg/tax%20treaties/doc/NetherlandsDTA.htm" TargetMode="External"/><Relationship Id="rId59" Type="http://schemas.openxmlformats.org/officeDocument/2006/relationships/image" Target="../media/image42.png"/><Relationship Id="rId60" Type="http://schemas.openxmlformats.org/officeDocument/2006/relationships/hyperlink" Target="http://www.iras.gov.sg/tax%20treaties/doc/New_ZealandDTA.htm" TargetMode="External"/><Relationship Id="rId61" Type="http://schemas.openxmlformats.org/officeDocument/2006/relationships/image" Target="../media/image43.png"/><Relationship Id="rId62" Type="http://schemas.openxmlformats.org/officeDocument/2006/relationships/hyperlink" Target="http://www.iras.gov.sg/tax%20treaties/doc/NorwayDTA.htm" TargetMode="External"/><Relationship Id="rId63" Type="http://schemas.openxmlformats.org/officeDocument/2006/relationships/image" Target="../media/image44.png"/><Relationship Id="rId64" Type="http://schemas.openxmlformats.org/officeDocument/2006/relationships/hyperlink" Target="http://www.iras.gov.sg/tax%20treaties/doc/PakistanDTA.htm" TargetMode="External"/><Relationship Id="rId65" Type="http://schemas.openxmlformats.org/officeDocument/2006/relationships/image" Target="../media/image45.png"/><Relationship Id="rId66" Type="http://schemas.openxmlformats.org/officeDocument/2006/relationships/hyperlink" Target="http://www.iras.gov.sg/tax%20treaties/doc/Papua_New_GuineaDTA.htm" TargetMode="External"/><Relationship Id="rId67" Type="http://schemas.openxmlformats.org/officeDocument/2006/relationships/image" Target="../media/image46.png"/><Relationship Id="rId68" Type="http://schemas.openxmlformats.org/officeDocument/2006/relationships/hyperlink" Target="http://www.iras.gov.sg/tax%20treaties/doc/PhilippinesDTA.htm" TargetMode="External"/><Relationship Id="rId69" Type="http://schemas.openxmlformats.org/officeDocument/2006/relationships/image" Target="../media/image47.png"/><Relationship Id="rId70" Type="http://schemas.openxmlformats.org/officeDocument/2006/relationships/hyperlink" Target="http://www.iras.gov.sg/tax%20treaties/doc/PolandDTA.htm" TargetMode="External"/><Relationship Id="rId71" Type="http://schemas.openxmlformats.org/officeDocument/2006/relationships/image" Target="../media/image48.png"/><Relationship Id="rId72" Type="http://schemas.openxmlformats.org/officeDocument/2006/relationships/hyperlink" Target="http://www.iras.gov.sg/tax%20treaties/doc/PortugalDTA.htm" TargetMode="External"/><Relationship Id="rId73" Type="http://schemas.openxmlformats.org/officeDocument/2006/relationships/image" Target="../media/image49.png"/><Relationship Id="rId74" Type="http://schemas.openxmlformats.org/officeDocument/2006/relationships/hyperlink" Target="http://www.iras.gov.sg/tax%20treaties/doc/RomaniaDTA.htm" TargetMode="External"/><Relationship Id="rId75" Type="http://schemas.openxmlformats.org/officeDocument/2006/relationships/image" Target="../media/image50.png"/><Relationship Id="rId76" Type="http://schemas.openxmlformats.org/officeDocument/2006/relationships/hyperlink" Target="http://www.iras.gov.sg/tax%20treaties/doc/South_AfricaDTA.htm" TargetMode="External"/><Relationship Id="rId77" Type="http://schemas.openxmlformats.org/officeDocument/2006/relationships/image" Target="../media/image51.png"/><Relationship Id="rId78" Type="http://schemas.openxmlformats.org/officeDocument/2006/relationships/hyperlink" Target="http://www.iras.gov.sg/tax%20treaties/doc/Sri_LankaDTA.htm" TargetMode="External"/><Relationship Id="rId79" Type="http://schemas.openxmlformats.org/officeDocument/2006/relationships/image" Target="../media/image52.png"/><Relationship Id="rId80" Type="http://schemas.openxmlformats.org/officeDocument/2006/relationships/hyperlink" Target="http://www.iras.gov.sg/tax%20treaties/doc/SwedenDTA.htm" TargetMode="External"/><Relationship Id="rId81" Type="http://schemas.openxmlformats.org/officeDocument/2006/relationships/image" Target="../media/image53.png"/><Relationship Id="rId82" Type="http://schemas.openxmlformats.org/officeDocument/2006/relationships/hyperlink" Target="http://www.iras.gov.sg/tax%20treaties/doc/SwitzerlandDTA.htm" TargetMode="External"/><Relationship Id="rId83" Type="http://schemas.openxmlformats.org/officeDocument/2006/relationships/image" Target="../media/image54.png"/><Relationship Id="rId84" Type="http://schemas.openxmlformats.org/officeDocument/2006/relationships/hyperlink" Target="http://www.iras.gov.sg/tax%20treaties/doc/TaiwanDTA.htm" TargetMode="External"/><Relationship Id="rId85" Type="http://schemas.openxmlformats.org/officeDocument/2006/relationships/image" Target="../media/image55.png"/><Relationship Id="rId86" Type="http://schemas.openxmlformats.org/officeDocument/2006/relationships/hyperlink" Target="http://www.iras.gov.sg/tax%20treaties/doc/ThailandDTA.htm" TargetMode="External"/><Relationship Id="rId87" Type="http://schemas.openxmlformats.org/officeDocument/2006/relationships/image" Target="../media/image56.png"/><Relationship Id="rId88" Type="http://schemas.openxmlformats.org/officeDocument/2006/relationships/hyperlink" Target="http://www.iras.gov.sg/tax%20treaties/doc/TurkeyDTA.htm" TargetMode="External"/><Relationship Id="rId89" Type="http://schemas.openxmlformats.org/officeDocument/2006/relationships/image" Target="../media/image57.png"/><Relationship Id="rId90" Type="http://schemas.openxmlformats.org/officeDocument/2006/relationships/hyperlink" Target="http://www.iras.gov.sg/tax%20treaties/doc/United_Arab_EmiratesDTA.htm" TargetMode="External"/><Relationship Id="rId91" Type="http://schemas.openxmlformats.org/officeDocument/2006/relationships/image" Target="../media/image58.png"/><Relationship Id="rId92" Type="http://schemas.openxmlformats.org/officeDocument/2006/relationships/hyperlink" Target="http://www.iras.gov.sg/tax%20treaties/doc/United_KingdomDTA.htm" TargetMode="External"/><Relationship Id="rId93" Type="http://schemas.openxmlformats.org/officeDocument/2006/relationships/image" Target="../media/image59.png"/><Relationship Id="rId94" Type="http://schemas.openxmlformats.org/officeDocument/2006/relationships/hyperlink" Target="http://www.iras.gov.sg/tax%20treaties/doc/VietnamDTA.htm" TargetMode="External"/><Relationship Id="rId95" Type="http://schemas.openxmlformats.org/officeDocument/2006/relationships/image" Target="../media/image60.png"/><Relationship Id="rId96" Type="http://schemas.openxmlformats.org/officeDocument/2006/relationships/image" Target="../media/image61.jpeg"/><Relationship Id="rId97" Type="http://schemas.openxmlformats.org/officeDocument/2006/relationships/hyperlink" Target="http://www.iras.gov.sg/tax%20treaties/doc/Bahrain_limitedDTA.htm" TargetMode="External"/><Relationship Id="rId98" Type="http://schemas.openxmlformats.org/officeDocument/2006/relationships/image" Target="../media/image62.png"/><Relationship Id="rId99" Type="http://schemas.openxmlformats.org/officeDocument/2006/relationships/hyperlink" Target="http://www.iras.gov.sg/tax%20treaties/doc/Chile_limitedDTA.htm" TargetMode="External"/><Relationship Id="rId100" Type="http://schemas.openxmlformats.org/officeDocument/2006/relationships/image" Target="../media/image63.png"/><Relationship Id="rId101" Type="http://schemas.openxmlformats.org/officeDocument/2006/relationships/hyperlink" Target="http://www.iras.gov.sg/tax%20treaties/doc/Oman_limitedDTA.htm" TargetMode="External"/><Relationship Id="rId102" Type="http://schemas.openxmlformats.org/officeDocument/2006/relationships/image" Target="../media/image64.png"/><Relationship Id="rId103" Type="http://schemas.openxmlformats.org/officeDocument/2006/relationships/hyperlink" Target="http://www.iras.gov.sg/tax%20treaties/doc/Saudi_Arabia_limitedDTA.htm" TargetMode="External"/><Relationship Id="rId104" Type="http://schemas.openxmlformats.org/officeDocument/2006/relationships/image" Target="../media/image65.png"/><Relationship Id="rId105" Type="http://schemas.openxmlformats.org/officeDocument/2006/relationships/hyperlink" Target="http://www.iras.gov.sg/tax%20treaties/doc/United_Arab_Emirates_limitedDTA.htm" TargetMode="External"/><Relationship Id="rId106" Type="http://schemas.openxmlformats.org/officeDocument/2006/relationships/image" Target="../media/image58.png"/><Relationship Id="rId107" Type="http://schemas.openxmlformats.org/officeDocument/2006/relationships/hyperlink" Target="http://www.iras.gov.sg/tax%20treaties/doc/USA_limitedDTA.htm" TargetMode="External"/><Relationship Id="rId108" Type="http://schemas.openxmlformats.org/officeDocument/2006/relationships/image" Target="../media/image66.png"/><Relationship Id="rId109" Type="http://schemas.openxmlformats.org/officeDocument/2006/relationships/image" Target="../media/image67.jpeg"/><Relationship Id="rId110" Type="http://schemas.openxmlformats.org/officeDocument/2006/relationships/image" Target="../media/image17.png"/><Relationship Id="rId111" Type="http://schemas.openxmlformats.org/officeDocument/2006/relationships/image" Target="../media/image68.png"/><Relationship Id="rId112" Type="http://schemas.openxmlformats.org/officeDocument/2006/relationships/image" Target="../media/image69.jpeg"/><Relationship Id="rId113" Type="http://schemas.openxmlformats.org/officeDocument/2006/relationships/image" Target="../media/image70.png"/><Relationship Id="rId114" Type="http://schemas.openxmlformats.org/officeDocument/2006/relationships/image" Target="../media/image64.png"/><Relationship Id="rId115" Type="http://schemas.openxmlformats.org/officeDocument/2006/relationships/image" Target="../media/image71.png"/><Relationship Id="rId116" Type="http://schemas.openxmlformats.org/officeDocument/2006/relationships/slideLayout" Target="../slideLayouts/slideLayout1.xml"/><Relationship Id="rId11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50920"/>
            <a:ext cx="314280" cy="1938240"/>
          </a:xfrm>
          <a:prstGeom prst="rect">
            <a:avLst/>
          </a:prstGeom>
          <a:solidFill>
            <a:srgbClr val="004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6360" y="1157400"/>
            <a:ext cx="6373800" cy="1938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24520" y="1150920"/>
            <a:ext cx="2062440" cy="1938240"/>
          </a:xfrm>
          <a:prstGeom prst="rect">
            <a:avLst/>
          </a:prstGeom>
          <a:solidFill>
            <a:srgbClr val="cbd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1880" y="3206880"/>
            <a:ext cx="60706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Entorno favorable a los negoc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88979" t="0" r="0" b="0"/>
          <a:stretch/>
        </p:blipFill>
        <p:spPr>
          <a:xfrm>
            <a:off x="8136000" y="5740560"/>
            <a:ext cx="1008000" cy="1117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5480" y="6438960"/>
            <a:ext cx="35942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4120" y="1068480"/>
            <a:ext cx="82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ingapur es firmante de las principales convenciones y tratados sobre derechos a la Propiedad Intelect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63000"/>
            <a:ext cx="91440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gapur respeta sus derechos a la Propiedad Intelec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258920" y="1774800"/>
            <a:ext cx="7027920" cy="3961440"/>
            <a:chOff x="1258920" y="1774800"/>
            <a:chExt cx="7027920" cy="3961440"/>
          </a:xfrm>
        </p:grpSpPr>
        <p:grpSp>
          <p:nvGrpSpPr>
            <p:cNvPr id="115" name=""/>
            <p:cNvGrpSpPr/>
            <p:nvPr/>
          </p:nvGrpSpPr>
          <p:grpSpPr>
            <a:xfrm>
              <a:off x="3298680" y="3171960"/>
              <a:ext cx="2770200" cy="1511280"/>
              <a:chOff x="3298680" y="3171960"/>
              <a:chExt cx="2770200" cy="1511280"/>
            </a:xfrm>
          </p:grpSpPr>
          <p:sp>
            <p:nvSpPr>
              <p:cNvPr id="116" name=""/>
              <p:cNvSpPr/>
              <p:nvPr/>
            </p:nvSpPr>
            <p:spPr>
              <a:xfrm>
                <a:off x="5346360" y="3403800"/>
                <a:ext cx="50760" cy="1728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0" y="30"/>
                    </a:moveTo>
                    <a:lnTo>
                      <a:pt x="25" y="0"/>
                    </a:lnTo>
                    <a:lnTo>
                      <a:pt x="48" y="0"/>
                    </a:lnTo>
                    <a:lnTo>
                      <a:pt x="74" y="15"/>
                    </a:lnTo>
                    <a:lnTo>
                      <a:pt x="48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298680" y="3171960"/>
                <a:ext cx="2770200" cy="1392120"/>
              </a:xfrm>
              <a:custGeom>
                <a:avLst/>
                <a:gdLst/>
                <a:ahLst/>
                <a:rect l="l" t="t" r="r" b="b"/>
                <a:pathLst>
                  <a:path w="4129" h="2610">
                    <a:moveTo>
                      <a:pt x="403" y="2245"/>
                    </a:moveTo>
                    <a:lnTo>
                      <a:pt x="344" y="2187"/>
                    </a:lnTo>
                    <a:lnTo>
                      <a:pt x="319" y="2174"/>
                    </a:lnTo>
                    <a:lnTo>
                      <a:pt x="284" y="2132"/>
                    </a:lnTo>
                    <a:lnTo>
                      <a:pt x="250" y="2103"/>
                    </a:lnTo>
                    <a:lnTo>
                      <a:pt x="225" y="2103"/>
                    </a:lnTo>
                    <a:lnTo>
                      <a:pt x="201" y="2074"/>
                    </a:lnTo>
                    <a:lnTo>
                      <a:pt x="284" y="1991"/>
                    </a:lnTo>
                    <a:lnTo>
                      <a:pt x="271" y="1964"/>
                    </a:lnTo>
                    <a:lnTo>
                      <a:pt x="212" y="2035"/>
                    </a:lnTo>
                    <a:lnTo>
                      <a:pt x="191" y="2020"/>
                    </a:lnTo>
                    <a:lnTo>
                      <a:pt x="155" y="1991"/>
                    </a:lnTo>
                    <a:lnTo>
                      <a:pt x="178" y="1964"/>
                    </a:lnTo>
                    <a:lnTo>
                      <a:pt x="212" y="1936"/>
                    </a:lnTo>
                    <a:lnTo>
                      <a:pt x="225" y="1920"/>
                    </a:lnTo>
                    <a:lnTo>
                      <a:pt x="237" y="1908"/>
                    </a:lnTo>
                    <a:lnTo>
                      <a:pt x="201" y="1865"/>
                    </a:lnTo>
                    <a:lnTo>
                      <a:pt x="191" y="1908"/>
                    </a:lnTo>
                    <a:lnTo>
                      <a:pt x="166" y="1920"/>
                    </a:lnTo>
                    <a:lnTo>
                      <a:pt x="166" y="1936"/>
                    </a:lnTo>
                    <a:lnTo>
                      <a:pt x="141" y="1964"/>
                    </a:lnTo>
                    <a:lnTo>
                      <a:pt x="96" y="1908"/>
                    </a:lnTo>
                    <a:lnTo>
                      <a:pt x="46" y="1880"/>
                    </a:lnTo>
                    <a:lnTo>
                      <a:pt x="25" y="1851"/>
                    </a:lnTo>
                    <a:lnTo>
                      <a:pt x="12" y="1824"/>
                    </a:lnTo>
                    <a:lnTo>
                      <a:pt x="25" y="1809"/>
                    </a:lnTo>
                    <a:lnTo>
                      <a:pt x="0" y="1741"/>
                    </a:lnTo>
                    <a:lnTo>
                      <a:pt x="0" y="1712"/>
                    </a:lnTo>
                    <a:lnTo>
                      <a:pt x="25" y="1684"/>
                    </a:lnTo>
                    <a:lnTo>
                      <a:pt x="12" y="1656"/>
                    </a:lnTo>
                    <a:lnTo>
                      <a:pt x="25" y="1641"/>
                    </a:lnTo>
                    <a:lnTo>
                      <a:pt x="33" y="1628"/>
                    </a:lnTo>
                    <a:lnTo>
                      <a:pt x="33" y="1656"/>
                    </a:lnTo>
                    <a:lnTo>
                      <a:pt x="46" y="1641"/>
                    </a:lnTo>
                    <a:lnTo>
                      <a:pt x="58" y="1628"/>
                    </a:lnTo>
                    <a:lnTo>
                      <a:pt x="71" y="1628"/>
                    </a:lnTo>
                    <a:lnTo>
                      <a:pt x="117" y="1628"/>
                    </a:lnTo>
                    <a:lnTo>
                      <a:pt x="107" y="1616"/>
                    </a:lnTo>
                    <a:lnTo>
                      <a:pt x="96" y="1597"/>
                    </a:lnTo>
                    <a:lnTo>
                      <a:pt x="96" y="1585"/>
                    </a:lnTo>
                    <a:lnTo>
                      <a:pt x="58" y="1572"/>
                    </a:lnTo>
                    <a:lnTo>
                      <a:pt x="46" y="1545"/>
                    </a:lnTo>
                    <a:lnTo>
                      <a:pt x="58" y="1545"/>
                    </a:lnTo>
                    <a:lnTo>
                      <a:pt x="83" y="1545"/>
                    </a:lnTo>
                    <a:lnTo>
                      <a:pt x="83" y="1516"/>
                    </a:lnTo>
                    <a:lnTo>
                      <a:pt x="96" y="1504"/>
                    </a:lnTo>
                    <a:lnTo>
                      <a:pt x="107" y="1516"/>
                    </a:lnTo>
                    <a:lnTo>
                      <a:pt x="117" y="1545"/>
                    </a:lnTo>
                    <a:lnTo>
                      <a:pt x="130" y="1572"/>
                    </a:lnTo>
                    <a:lnTo>
                      <a:pt x="191" y="1585"/>
                    </a:lnTo>
                    <a:lnTo>
                      <a:pt x="201" y="1572"/>
                    </a:lnTo>
                    <a:lnTo>
                      <a:pt x="212" y="1585"/>
                    </a:lnTo>
                    <a:lnTo>
                      <a:pt x="225" y="1616"/>
                    </a:lnTo>
                    <a:lnTo>
                      <a:pt x="225" y="1597"/>
                    </a:lnTo>
                    <a:lnTo>
                      <a:pt x="237" y="1572"/>
                    </a:lnTo>
                    <a:lnTo>
                      <a:pt x="225" y="1545"/>
                    </a:lnTo>
                    <a:lnTo>
                      <a:pt x="201" y="1560"/>
                    </a:lnTo>
                    <a:lnTo>
                      <a:pt x="166" y="1560"/>
                    </a:lnTo>
                    <a:lnTo>
                      <a:pt x="155" y="1545"/>
                    </a:lnTo>
                    <a:lnTo>
                      <a:pt x="141" y="1516"/>
                    </a:lnTo>
                    <a:lnTo>
                      <a:pt x="155" y="1516"/>
                    </a:lnTo>
                    <a:lnTo>
                      <a:pt x="155" y="1489"/>
                    </a:lnTo>
                    <a:lnTo>
                      <a:pt x="130" y="1474"/>
                    </a:lnTo>
                    <a:lnTo>
                      <a:pt x="117" y="1474"/>
                    </a:lnTo>
                    <a:lnTo>
                      <a:pt x="130" y="1445"/>
                    </a:lnTo>
                    <a:lnTo>
                      <a:pt x="117" y="1418"/>
                    </a:lnTo>
                    <a:lnTo>
                      <a:pt x="117" y="1389"/>
                    </a:lnTo>
                    <a:lnTo>
                      <a:pt x="141" y="1389"/>
                    </a:lnTo>
                    <a:lnTo>
                      <a:pt x="155" y="1374"/>
                    </a:lnTo>
                    <a:lnTo>
                      <a:pt x="155" y="1345"/>
                    </a:lnTo>
                    <a:lnTo>
                      <a:pt x="225" y="1318"/>
                    </a:lnTo>
                    <a:lnTo>
                      <a:pt x="225" y="1290"/>
                    </a:lnTo>
                    <a:lnTo>
                      <a:pt x="225" y="1275"/>
                    </a:lnTo>
                    <a:lnTo>
                      <a:pt x="237" y="1263"/>
                    </a:lnTo>
                    <a:lnTo>
                      <a:pt x="225" y="1235"/>
                    </a:lnTo>
                    <a:lnTo>
                      <a:pt x="201" y="1247"/>
                    </a:lnTo>
                    <a:lnTo>
                      <a:pt x="178" y="1207"/>
                    </a:lnTo>
                    <a:lnTo>
                      <a:pt x="212" y="1192"/>
                    </a:lnTo>
                    <a:lnTo>
                      <a:pt x="225" y="1163"/>
                    </a:lnTo>
                    <a:lnTo>
                      <a:pt x="250" y="1178"/>
                    </a:lnTo>
                    <a:lnTo>
                      <a:pt x="250" y="1192"/>
                    </a:lnTo>
                    <a:lnTo>
                      <a:pt x="296" y="1207"/>
                    </a:lnTo>
                    <a:lnTo>
                      <a:pt x="332" y="1207"/>
                    </a:lnTo>
                    <a:lnTo>
                      <a:pt x="344" y="1151"/>
                    </a:lnTo>
                    <a:lnTo>
                      <a:pt x="368" y="1122"/>
                    </a:lnTo>
                    <a:lnTo>
                      <a:pt x="391" y="1151"/>
                    </a:lnTo>
                    <a:lnTo>
                      <a:pt x="403" y="1178"/>
                    </a:lnTo>
                    <a:lnTo>
                      <a:pt x="439" y="1192"/>
                    </a:lnTo>
                    <a:lnTo>
                      <a:pt x="427" y="1178"/>
                    </a:lnTo>
                    <a:lnTo>
                      <a:pt x="416" y="1163"/>
                    </a:lnTo>
                    <a:lnTo>
                      <a:pt x="416" y="1151"/>
                    </a:lnTo>
                    <a:lnTo>
                      <a:pt x="439" y="1122"/>
                    </a:lnTo>
                    <a:lnTo>
                      <a:pt x="450" y="1122"/>
                    </a:lnTo>
                    <a:lnTo>
                      <a:pt x="487" y="1136"/>
                    </a:lnTo>
                    <a:lnTo>
                      <a:pt x="545" y="1122"/>
                    </a:lnTo>
                    <a:lnTo>
                      <a:pt x="487" y="1092"/>
                    </a:lnTo>
                    <a:lnTo>
                      <a:pt x="439" y="1080"/>
                    </a:lnTo>
                    <a:lnTo>
                      <a:pt x="403" y="1110"/>
                    </a:lnTo>
                    <a:lnTo>
                      <a:pt x="380" y="1092"/>
                    </a:lnTo>
                    <a:lnTo>
                      <a:pt x="359" y="1092"/>
                    </a:lnTo>
                    <a:lnTo>
                      <a:pt x="319" y="1092"/>
                    </a:lnTo>
                    <a:lnTo>
                      <a:pt x="296" y="1092"/>
                    </a:lnTo>
                    <a:lnTo>
                      <a:pt x="271" y="1080"/>
                    </a:lnTo>
                    <a:lnTo>
                      <a:pt x="284" y="1051"/>
                    </a:lnTo>
                    <a:lnTo>
                      <a:pt x="332" y="995"/>
                    </a:lnTo>
                    <a:lnTo>
                      <a:pt x="344" y="924"/>
                    </a:lnTo>
                    <a:lnTo>
                      <a:pt x="332" y="884"/>
                    </a:lnTo>
                    <a:lnTo>
                      <a:pt x="344" y="869"/>
                    </a:lnTo>
                    <a:lnTo>
                      <a:pt x="332" y="828"/>
                    </a:lnTo>
                    <a:lnTo>
                      <a:pt x="344" y="813"/>
                    </a:lnTo>
                    <a:lnTo>
                      <a:pt x="368" y="799"/>
                    </a:lnTo>
                    <a:lnTo>
                      <a:pt x="368" y="772"/>
                    </a:lnTo>
                    <a:lnTo>
                      <a:pt x="391" y="760"/>
                    </a:lnTo>
                    <a:lnTo>
                      <a:pt x="403" y="743"/>
                    </a:lnTo>
                    <a:lnTo>
                      <a:pt x="427" y="772"/>
                    </a:lnTo>
                    <a:lnTo>
                      <a:pt x="439" y="772"/>
                    </a:lnTo>
                    <a:lnTo>
                      <a:pt x="427" y="716"/>
                    </a:lnTo>
                    <a:lnTo>
                      <a:pt x="439" y="716"/>
                    </a:lnTo>
                    <a:lnTo>
                      <a:pt x="427" y="676"/>
                    </a:lnTo>
                    <a:lnTo>
                      <a:pt x="462" y="617"/>
                    </a:lnTo>
                    <a:lnTo>
                      <a:pt x="462" y="590"/>
                    </a:lnTo>
                    <a:lnTo>
                      <a:pt x="475" y="576"/>
                    </a:lnTo>
                    <a:lnTo>
                      <a:pt x="487" y="534"/>
                    </a:lnTo>
                    <a:lnTo>
                      <a:pt x="521" y="520"/>
                    </a:lnTo>
                    <a:lnTo>
                      <a:pt x="545" y="507"/>
                    </a:lnTo>
                    <a:lnTo>
                      <a:pt x="571" y="490"/>
                    </a:lnTo>
                    <a:lnTo>
                      <a:pt x="593" y="507"/>
                    </a:lnTo>
                    <a:lnTo>
                      <a:pt x="654" y="463"/>
                    </a:lnTo>
                    <a:lnTo>
                      <a:pt x="677" y="463"/>
                    </a:lnTo>
                    <a:lnTo>
                      <a:pt x="721" y="422"/>
                    </a:lnTo>
                    <a:lnTo>
                      <a:pt x="759" y="381"/>
                    </a:lnTo>
                    <a:lnTo>
                      <a:pt x="805" y="338"/>
                    </a:lnTo>
                    <a:lnTo>
                      <a:pt x="866" y="294"/>
                    </a:lnTo>
                    <a:lnTo>
                      <a:pt x="902" y="282"/>
                    </a:lnTo>
                    <a:lnTo>
                      <a:pt x="948" y="267"/>
                    </a:lnTo>
                    <a:lnTo>
                      <a:pt x="984" y="238"/>
                    </a:lnTo>
                    <a:lnTo>
                      <a:pt x="1009" y="255"/>
                    </a:lnTo>
                    <a:lnTo>
                      <a:pt x="1022" y="238"/>
                    </a:lnTo>
                    <a:lnTo>
                      <a:pt x="1054" y="238"/>
                    </a:lnTo>
                    <a:lnTo>
                      <a:pt x="1104" y="255"/>
                    </a:lnTo>
                    <a:lnTo>
                      <a:pt x="1115" y="282"/>
                    </a:lnTo>
                    <a:lnTo>
                      <a:pt x="1138" y="307"/>
                    </a:lnTo>
                    <a:lnTo>
                      <a:pt x="1163" y="322"/>
                    </a:lnTo>
                    <a:lnTo>
                      <a:pt x="1175" y="381"/>
                    </a:lnTo>
                    <a:lnTo>
                      <a:pt x="1184" y="449"/>
                    </a:lnTo>
                    <a:lnTo>
                      <a:pt x="1197" y="507"/>
                    </a:lnTo>
                    <a:lnTo>
                      <a:pt x="1209" y="534"/>
                    </a:lnTo>
                    <a:lnTo>
                      <a:pt x="1197" y="576"/>
                    </a:lnTo>
                    <a:lnTo>
                      <a:pt x="1163" y="605"/>
                    </a:lnTo>
                    <a:lnTo>
                      <a:pt x="1115" y="660"/>
                    </a:lnTo>
                    <a:lnTo>
                      <a:pt x="1079" y="701"/>
                    </a:lnTo>
                    <a:lnTo>
                      <a:pt x="1066" y="716"/>
                    </a:lnTo>
                    <a:lnTo>
                      <a:pt x="1032" y="716"/>
                    </a:lnTo>
                    <a:lnTo>
                      <a:pt x="1009" y="716"/>
                    </a:lnTo>
                    <a:lnTo>
                      <a:pt x="972" y="716"/>
                    </a:lnTo>
                    <a:lnTo>
                      <a:pt x="948" y="688"/>
                    </a:lnTo>
                    <a:lnTo>
                      <a:pt x="938" y="688"/>
                    </a:lnTo>
                    <a:lnTo>
                      <a:pt x="914" y="701"/>
                    </a:lnTo>
                    <a:lnTo>
                      <a:pt x="889" y="731"/>
                    </a:lnTo>
                    <a:lnTo>
                      <a:pt x="875" y="731"/>
                    </a:lnTo>
                    <a:lnTo>
                      <a:pt x="902" y="743"/>
                    </a:lnTo>
                    <a:lnTo>
                      <a:pt x="925" y="731"/>
                    </a:lnTo>
                    <a:lnTo>
                      <a:pt x="925" y="716"/>
                    </a:lnTo>
                    <a:lnTo>
                      <a:pt x="959" y="743"/>
                    </a:lnTo>
                    <a:lnTo>
                      <a:pt x="972" y="760"/>
                    </a:lnTo>
                    <a:lnTo>
                      <a:pt x="1009" y="760"/>
                    </a:lnTo>
                    <a:lnTo>
                      <a:pt x="1043" y="760"/>
                    </a:lnTo>
                    <a:lnTo>
                      <a:pt x="1043" y="799"/>
                    </a:lnTo>
                    <a:lnTo>
                      <a:pt x="1032" y="828"/>
                    </a:lnTo>
                    <a:lnTo>
                      <a:pt x="1043" y="869"/>
                    </a:lnTo>
                    <a:lnTo>
                      <a:pt x="1032" y="884"/>
                    </a:lnTo>
                    <a:lnTo>
                      <a:pt x="997" y="924"/>
                    </a:lnTo>
                    <a:lnTo>
                      <a:pt x="972" y="955"/>
                    </a:lnTo>
                    <a:lnTo>
                      <a:pt x="997" y="955"/>
                    </a:lnTo>
                    <a:lnTo>
                      <a:pt x="1022" y="940"/>
                    </a:lnTo>
                    <a:lnTo>
                      <a:pt x="1043" y="924"/>
                    </a:lnTo>
                    <a:lnTo>
                      <a:pt x="1054" y="899"/>
                    </a:lnTo>
                    <a:lnTo>
                      <a:pt x="1054" y="857"/>
                    </a:lnTo>
                    <a:lnTo>
                      <a:pt x="1066" y="813"/>
                    </a:lnTo>
                    <a:lnTo>
                      <a:pt x="1091" y="828"/>
                    </a:lnTo>
                    <a:lnTo>
                      <a:pt x="1115" y="857"/>
                    </a:lnTo>
                    <a:lnTo>
                      <a:pt x="1127" y="899"/>
                    </a:lnTo>
                    <a:lnTo>
                      <a:pt x="1127" y="955"/>
                    </a:lnTo>
                    <a:lnTo>
                      <a:pt x="1127" y="983"/>
                    </a:lnTo>
                    <a:lnTo>
                      <a:pt x="1127" y="1011"/>
                    </a:lnTo>
                    <a:lnTo>
                      <a:pt x="1138" y="995"/>
                    </a:lnTo>
                    <a:lnTo>
                      <a:pt x="1150" y="955"/>
                    </a:lnTo>
                    <a:lnTo>
                      <a:pt x="1150" y="912"/>
                    </a:lnTo>
                    <a:lnTo>
                      <a:pt x="1138" y="869"/>
                    </a:lnTo>
                    <a:lnTo>
                      <a:pt x="1127" y="857"/>
                    </a:lnTo>
                    <a:lnTo>
                      <a:pt x="1104" y="813"/>
                    </a:lnTo>
                    <a:lnTo>
                      <a:pt x="1066" y="787"/>
                    </a:lnTo>
                    <a:lnTo>
                      <a:pt x="1066" y="760"/>
                    </a:lnTo>
                    <a:lnTo>
                      <a:pt x="1079" y="731"/>
                    </a:lnTo>
                    <a:lnTo>
                      <a:pt x="1104" y="716"/>
                    </a:lnTo>
                    <a:lnTo>
                      <a:pt x="1150" y="676"/>
                    </a:lnTo>
                    <a:lnTo>
                      <a:pt x="1175" y="633"/>
                    </a:lnTo>
                    <a:lnTo>
                      <a:pt x="1209" y="590"/>
                    </a:lnTo>
                    <a:lnTo>
                      <a:pt x="1247" y="561"/>
                    </a:lnTo>
                    <a:lnTo>
                      <a:pt x="1258" y="546"/>
                    </a:lnTo>
                    <a:lnTo>
                      <a:pt x="1268" y="520"/>
                    </a:lnTo>
                    <a:lnTo>
                      <a:pt x="1292" y="507"/>
                    </a:lnTo>
                    <a:lnTo>
                      <a:pt x="1317" y="507"/>
                    </a:lnTo>
                    <a:lnTo>
                      <a:pt x="1329" y="534"/>
                    </a:lnTo>
                    <a:lnTo>
                      <a:pt x="1342" y="576"/>
                    </a:lnTo>
                    <a:lnTo>
                      <a:pt x="1352" y="576"/>
                    </a:lnTo>
                    <a:lnTo>
                      <a:pt x="1342" y="561"/>
                    </a:lnTo>
                    <a:lnTo>
                      <a:pt x="1342" y="534"/>
                    </a:lnTo>
                    <a:lnTo>
                      <a:pt x="1342" y="507"/>
                    </a:lnTo>
                    <a:lnTo>
                      <a:pt x="1342" y="490"/>
                    </a:lnTo>
                    <a:lnTo>
                      <a:pt x="1329" y="476"/>
                    </a:lnTo>
                    <a:lnTo>
                      <a:pt x="1304" y="476"/>
                    </a:lnTo>
                    <a:lnTo>
                      <a:pt x="1279" y="490"/>
                    </a:lnTo>
                    <a:lnTo>
                      <a:pt x="1258" y="490"/>
                    </a:lnTo>
                    <a:lnTo>
                      <a:pt x="1247" y="463"/>
                    </a:lnTo>
                    <a:lnTo>
                      <a:pt x="1234" y="434"/>
                    </a:lnTo>
                    <a:lnTo>
                      <a:pt x="1222" y="405"/>
                    </a:lnTo>
                    <a:lnTo>
                      <a:pt x="1234" y="381"/>
                    </a:lnTo>
                    <a:lnTo>
                      <a:pt x="1258" y="381"/>
                    </a:lnTo>
                    <a:lnTo>
                      <a:pt x="1279" y="393"/>
                    </a:lnTo>
                    <a:lnTo>
                      <a:pt x="1304" y="405"/>
                    </a:lnTo>
                    <a:lnTo>
                      <a:pt x="1365" y="393"/>
                    </a:lnTo>
                    <a:lnTo>
                      <a:pt x="1376" y="393"/>
                    </a:lnTo>
                    <a:lnTo>
                      <a:pt x="1409" y="405"/>
                    </a:lnTo>
                    <a:lnTo>
                      <a:pt x="1447" y="381"/>
                    </a:lnTo>
                    <a:lnTo>
                      <a:pt x="1459" y="363"/>
                    </a:lnTo>
                    <a:lnTo>
                      <a:pt x="1472" y="351"/>
                    </a:lnTo>
                    <a:lnTo>
                      <a:pt x="1483" y="351"/>
                    </a:lnTo>
                    <a:lnTo>
                      <a:pt x="1493" y="338"/>
                    </a:lnTo>
                    <a:lnTo>
                      <a:pt x="1542" y="282"/>
                    </a:lnTo>
                    <a:lnTo>
                      <a:pt x="1554" y="267"/>
                    </a:lnTo>
                    <a:lnTo>
                      <a:pt x="1601" y="238"/>
                    </a:lnTo>
                    <a:lnTo>
                      <a:pt x="1626" y="223"/>
                    </a:lnTo>
                    <a:lnTo>
                      <a:pt x="1685" y="182"/>
                    </a:lnTo>
                    <a:lnTo>
                      <a:pt x="1769" y="126"/>
                    </a:lnTo>
                    <a:lnTo>
                      <a:pt x="1792" y="114"/>
                    </a:lnTo>
                    <a:lnTo>
                      <a:pt x="1826" y="84"/>
                    </a:lnTo>
                    <a:lnTo>
                      <a:pt x="1849" y="70"/>
                    </a:lnTo>
                    <a:lnTo>
                      <a:pt x="1872" y="43"/>
                    </a:lnTo>
                    <a:lnTo>
                      <a:pt x="1885" y="31"/>
                    </a:lnTo>
                    <a:lnTo>
                      <a:pt x="1897" y="31"/>
                    </a:lnTo>
                    <a:lnTo>
                      <a:pt x="1946" y="15"/>
                    </a:lnTo>
                    <a:lnTo>
                      <a:pt x="2005" y="0"/>
                    </a:lnTo>
                    <a:lnTo>
                      <a:pt x="2076" y="0"/>
                    </a:lnTo>
                    <a:lnTo>
                      <a:pt x="2110" y="0"/>
                    </a:lnTo>
                    <a:lnTo>
                      <a:pt x="2133" y="15"/>
                    </a:lnTo>
                    <a:lnTo>
                      <a:pt x="2133" y="31"/>
                    </a:lnTo>
                    <a:lnTo>
                      <a:pt x="2122" y="43"/>
                    </a:lnTo>
                    <a:lnTo>
                      <a:pt x="2122" y="70"/>
                    </a:lnTo>
                    <a:lnTo>
                      <a:pt x="2133" y="55"/>
                    </a:lnTo>
                    <a:lnTo>
                      <a:pt x="2158" y="43"/>
                    </a:lnTo>
                    <a:lnTo>
                      <a:pt x="2181" y="31"/>
                    </a:lnTo>
                    <a:lnTo>
                      <a:pt x="2206" y="43"/>
                    </a:lnTo>
                    <a:lnTo>
                      <a:pt x="2171" y="55"/>
                    </a:lnTo>
                    <a:lnTo>
                      <a:pt x="2171" y="84"/>
                    </a:lnTo>
                    <a:lnTo>
                      <a:pt x="2206" y="70"/>
                    </a:lnTo>
                    <a:lnTo>
                      <a:pt x="2217" y="55"/>
                    </a:lnTo>
                    <a:lnTo>
                      <a:pt x="2264" y="99"/>
                    </a:lnTo>
                    <a:lnTo>
                      <a:pt x="2314" y="114"/>
                    </a:lnTo>
                    <a:lnTo>
                      <a:pt x="2358" y="155"/>
                    </a:lnTo>
                    <a:lnTo>
                      <a:pt x="2419" y="182"/>
                    </a:lnTo>
                    <a:lnTo>
                      <a:pt x="2444" y="211"/>
                    </a:lnTo>
                    <a:lnTo>
                      <a:pt x="2444" y="238"/>
                    </a:lnTo>
                    <a:lnTo>
                      <a:pt x="2432" y="255"/>
                    </a:lnTo>
                    <a:lnTo>
                      <a:pt x="2419" y="267"/>
                    </a:lnTo>
                    <a:lnTo>
                      <a:pt x="2408" y="267"/>
                    </a:lnTo>
                    <a:lnTo>
                      <a:pt x="2396" y="267"/>
                    </a:lnTo>
                    <a:lnTo>
                      <a:pt x="2385" y="238"/>
                    </a:lnTo>
                    <a:lnTo>
                      <a:pt x="2385" y="267"/>
                    </a:lnTo>
                    <a:lnTo>
                      <a:pt x="2385" y="294"/>
                    </a:lnTo>
                    <a:lnTo>
                      <a:pt x="2396" y="294"/>
                    </a:lnTo>
                    <a:lnTo>
                      <a:pt x="2432" y="294"/>
                    </a:lnTo>
                    <a:lnTo>
                      <a:pt x="2455" y="282"/>
                    </a:lnTo>
                    <a:lnTo>
                      <a:pt x="2467" y="282"/>
                    </a:lnTo>
                    <a:lnTo>
                      <a:pt x="2491" y="294"/>
                    </a:lnTo>
                    <a:lnTo>
                      <a:pt x="2501" y="322"/>
                    </a:lnTo>
                    <a:lnTo>
                      <a:pt x="2501" y="338"/>
                    </a:lnTo>
                    <a:lnTo>
                      <a:pt x="2491" y="363"/>
                    </a:lnTo>
                    <a:lnTo>
                      <a:pt x="2501" y="363"/>
                    </a:lnTo>
                    <a:lnTo>
                      <a:pt x="2526" y="381"/>
                    </a:lnTo>
                    <a:lnTo>
                      <a:pt x="2539" y="393"/>
                    </a:lnTo>
                    <a:lnTo>
                      <a:pt x="2560" y="422"/>
                    </a:lnTo>
                    <a:lnTo>
                      <a:pt x="2560" y="434"/>
                    </a:lnTo>
                    <a:lnTo>
                      <a:pt x="2550" y="476"/>
                    </a:lnTo>
                    <a:lnTo>
                      <a:pt x="2539" y="507"/>
                    </a:lnTo>
                    <a:lnTo>
                      <a:pt x="2514" y="546"/>
                    </a:lnTo>
                    <a:lnTo>
                      <a:pt x="2501" y="605"/>
                    </a:lnTo>
                    <a:lnTo>
                      <a:pt x="2491" y="676"/>
                    </a:lnTo>
                    <a:lnTo>
                      <a:pt x="2467" y="701"/>
                    </a:lnTo>
                    <a:lnTo>
                      <a:pt x="2444" y="731"/>
                    </a:lnTo>
                    <a:lnTo>
                      <a:pt x="2419" y="743"/>
                    </a:lnTo>
                    <a:lnTo>
                      <a:pt x="2396" y="772"/>
                    </a:lnTo>
                    <a:lnTo>
                      <a:pt x="2358" y="787"/>
                    </a:lnTo>
                    <a:lnTo>
                      <a:pt x="2335" y="772"/>
                    </a:lnTo>
                    <a:lnTo>
                      <a:pt x="2301" y="743"/>
                    </a:lnTo>
                    <a:lnTo>
                      <a:pt x="2276" y="743"/>
                    </a:lnTo>
                    <a:lnTo>
                      <a:pt x="2251" y="760"/>
                    </a:lnTo>
                    <a:lnTo>
                      <a:pt x="2217" y="760"/>
                    </a:lnTo>
                    <a:lnTo>
                      <a:pt x="2217" y="787"/>
                    </a:lnTo>
                    <a:lnTo>
                      <a:pt x="2242" y="787"/>
                    </a:lnTo>
                    <a:lnTo>
                      <a:pt x="2264" y="772"/>
                    </a:lnTo>
                    <a:lnTo>
                      <a:pt x="2301" y="787"/>
                    </a:lnTo>
                    <a:lnTo>
                      <a:pt x="2301" y="799"/>
                    </a:lnTo>
                    <a:lnTo>
                      <a:pt x="2289" y="813"/>
                    </a:lnTo>
                    <a:lnTo>
                      <a:pt x="2276" y="843"/>
                    </a:lnTo>
                    <a:lnTo>
                      <a:pt x="2276" y="869"/>
                    </a:lnTo>
                    <a:lnTo>
                      <a:pt x="2289" y="857"/>
                    </a:lnTo>
                    <a:lnTo>
                      <a:pt x="2301" y="869"/>
                    </a:lnTo>
                    <a:lnTo>
                      <a:pt x="2301" y="843"/>
                    </a:lnTo>
                    <a:lnTo>
                      <a:pt x="2314" y="828"/>
                    </a:lnTo>
                    <a:lnTo>
                      <a:pt x="2346" y="828"/>
                    </a:lnTo>
                    <a:lnTo>
                      <a:pt x="2358" y="828"/>
                    </a:lnTo>
                    <a:lnTo>
                      <a:pt x="2371" y="828"/>
                    </a:lnTo>
                    <a:lnTo>
                      <a:pt x="2408" y="813"/>
                    </a:lnTo>
                    <a:lnTo>
                      <a:pt x="2455" y="772"/>
                    </a:lnTo>
                    <a:lnTo>
                      <a:pt x="2476" y="743"/>
                    </a:lnTo>
                    <a:lnTo>
                      <a:pt x="2501" y="731"/>
                    </a:lnTo>
                    <a:lnTo>
                      <a:pt x="2526" y="701"/>
                    </a:lnTo>
                    <a:lnTo>
                      <a:pt x="2539" y="676"/>
                    </a:lnTo>
                    <a:lnTo>
                      <a:pt x="2550" y="590"/>
                    </a:lnTo>
                    <a:lnTo>
                      <a:pt x="2598" y="576"/>
                    </a:lnTo>
                    <a:lnTo>
                      <a:pt x="2621" y="576"/>
                    </a:lnTo>
                    <a:lnTo>
                      <a:pt x="2644" y="576"/>
                    </a:lnTo>
                    <a:lnTo>
                      <a:pt x="2680" y="590"/>
                    </a:lnTo>
                    <a:lnTo>
                      <a:pt x="2691" y="617"/>
                    </a:lnTo>
                    <a:lnTo>
                      <a:pt x="2691" y="645"/>
                    </a:lnTo>
                    <a:lnTo>
                      <a:pt x="2705" y="660"/>
                    </a:lnTo>
                    <a:lnTo>
                      <a:pt x="2728" y="660"/>
                    </a:lnTo>
                    <a:lnTo>
                      <a:pt x="2752" y="676"/>
                    </a:lnTo>
                    <a:lnTo>
                      <a:pt x="2777" y="676"/>
                    </a:lnTo>
                    <a:lnTo>
                      <a:pt x="2798" y="676"/>
                    </a:lnTo>
                    <a:lnTo>
                      <a:pt x="2810" y="676"/>
                    </a:lnTo>
                    <a:lnTo>
                      <a:pt x="2821" y="688"/>
                    </a:lnTo>
                    <a:lnTo>
                      <a:pt x="2859" y="701"/>
                    </a:lnTo>
                    <a:lnTo>
                      <a:pt x="2893" y="701"/>
                    </a:lnTo>
                    <a:lnTo>
                      <a:pt x="2918" y="716"/>
                    </a:lnTo>
                    <a:lnTo>
                      <a:pt x="2930" y="716"/>
                    </a:lnTo>
                    <a:lnTo>
                      <a:pt x="2943" y="731"/>
                    </a:lnTo>
                    <a:lnTo>
                      <a:pt x="2952" y="743"/>
                    </a:lnTo>
                    <a:lnTo>
                      <a:pt x="2952" y="760"/>
                    </a:lnTo>
                    <a:lnTo>
                      <a:pt x="2943" y="743"/>
                    </a:lnTo>
                    <a:lnTo>
                      <a:pt x="2869" y="772"/>
                    </a:lnTo>
                    <a:lnTo>
                      <a:pt x="2835" y="799"/>
                    </a:lnTo>
                    <a:lnTo>
                      <a:pt x="2810" y="813"/>
                    </a:lnTo>
                    <a:lnTo>
                      <a:pt x="2810" y="843"/>
                    </a:lnTo>
                    <a:lnTo>
                      <a:pt x="2821" y="884"/>
                    </a:lnTo>
                    <a:lnTo>
                      <a:pt x="2810" y="912"/>
                    </a:lnTo>
                    <a:lnTo>
                      <a:pt x="2785" y="940"/>
                    </a:lnTo>
                    <a:lnTo>
                      <a:pt x="2777" y="967"/>
                    </a:lnTo>
                    <a:lnTo>
                      <a:pt x="2798" y="967"/>
                    </a:lnTo>
                    <a:lnTo>
                      <a:pt x="2810" y="955"/>
                    </a:lnTo>
                    <a:lnTo>
                      <a:pt x="2821" y="924"/>
                    </a:lnTo>
                    <a:lnTo>
                      <a:pt x="2821" y="899"/>
                    </a:lnTo>
                    <a:lnTo>
                      <a:pt x="2835" y="869"/>
                    </a:lnTo>
                    <a:lnTo>
                      <a:pt x="2846" y="843"/>
                    </a:lnTo>
                    <a:lnTo>
                      <a:pt x="2869" y="813"/>
                    </a:lnTo>
                    <a:lnTo>
                      <a:pt x="2907" y="799"/>
                    </a:lnTo>
                    <a:lnTo>
                      <a:pt x="2918" y="787"/>
                    </a:lnTo>
                    <a:lnTo>
                      <a:pt x="2952" y="787"/>
                    </a:lnTo>
                    <a:lnTo>
                      <a:pt x="2977" y="799"/>
                    </a:lnTo>
                    <a:lnTo>
                      <a:pt x="2989" y="760"/>
                    </a:lnTo>
                    <a:lnTo>
                      <a:pt x="3002" y="743"/>
                    </a:lnTo>
                    <a:lnTo>
                      <a:pt x="2989" y="716"/>
                    </a:lnTo>
                    <a:lnTo>
                      <a:pt x="3002" y="688"/>
                    </a:lnTo>
                    <a:lnTo>
                      <a:pt x="3023" y="676"/>
                    </a:lnTo>
                    <a:lnTo>
                      <a:pt x="3036" y="660"/>
                    </a:lnTo>
                    <a:lnTo>
                      <a:pt x="3036" y="617"/>
                    </a:lnTo>
                    <a:lnTo>
                      <a:pt x="3059" y="617"/>
                    </a:lnTo>
                    <a:lnTo>
                      <a:pt x="3059" y="605"/>
                    </a:lnTo>
                    <a:lnTo>
                      <a:pt x="3084" y="590"/>
                    </a:lnTo>
                    <a:lnTo>
                      <a:pt x="3096" y="590"/>
                    </a:lnTo>
                    <a:lnTo>
                      <a:pt x="3120" y="617"/>
                    </a:lnTo>
                    <a:lnTo>
                      <a:pt x="3130" y="645"/>
                    </a:lnTo>
                    <a:lnTo>
                      <a:pt x="3120" y="688"/>
                    </a:lnTo>
                    <a:lnTo>
                      <a:pt x="3107" y="716"/>
                    </a:lnTo>
                    <a:lnTo>
                      <a:pt x="3120" y="760"/>
                    </a:lnTo>
                    <a:lnTo>
                      <a:pt x="3130" y="772"/>
                    </a:lnTo>
                    <a:lnTo>
                      <a:pt x="3155" y="799"/>
                    </a:lnTo>
                    <a:lnTo>
                      <a:pt x="3179" y="828"/>
                    </a:lnTo>
                    <a:lnTo>
                      <a:pt x="3189" y="857"/>
                    </a:lnTo>
                    <a:lnTo>
                      <a:pt x="3179" y="869"/>
                    </a:lnTo>
                    <a:lnTo>
                      <a:pt x="3179" y="884"/>
                    </a:lnTo>
                    <a:lnTo>
                      <a:pt x="3189" y="899"/>
                    </a:lnTo>
                    <a:lnTo>
                      <a:pt x="3189" y="912"/>
                    </a:lnTo>
                    <a:lnTo>
                      <a:pt x="3179" y="955"/>
                    </a:lnTo>
                    <a:lnTo>
                      <a:pt x="3155" y="967"/>
                    </a:lnTo>
                    <a:lnTo>
                      <a:pt x="3143" y="995"/>
                    </a:lnTo>
                    <a:lnTo>
                      <a:pt x="3130" y="1023"/>
                    </a:lnTo>
                    <a:lnTo>
                      <a:pt x="3120" y="1051"/>
                    </a:lnTo>
                    <a:lnTo>
                      <a:pt x="3071" y="1051"/>
                    </a:lnTo>
                    <a:lnTo>
                      <a:pt x="3036" y="1066"/>
                    </a:lnTo>
                    <a:lnTo>
                      <a:pt x="3048" y="1066"/>
                    </a:lnTo>
                    <a:lnTo>
                      <a:pt x="3096" y="1066"/>
                    </a:lnTo>
                    <a:lnTo>
                      <a:pt x="3120" y="1066"/>
                    </a:lnTo>
                    <a:lnTo>
                      <a:pt x="3130" y="1066"/>
                    </a:lnTo>
                    <a:lnTo>
                      <a:pt x="3143" y="1036"/>
                    </a:lnTo>
                    <a:lnTo>
                      <a:pt x="3155" y="1011"/>
                    </a:lnTo>
                    <a:lnTo>
                      <a:pt x="3179" y="995"/>
                    </a:lnTo>
                    <a:lnTo>
                      <a:pt x="3202" y="983"/>
                    </a:lnTo>
                    <a:lnTo>
                      <a:pt x="3239" y="967"/>
                    </a:lnTo>
                    <a:lnTo>
                      <a:pt x="3309" y="983"/>
                    </a:lnTo>
                    <a:lnTo>
                      <a:pt x="3343" y="995"/>
                    </a:lnTo>
                    <a:lnTo>
                      <a:pt x="3356" y="1011"/>
                    </a:lnTo>
                    <a:lnTo>
                      <a:pt x="3381" y="1011"/>
                    </a:lnTo>
                    <a:lnTo>
                      <a:pt x="3486" y="1066"/>
                    </a:lnTo>
                    <a:lnTo>
                      <a:pt x="3547" y="1122"/>
                    </a:lnTo>
                    <a:lnTo>
                      <a:pt x="3570" y="1151"/>
                    </a:lnTo>
                    <a:lnTo>
                      <a:pt x="3556" y="1163"/>
                    </a:lnTo>
                    <a:lnTo>
                      <a:pt x="3547" y="1163"/>
                    </a:lnTo>
                    <a:lnTo>
                      <a:pt x="3511" y="1163"/>
                    </a:lnTo>
                    <a:lnTo>
                      <a:pt x="3523" y="1192"/>
                    </a:lnTo>
                    <a:lnTo>
                      <a:pt x="3534" y="1207"/>
                    </a:lnTo>
                    <a:lnTo>
                      <a:pt x="3556" y="1192"/>
                    </a:lnTo>
                    <a:lnTo>
                      <a:pt x="3556" y="1207"/>
                    </a:lnTo>
                    <a:lnTo>
                      <a:pt x="3570" y="1207"/>
                    </a:lnTo>
                    <a:lnTo>
                      <a:pt x="3570" y="1178"/>
                    </a:lnTo>
                    <a:lnTo>
                      <a:pt x="3581" y="1163"/>
                    </a:lnTo>
                    <a:lnTo>
                      <a:pt x="3606" y="1136"/>
                    </a:lnTo>
                    <a:lnTo>
                      <a:pt x="3618" y="1136"/>
                    </a:lnTo>
                    <a:lnTo>
                      <a:pt x="3652" y="1122"/>
                    </a:lnTo>
                    <a:lnTo>
                      <a:pt x="3700" y="1122"/>
                    </a:lnTo>
                    <a:lnTo>
                      <a:pt x="3736" y="1110"/>
                    </a:lnTo>
                    <a:lnTo>
                      <a:pt x="3784" y="1066"/>
                    </a:lnTo>
                    <a:lnTo>
                      <a:pt x="3795" y="1036"/>
                    </a:lnTo>
                    <a:lnTo>
                      <a:pt x="3795" y="1011"/>
                    </a:lnTo>
                    <a:lnTo>
                      <a:pt x="3818" y="967"/>
                    </a:lnTo>
                    <a:lnTo>
                      <a:pt x="3856" y="983"/>
                    </a:lnTo>
                    <a:lnTo>
                      <a:pt x="3877" y="967"/>
                    </a:lnTo>
                    <a:lnTo>
                      <a:pt x="3902" y="967"/>
                    </a:lnTo>
                    <a:lnTo>
                      <a:pt x="3949" y="983"/>
                    </a:lnTo>
                    <a:lnTo>
                      <a:pt x="3961" y="1011"/>
                    </a:lnTo>
                    <a:lnTo>
                      <a:pt x="3972" y="1011"/>
                    </a:lnTo>
                    <a:lnTo>
                      <a:pt x="3986" y="1023"/>
                    </a:lnTo>
                    <a:lnTo>
                      <a:pt x="4020" y="1023"/>
                    </a:lnTo>
                    <a:lnTo>
                      <a:pt x="4033" y="1011"/>
                    </a:lnTo>
                    <a:lnTo>
                      <a:pt x="4079" y="1011"/>
                    </a:lnTo>
                    <a:lnTo>
                      <a:pt x="4090" y="1023"/>
                    </a:lnTo>
                    <a:lnTo>
                      <a:pt x="4102" y="1066"/>
                    </a:lnTo>
                    <a:lnTo>
                      <a:pt x="4102" y="1110"/>
                    </a:lnTo>
                    <a:lnTo>
                      <a:pt x="4102" y="1151"/>
                    </a:lnTo>
                    <a:lnTo>
                      <a:pt x="4090" y="1178"/>
                    </a:lnTo>
                    <a:lnTo>
                      <a:pt x="4115" y="1235"/>
                    </a:lnTo>
                    <a:lnTo>
                      <a:pt x="4128" y="1275"/>
                    </a:lnTo>
                    <a:lnTo>
                      <a:pt x="4115" y="1389"/>
                    </a:lnTo>
                    <a:lnTo>
                      <a:pt x="4102" y="1404"/>
                    </a:lnTo>
                    <a:lnTo>
                      <a:pt x="4079" y="1445"/>
                    </a:lnTo>
                    <a:lnTo>
                      <a:pt x="4069" y="1460"/>
                    </a:lnTo>
                    <a:lnTo>
                      <a:pt x="4079" y="1504"/>
                    </a:lnTo>
                    <a:lnTo>
                      <a:pt x="4069" y="1530"/>
                    </a:lnTo>
                    <a:lnTo>
                      <a:pt x="4058" y="1572"/>
                    </a:lnTo>
                    <a:lnTo>
                      <a:pt x="4044" y="1597"/>
                    </a:lnTo>
                    <a:lnTo>
                      <a:pt x="4010" y="1616"/>
                    </a:lnTo>
                    <a:lnTo>
                      <a:pt x="4010" y="1628"/>
                    </a:lnTo>
                    <a:lnTo>
                      <a:pt x="4020" y="1641"/>
                    </a:lnTo>
                    <a:lnTo>
                      <a:pt x="4010" y="1684"/>
                    </a:lnTo>
                    <a:lnTo>
                      <a:pt x="3986" y="1697"/>
                    </a:lnTo>
                    <a:lnTo>
                      <a:pt x="3972" y="1753"/>
                    </a:lnTo>
                    <a:lnTo>
                      <a:pt x="3961" y="1783"/>
                    </a:lnTo>
                    <a:lnTo>
                      <a:pt x="3936" y="1809"/>
                    </a:lnTo>
                    <a:lnTo>
                      <a:pt x="3902" y="1809"/>
                    </a:lnTo>
                    <a:lnTo>
                      <a:pt x="3843" y="1809"/>
                    </a:lnTo>
                    <a:lnTo>
                      <a:pt x="3795" y="1824"/>
                    </a:lnTo>
                    <a:lnTo>
                      <a:pt x="3784" y="1865"/>
                    </a:lnTo>
                    <a:lnTo>
                      <a:pt x="3747" y="1908"/>
                    </a:lnTo>
                    <a:lnTo>
                      <a:pt x="3736" y="1908"/>
                    </a:lnTo>
                    <a:lnTo>
                      <a:pt x="3677" y="1920"/>
                    </a:lnTo>
                    <a:lnTo>
                      <a:pt x="3640" y="1964"/>
                    </a:lnTo>
                    <a:lnTo>
                      <a:pt x="3581" y="1991"/>
                    </a:lnTo>
                    <a:lnTo>
                      <a:pt x="3547" y="1991"/>
                    </a:lnTo>
                    <a:lnTo>
                      <a:pt x="3498" y="1991"/>
                    </a:lnTo>
                    <a:lnTo>
                      <a:pt x="3473" y="2006"/>
                    </a:lnTo>
                    <a:lnTo>
                      <a:pt x="3414" y="2006"/>
                    </a:lnTo>
                    <a:lnTo>
                      <a:pt x="3368" y="2035"/>
                    </a:lnTo>
                    <a:lnTo>
                      <a:pt x="3284" y="2074"/>
                    </a:lnTo>
                    <a:lnTo>
                      <a:pt x="3214" y="2091"/>
                    </a:lnTo>
                    <a:lnTo>
                      <a:pt x="3155" y="2091"/>
                    </a:lnTo>
                    <a:lnTo>
                      <a:pt x="3107" y="2103"/>
                    </a:lnTo>
                    <a:lnTo>
                      <a:pt x="3059" y="2132"/>
                    </a:lnTo>
                    <a:lnTo>
                      <a:pt x="3002" y="2162"/>
                    </a:lnTo>
                    <a:lnTo>
                      <a:pt x="2930" y="2187"/>
                    </a:lnTo>
                    <a:lnTo>
                      <a:pt x="2835" y="2203"/>
                    </a:lnTo>
                    <a:lnTo>
                      <a:pt x="2785" y="2187"/>
                    </a:lnTo>
                    <a:lnTo>
                      <a:pt x="2705" y="2203"/>
                    </a:lnTo>
                    <a:lnTo>
                      <a:pt x="2644" y="2203"/>
                    </a:lnTo>
                    <a:lnTo>
                      <a:pt x="2621" y="2203"/>
                    </a:lnTo>
                    <a:lnTo>
                      <a:pt x="2609" y="2187"/>
                    </a:lnTo>
                    <a:lnTo>
                      <a:pt x="2609" y="2162"/>
                    </a:lnTo>
                    <a:lnTo>
                      <a:pt x="2621" y="2147"/>
                    </a:lnTo>
                    <a:lnTo>
                      <a:pt x="2644" y="2132"/>
                    </a:lnTo>
                    <a:lnTo>
                      <a:pt x="2680" y="2147"/>
                    </a:lnTo>
                    <a:lnTo>
                      <a:pt x="2728" y="2132"/>
                    </a:lnTo>
                    <a:lnTo>
                      <a:pt x="2764" y="2118"/>
                    </a:lnTo>
                    <a:lnTo>
                      <a:pt x="2798" y="2062"/>
                    </a:lnTo>
                    <a:lnTo>
                      <a:pt x="2777" y="2074"/>
                    </a:lnTo>
                    <a:lnTo>
                      <a:pt x="2728" y="2103"/>
                    </a:lnTo>
                    <a:lnTo>
                      <a:pt x="2680" y="2103"/>
                    </a:lnTo>
                    <a:lnTo>
                      <a:pt x="2669" y="2091"/>
                    </a:lnTo>
                    <a:lnTo>
                      <a:pt x="2669" y="2050"/>
                    </a:lnTo>
                    <a:lnTo>
                      <a:pt x="2634" y="2062"/>
                    </a:lnTo>
                    <a:lnTo>
                      <a:pt x="2598" y="2091"/>
                    </a:lnTo>
                    <a:lnTo>
                      <a:pt x="2598" y="2132"/>
                    </a:lnTo>
                    <a:lnTo>
                      <a:pt x="2573" y="2162"/>
                    </a:lnTo>
                    <a:lnTo>
                      <a:pt x="2573" y="2203"/>
                    </a:lnTo>
                    <a:lnTo>
                      <a:pt x="2584" y="2231"/>
                    </a:lnTo>
                    <a:lnTo>
                      <a:pt x="2539" y="2258"/>
                    </a:lnTo>
                    <a:lnTo>
                      <a:pt x="2491" y="2258"/>
                    </a:lnTo>
                    <a:lnTo>
                      <a:pt x="2455" y="2258"/>
                    </a:lnTo>
                    <a:lnTo>
                      <a:pt x="2467" y="2274"/>
                    </a:lnTo>
                    <a:lnTo>
                      <a:pt x="2467" y="2287"/>
                    </a:lnTo>
                    <a:lnTo>
                      <a:pt x="2467" y="2329"/>
                    </a:lnTo>
                    <a:lnTo>
                      <a:pt x="2444" y="2344"/>
                    </a:lnTo>
                    <a:lnTo>
                      <a:pt x="2444" y="2357"/>
                    </a:lnTo>
                    <a:lnTo>
                      <a:pt x="2467" y="2385"/>
                    </a:lnTo>
                    <a:lnTo>
                      <a:pt x="2514" y="2370"/>
                    </a:lnTo>
                    <a:lnTo>
                      <a:pt x="2539" y="2344"/>
                    </a:lnTo>
                    <a:lnTo>
                      <a:pt x="2550" y="2301"/>
                    </a:lnTo>
                    <a:lnTo>
                      <a:pt x="2573" y="2314"/>
                    </a:lnTo>
                    <a:lnTo>
                      <a:pt x="2573" y="2329"/>
                    </a:lnTo>
                    <a:lnTo>
                      <a:pt x="2550" y="2370"/>
                    </a:lnTo>
                    <a:lnTo>
                      <a:pt x="2526" y="2456"/>
                    </a:lnTo>
                    <a:lnTo>
                      <a:pt x="2514" y="2497"/>
                    </a:lnTo>
                    <a:lnTo>
                      <a:pt x="2491" y="2482"/>
                    </a:lnTo>
                    <a:lnTo>
                      <a:pt x="2476" y="2456"/>
                    </a:lnTo>
                    <a:lnTo>
                      <a:pt x="2432" y="2441"/>
                    </a:lnTo>
                    <a:lnTo>
                      <a:pt x="2419" y="2456"/>
                    </a:lnTo>
                    <a:lnTo>
                      <a:pt x="2408" y="2470"/>
                    </a:lnTo>
                    <a:lnTo>
                      <a:pt x="2432" y="2497"/>
                    </a:lnTo>
                    <a:lnTo>
                      <a:pt x="2419" y="2541"/>
                    </a:lnTo>
                    <a:lnTo>
                      <a:pt x="2432" y="2541"/>
                    </a:lnTo>
                    <a:lnTo>
                      <a:pt x="2444" y="2553"/>
                    </a:lnTo>
                    <a:lnTo>
                      <a:pt x="2432" y="2581"/>
                    </a:lnTo>
                    <a:lnTo>
                      <a:pt x="2444" y="2609"/>
                    </a:lnTo>
                    <a:lnTo>
                      <a:pt x="2408" y="2568"/>
                    </a:lnTo>
                    <a:lnTo>
                      <a:pt x="2396" y="2541"/>
                    </a:lnTo>
                    <a:lnTo>
                      <a:pt x="2358" y="2512"/>
                    </a:lnTo>
                    <a:lnTo>
                      <a:pt x="2371" y="2553"/>
                    </a:lnTo>
                    <a:lnTo>
                      <a:pt x="2385" y="2581"/>
                    </a:lnTo>
                    <a:lnTo>
                      <a:pt x="2346" y="2541"/>
                    </a:lnTo>
                    <a:lnTo>
                      <a:pt x="2324" y="2526"/>
                    </a:lnTo>
                    <a:lnTo>
                      <a:pt x="2264" y="2526"/>
                    </a:lnTo>
                    <a:lnTo>
                      <a:pt x="2264" y="2512"/>
                    </a:lnTo>
                    <a:lnTo>
                      <a:pt x="2276" y="2497"/>
                    </a:lnTo>
                    <a:lnTo>
                      <a:pt x="2289" y="2482"/>
                    </a:lnTo>
                    <a:lnTo>
                      <a:pt x="2251" y="2470"/>
                    </a:lnTo>
                    <a:lnTo>
                      <a:pt x="2242" y="2512"/>
                    </a:lnTo>
                    <a:lnTo>
                      <a:pt x="2230" y="2526"/>
                    </a:lnTo>
                    <a:lnTo>
                      <a:pt x="2181" y="2541"/>
                    </a:lnTo>
                    <a:lnTo>
                      <a:pt x="2171" y="2526"/>
                    </a:lnTo>
                    <a:lnTo>
                      <a:pt x="2146" y="2553"/>
                    </a:lnTo>
                    <a:lnTo>
                      <a:pt x="2158" y="2568"/>
                    </a:lnTo>
                    <a:lnTo>
                      <a:pt x="2133" y="2581"/>
                    </a:lnTo>
                    <a:lnTo>
                      <a:pt x="2101" y="2581"/>
                    </a:lnTo>
                    <a:lnTo>
                      <a:pt x="2101" y="2568"/>
                    </a:lnTo>
                    <a:lnTo>
                      <a:pt x="2087" y="2541"/>
                    </a:lnTo>
                    <a:lnTo>
                      <a:pt x="2064" y="2553"/>
                    </a:lnTo>
                    <a:lnTo>
                      <a:pt x="2030" y="2553"/>
                    </a:lnTo>
                    <a:lnTo>
                      <a:pt x="2005" y="2512"/>
                    </a:lnTo>
                    <a:lnTo>
                      <a:pt x="2005" y="2526"/>
                    </a:lnTo>
                    <a:lnTo>
                      <a:pt x="1992" y="2512"/>
                    </a:lnTo>
                    <a:lnTo>
                      <a:pt x="1969" y="2541"/>
                    </a:lnTo>
                    <a:lnTo>
                      <a:pt x="1946" y="2541"/>
                    </a:lnTo>
                    <a:lnTo>
                      <a:pt x="1935" y="2497"/>
                    </a:lnTo>
                    <a:lnTo>
                      <a:pt x="1910" y="2456"/>
                    </a:lnTo>
                    <a:lnTo>
                      <a:pt x="1897" y="2482"/>
                    </a:lnTo>
                    <a:lnTo>
                      <a:pt x="1922" y="2512"/>
                    </a:lnTo>
                    <a:lnTo>
                      <a:pt x="1935" y="2526"/>
                    </a:lnTo>
                    <a:lnTo>
                      <a:pt x="1935" y="2553"/>
                    </a:lnTo>
                    <a:lnTo>
                      <a:pt x="1922" y="2553"/>
                    </a:lnTo>
                    <a:lnTo>
                      <a:pt x="1872" y="2526"/>
                    </a:lnTo>
                    <a:lnTo>
                      <a:pt x="1849" y="2482"/>
                    </a:lnTo>
                    <a:lnTo>
                      <a:pt x="1838" y="2470"/>
                    </a:lnTo>
                    <a:lnTo>
                      <a:pt x="1792" y="2414"/>
                    </a:lnTo>
                    <a:lnTo>
                      <a:pt x="1754" y="2414"/>
                    </a:lnTo>
                    <a:lnTo>
                      <a:pt x="1731" y="2400"/>
                    </a:lnTo>
                    <a:lnTo>
                      <a:pt x="1672" y="2357"/>
                    </a:lnTo>
                    <a:lnTo>
                      <a:pt x="1672" y="2329"/>
                    </a:lnTo>
                    <a:lnTo>
                      <a:pt x="1636" y="2274"/>
                    </a:lnTo>
                    <a:lnTo>
                      <a:pt x="1601" y="2245"/>
                    </a:lnTo>
                    <a:lnTo>
                      <a:pt x="1554" y="2218"/>
                    </a:lnTo>
                    <a:lnTo>
                      <a:pt x="1506" y="2218"/>
                    </a:lnTo>
                    <a:lnTo>
                      <a:pt x="1459" y="2174"/>
                    </a:lnTo>
                    <a:lnTo>
                      <a:pt x="1436" y="2162"/>
                    </a:lnTo>
                    <a:lnTo>
                      <a:pt x="1409" y="2132"/>
                    </a:lnTo>
                    <a:lnTo>
                      <a:pt x="1399" y="2103"/>
                    </a:lnTo>
                    <a:lnTo>
                      <a:pt x="1399" y="2091"/>
                    </a:lnTo>
                    <a:lnTo>
                      <a:pt x="1388" y="2050"/>
                    </a:lnTo>
                    <a:lnTo>
                      <a:pt x="1365" y="2020"/>
                    </a:lnTo>
                    <a:lnTo>
                      <a:pt x="1352" y="1991"/>
                    </a:lnTo>
                    <a:lnTo>
                      <a:pt x="1317" y="1991"/>
                    </a:lnTo>
                    <a:lnTo>
                      <a:pt x="1304" y="1979"/>
                    </a:lnTo>
                    <a:lnTo>
                      <a:pt x="1304" y="1964"/>
                    </a:lnTo>
                    <a:lnTo>
                      <a:pt x="1329" y="1908"/>
                    </a:lnTo>
                    <a:lnTo>
                      <a:pt x="1279" y="1880"/>
                    </a:lnTo>
                    <a:lnTo>
                      <a:pt x="1234" y="1865"/>
                    </a:lnTo>
                    <a:lnTo>
                      <a:pt x="1197" y="1880"/>
                    </a:lnTo>
                    <a:lnTo>
                      <a:pt x="1184" y="1908"/>
                    </a:lnTo>
                    <a:lnTo>
                      <a:pt x="1184" y="1948"/>
                    </a:lnTo>
                    <a:lnTo>
                      <a:pt x="1197" y="1991"/>
                    </a:lnTo>
                    <a:lnTo>
                      <a:pt x="1222" y="2035"/>
                    </a:lnTo>
                    <a:lnTo>
                      <a:pt x="1268" y="2091"/>
                    </a:lnTo>
                    <a:lnTo>
                      <a:pt x="1279" y="2074"/>
                    </a:lnTo>
                    <a:lnTo>
                      <a:pt x="1304" y="2062"/>
                    </a:lnTo>
                    <a:lnTo>
                      <a:pt x="1292" y="2050"/>
                    </a:lnTo>
                    <a:lnTo>
                      <a:pt x="1292" y="2035"/>
                    </a:lnTo>
                    <a:lnTo>
                      <a:pt x="1304" y="2020"/>
                    </a:lnTo>
                    <a:lnTo>
                      <a:pt x="1352" y="2050"/>
                    </a:lnTo>
                    <a:lnTo>
                      <a:pt x="1365" y="2074"/>
                    </a:lnTo>
                    <a:lnTo>
                      <a:pt x="1376" y="2103"/>
                    </a:lnTo>
                    <a:lnTo>
                      <a:pt x="1388" y="2132"/>
                    </a:lnTo>
                    <a:lnTo>
                      <a:pt x="1399" y="2162"/>
                    </a:lnTo>
                    <a:lnTo>
                      <a:pt x="1352" y="2162"/>
                    </a:lnTo>
                    <a:lnTo>
                      <a:pt x="1304" y="2147"/>
                    </a:lnTo>
                    <a:lnTo>
                      <a:pt x="1279" y="2147"/>
                    </a:lnTo>
                    <a:lnTo>
                      <a:pt x="1268" y="2118"/>
                    </a:lnTo>
                    <a:lnTo>
                      <a:pt x="1234" y="2132"/>
                    </a:lnTo>
                    <a:lnTo>
                      <a:pt x="1184" y="2147"/>
                    </a:lnTo>
                    <a:lnTo>
                      <a:pt x="1150" y="2132"/>
                    </a:lnTo>
                    <a:lnTo>
                      <a:pt x="1104" y="2091"/>
                    </a:lnTo>
                    <a:lnTo>
                      <a:pt x="1079" y="2074"/>
                    </a:lnTo>
                    <a:lnTo>
                      <a:pt x="1104" y="2062"/>
                    </a:lnTo>
                    <a:lnTo>
                      <a:pt x="1127" y="2062"/>
                    </a:lnTo>
                    <a:lnTo>
                      <a:pt x="1127" y="2050"/>
                    </a:lnTo>
                    <a:lnTo>
                      <a:pt x="1127" y="2035"/>
                    </a:lnTo>
                    <a:lnTo>
                      <a:pt x="1079" y="2050"/>
                    </a:lnTo>
                    <a:lnTo>
                      <a:pt x="1066" y="1991"/>
                    </a:lnTo>
                    <a:lnTo>
                      <a:pt x="1066" y="1948"/>
                    </a:lnTo>
                    <a:lnTo>
                      <a:pt x="1104" y="1908"/>
                    </a:lnTo>
                    <a:lnTo>
                      <a:pt x="1115" y="1880"/>
                    </a:lnTo>
                    <a:lnTo>
                      <a:pt x="1127" y="1824"/>
                    </a:lnTo>
                    <a:lnTo>
                      <a:pt x="1127" y="1783"/>
                    </a:lnTo>
                    <a:lnTo>
                      <a:pt x="1115" y="1753"/>
                    </a:lnTo>
                    <a:lnTo>
                      <a:pt x="1091" y="1753"/>
                    </a:lnTo>
                    <a:lnTo>
                      <a:pt x="1115" y="1783"/>
                    </a:lnTo>
                    <a:lnTo>
                      <a:pt x="1115" y="1809"/>
                    </a:lnTo>
                    <a:lnTo>
                      <a:pt x="1104" y="1851"/>
                    </a:lnTo>
                    <a:lnTo>
                      <a:pt x="1079" y="1895"/>
                    </a:lnTo>
                    <a:lnTo>
                      <a:pt x="1043" y="1936"/>
                    </a:lnTo>
                    <a:lnTo>
                      <a:pt x="1032" y="1964"/>
                    </a:lnTo>
                    <a:lnTo>
                      <a:pt x="1022" y="1991"/>
                    </a:lnTo>
                    <a:lnTo>
                      <a:pt x="1009" y="2020"/>
                    </a:lnTo>
                    <a:lnTo>
                      <a:pt x="1009" y="2050"/>
                    </a:lnTo>
                    <a:lnTo>
                      <a:pt x="1022" y="2020"/>
                    </a:lnTo>
                    <a:lnTo>
                      <a:pt x="1043" y="2050"/>
                    </a:lnTo>
                    <a:lnTo>
                      <a:pt x="1043" y="2074"/>
                    </a:lnTo>
                    <a:lnTo>
                      <a:pt x="1009" y="2074"/>
                    </a:lnTo>
                    <a:lnTo>
                      <a:pt x="972" y="2050"/>
                    </a:lnTo>
                    <a:lnTo>
                      <a:pt x="959" y="2006"/>
                    </a:lnTo>
                    <a:lnTo>
                      <a:pt x="925" y="1991"/>
                    </a:lnTo>
                    <a:lnTo>
                      <a:pt x="902" y="1991"/>
                    </a:lnTo>
                    <a:lnTo>
                      <a:pt x="866" y="1991"/>
                    </a:lnTo>
                    <a:lnTo>
                      <a:pt x="830" y="2050"/>
                    </a:lnTo>
                    <a:lnTo>
                      <a:pt x="830" y="2074"/>
                    </a:lnTo>
                    <a:lnTo>
                      <a:pt x="805" y="2091"/>
                    </a:lnTo>
                    <a:lnTo>
                      <a:pt x="784" y="2074"/>
                    </a:lnTo>
                    <a:lnTo>
                      <a:pt x="770" y="2062"/>
                    </a:lnTo>
                    <a:lnTo>
                      <a:pt x="734" y="2050"/>
                    </a:lnTo>
                    <a:lnTo>
                      <a:pt x="721" y="2006"/>
                    </a:lnTo>
                    <a:lnTo>
                      <a:pt x="713" y="2006"/>
                    </a:lnTo>
                    <a:lnTo>
                      <a:pt x="688" y="2020"/>
                    </a:lnTo>
                    <a:lnTo>
                      <a:pt x="662" y="2050"/>
                    </a:lnTo>
                    <a:lnTo>
                      <a:pt x="677" y="2074"/>
                    </a:lnTo>
                    <a:lnTo>
                      <a:pt x="662" y="2091"/>
                    </a:lnTo>
                    <a:lnTo>
                      <a:pt x="616" y="2103"/>
                    </a:lnTo>
                    <a:lnTo>
                      <a:pt x="580" y="2103"/>
                    </a:lnTo>
                    <a:lnTo>
                      <a:pt x="580" y="1991"/>
                    </a:lnTo>
                    <a:lnTo>
                      <a:pt x="557" y="1991"/>
                    </a:lnTo>
                    <a:lnTo>
                      <a:pt x="571" y="2118"/>
                    </a:lnTo>
                    <a:lnTo>
                      <a:pt x="557" y="2132"/>
                    </a:lnTo>
                    <a:lnTo>
                      <a:pt x="532" y="2118"/>
                    </a:lnTo>
                    <a:lnTo>
                      <a:pt x="509" y="2132"/>
                    </a:lnTo>
                    <a:lnTo>
                      <a:pt x="475" y="2074"/>
                    </a:lnTo>
                    <a:lnTo>
                      <a:pt x="475" y="2050"/>
                    </a:lnTo>
                    <a:lnTo>
                      <a:pt x="462" y="2006"/>
                    </a:lnTo>
                    <a:lnTo>
                      <a:pt x="439" y="2020"/>
                    </a:lnTo>
                    <a:lnTo>
                      <a:pt x="427" y="2035"/>
                    </a:lnTo>
                    <a:lnTo>
                      <a:pt x="439" y="2074"/>
                    </a:lnTo>
                    <a:lnTo>
                      <a:pt x="450" y="2132"/>
                    </a:lnTo>
                    <a:lnTo>
                      <a:pt x="462" y="2132"/>
                    </a:lnTo>
                    <a:lnTo>
                      <a:pt x="475" y="2162"/>
                    </a:lnTo>
                    <a:lnTo>
                      <a:pt x="450" y="2187"/>
                    </a:lnTo>
                    <a:lnTo>
                      <a:pt x="439" y="2203"/>
                    </a:lnTo>
                    <a:lnTo>
                      <a:pt x="427" y="2203"/>
                    </a:lnTo>
                    <a:lnTo>
                      <a:pt x="403" y="2245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52560" y="4556160"/>
                <a:ext cx="247680" cy="127080"/>
              </a:xfrm>
              <a:custGeom>
                <a:avLst/>
                <a:gdLst/>
                <a:ahLst/>
                <a:rect l="l" t="t" r="r" b="b"/>
                <a:pathLst>
                  <a:path w="368" h="238">
                    <a:moveTo>
                      <a:pt x="0" y="0"/>
                    </a:moveTo>
                    <a:lnTo>
                      <a:pt x="48" y="15"/>
                    </a:lnTo>
                    <a:lnTo>
                      <a:pt x="85" y="15"/>
                    </a:lnTo>
                    <a:lnTo>
                      <a:pt x="85" y="28"/>
                    </a:lnTo>
                    <a:lnTo>
                      <a:pt x="107" y="28"/>
                    </a:lnTo>
                    <a:lnTo>
                      <a:pt x="145" y="43"/>
                    </a:lnTo>
                    <a:lnTo>
                      <a:pt x="145" y="55"/>
                    </a:lnTo>
                    <a:lnTo>
                      <a:pt x="214" y="55"/>
                    </a:lnTo>
                    <a:lnTo>
                      <a:pt x="225" y="69"/>
                    </a:lnTo>
                    <a:lnTo>
                      <a:pt x="238" y="84"/>
                    </a:lnTo>
                    <a:lnTo>
                      <a:pt x="284" y="69"/>
                    </a:lnTo>
                    <a:lnTo>
                      <a:pt x="332" y="113"/>
                    </a:lnTo>
                    <a:lnTo>
                      <a:pt x="356" y="125"/>
                    </a:lnTo>
                    <a:lnTo>
                      <a:pt x="367" y="169"/>
                    </a:lnTo>
                    <a:lnTo>
                      <a:pt x="343" y="209"/>
                    </a:lnTo>
                    <a:lnTo>
                      <a:pt x="320" y="184"/>
                    </a:lnTo>
                    <a:lnTo>
                      <a:pt x="284" y="224"/>
                    </a:lnTo>
                    <a:lnTo>
                      <a:pt x="273" y="237"/>
                    </a:lnTo>
                    <a:lnTo>
                      <a:pt x="225" y="224"/>
                    </a:lnTo>
                    <a:lnTo>
                      <a:pt x="166" y="155"/>
                    </a:lnTo>
                    <a:lnTo>
                      <a:pt x="119" y="125"/>
                    </a:lnTo>
                    <a:lnTo>
                      <a:pt x="96" y="125"/>
                    </a:lnTo>
                    <a:lnTo>
                      <a:pt x="73" y="84"/>
                    </a:lnTo>
                    <a:lnTo>
                      <a:pt x="37" y="5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95480" y="4541760"/>
                <a:ext cx="81000" cy="44640"/>
              </a:xfrm>
              <a:custGeom>
                <a:avLst/>
                <a:gdLst/>
                <a:ahLst/>
                <a:rect l="l" t="t" r="r" b="b"/>
                <a:pathLst>
                  <a:path w="120" h="82">
                    <a:moveTo>
                      <a:pt x="12" y="81"/>
                    </a:moveTo>
                    <a:lnTo>
                      <a:pt x="0" y="55"/>
                    </a:lnTo>
                    <a:lnTo>
                      <a:pt x="0" y="25"/>
                    </a:lnTo>
                    <a:lnTo>
                      <a:pt x="24" y="25"/>
                    </a:lnTo>
                    <a:lnTo>
                      <a:pt x="24" y="0"/>
                    </a:lnTo>
                    <a:lnTo>
                      <a:pt x="47" y="0"/>
                    </a:lnTo>
                    <a:lnTo>
                      <a:pt x="60" y="15"/>
                    </a:lnTo>
                    <a:lnTo>
                      <a:pt x="94" y="15"/>
                    </a:lnTo>
                    <a:lnTo>
                      <a:pt x="119" y="55"/>
                    </a:lnTo>
                    <a:lnTo>
                      <a:pt x="119" y="81"/>
                    </a:lnTo>
                    <a:lnTo>
                      <a:pt x="71" y="69"/>
                    </a:lnTo>
                    <a:lnTo>
                      <a:pt x="47" y="55"/>
                    </a:lnTo>
                    <a:lnTo>
                      <a:pt x="12" y="8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844800" y="4259160"/>
                <a:ext cx="47520" cy="36720"/>
              </a:xfrm>
              <a:custGeom>
                <a:avLst/>
                <a:gdLst/>
                <a:ahLst/>
                <a:rect l="l" t="t" r="r" b="b"/>
                <a:pathLst>
                  <a:path w="71" h="69">
                    <a:moveTo>
                      <a:pt x="70" y="68"/>
                    </a:moveTo>
                    <a:lnTo>
                      <a:pt x="35" y="68"/>
                    </a:lnTo>
                    <a:lnTo>
                      <a:pt x="0" y="27"/>
                    </a:lnTo>
                    <a:lnTo>
                      <a:pt x="12" y="15"/>
                    </a:lnTo>
                    <a:lnTo>
                      <a:pt x="23" y="0"/>
                    </a:lnTo>
                    <a:lnTo>
                      <a:pt x="35" y="15"/>
                    </a:lnTo>
                    <a:lnTo>
                      <a:pt x="57" y="27"/>
                    </a:lnTo>
                    <a:lnTo>
                      <a:pt x="57" y="39"/>
                    </a:lnTo>
                    <a:lnTo>
                      <a:pt x="70" y="68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11240" y="426708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7" h="54">
                    <a:moveTo>
                      <a:pt x="33" y="53"/>
                    </a:moveTo>
                    <a:lnTo>
                      <a:pt x="20" y="53"/>
                    </a:lnTo>
                    <a:lnTo>
                      <a:pt x="20" y="1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0" y="0"/>
                    </a:lnTo>
                    <a:lnTo>
                      <a:pt x="46" y="12"/>
                    </a:lnTo>
                    <a:lnTo>
                      <a:pt x="46" y="53"/>
                    </a:lnTo>
                    <a:lnTo>
                      <a:pt x="33" y="53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789000" y="4346640"/>
                <a:ext cx="95400" cy="82440"/>
              </a:xfrm>
              <a:custGeom>
                <a:avLst/>
                <a:gdLst/>
                <a:ahLst/>
                <a:rect l="l" t="t" r="r" b="b"/>
                <a:pathLst>
                  <a:path w="142" h="157">
                    <a:moveTo>
                      <a:pt x="33" y="156"/>
                    </a:moveTo>
                    <a:lnTo>
                      <a:pt x="12" y="128"/>
                    </a:lnTo>
                    <a:lnTo>
                      <a:pt x="33" y="71"/>
                    </a:lnTo>
                    <a:lnTo>
                      <a:pt x="12" y="57"/>
                    </a:lnTo>
                    <a:lnTo>
                      <a:pt x="0" y="30"/>
                    </a:lnTo>
                    <a:lnTo>
                      <a:pt x="12" y="15"/>
                    </a:lnTo>
                    <a:lnTo>
                      <a:pt x="23" y="0"/>
                    </a:lnTo>
                    <a:lnTo>
                      <a:pt x="46" y="30"/>
                    </a:lnTo>
                    <a:lnTo>
                      <a:pt x="96" y="30"/>
                    </a:lnTo>
                    <a:lnTo>
                      <a:pt x="117" y="42"/>
                    </a:lnTo>
                    <a:lnTo>
                      <a:pt x="128" y="57"/>
                    </a:lnTo>
                    <a:lnTo>
                      <a:pt x="141" y="71"/>
                    </a:lnTo>
                    <a:lnTo>
                      <a:pt x="141" y="86"/>
                    </a:lnTo>
                    <a:lnTo>
                      <a:pt x="128" y="98"/>
                    </a:lnTo>
                    <a:lnTo>
                      <a:pt x="96" y="113"/>
                    </a:lnTo>
                    <a:lnTo>
                      <a:pt x="83" y="128"/>
                    </a:lnTo>
                    <a:lnTo>
                      <a:pt x="57" y="128"/>
                    </a:lnTo>
                    <a:lnTo>
                      <a:pt x="33" y="156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630240" y="4354560"/>
                <a:ext cx="71640" cy="82440"/>
              </a:xfrm>
              <a:custGeom>
                <a:avLst/>
                <a:gdLst/>
                <a:ahLst/>
                <a:rect l="l" t="t" r="r" b="b"/>
                <a:pathLst>
                  <a:path w="107" h="153">
                    <a:moveTo>
                      <a:pt x="21" y="152"/>
                    </a:moveTo>
                    <a:lnTo>
                      <a:pt x="46" y="96"/>
                    </a:lnTo>
                    <a:lnTo>
                      <a:pt x="71" y="82"/>
                    </a:lnTo>
                    <a:lnTo>
                      <a:pt x="71" y="55"/>
                    </a:lnTo>
                    <a:lnTo>
                      <a:pt x="106" y="15"/>
                    </a:lnTo>
                    <a:lnTo>
                      <a:pt x="80" y="15"/>
                    </a:lnTo>
                    <a:lnTo>
                      <a:pt x="59" y="0"/>
                    </a:lnTo>
                    <a:lnTo>
                      <a:pt x="21" y="27"/>
                    </a:lnTo>
                    <a:lnTo>
                      <a:pt x="0" y="55"/>
                    </a:lnTo>
                    <a:lnTo>
                      <a:pt x="0" y="82"/>
                    </a:lnTo>
                    <a:lnTo>
                      <a:pt x="0" y="124"/>
                    </a:lnTo>
                    <a:lnTo>
                      <a:pt x="21" y="15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71640" y="4392720"/>
                <a:ext cx="139680" cy="119160"/>
              </a:xfrm>
              <a:custGeom>
                <a:avLst/>
                <a:gdLst/>
                <a:ahLst/>
                <a:rect l="l" t="t" r="r" b="b"/>
                <a:pathLst>
                  <a:path w="209" h="225">
                    <a:moveTo>
                      <a:pt x="21" y="208"/>
                    </a:moveTo>
                    <a:lnTo>
                      <a:pt x="0" y="183"/>
                    </a:lnTo>
                    <a:lnTo>
                      <a:pt x="12" y="168"/>
                    </a:lnTo>
                    <a:lnTo>
                      <a:pt x="21" y="127"/>
                    </a:lnTo>
                    <a:lnTo>
                      <a:pt x="35" y="96"/>
                    </a:lnTo>
                    <a:lnTo>
                      <a:pt x="70" y="96"/>
                    </a:lnTo>
                    <a:lnTo>
                      <a:pt x="79" y="56"/>
                    </a:lnTo>
                    <a:lnTo>
                      <a:pt x="79" y="40"/>
                    </a:lnTo>
                    <a:lnTo>
                      <a:pt x="116" y="0"/>
                    </a:lnTo>
                    <a:lnTo>
                      <a:pt x="149" y="27"/>
                    </a:lnTo>
                    <a:lnTo>
                      <a:pt x="149" y="40"/>
                    </a:lnTo>
                    <a:lnTo>
                      <a:pt x="162" y="56"/>
                    </a:lnTo>
                    <a:lnTo>
                      <a:pt x="174" y="83"/>
                    </a:lnTo>
                    <a:lnTo>
                      <a:pt x="174" y="112"/>
                    </a:lnTo>
                    <a:lnTo>
                      <a:pt x="195" y="127"/>
                    </a:lnTo>
                    <a:lnTo>
                      <a:pt x="208" y="139"/>
                    </a:lnTo>
                    <a:lnTo>
                      <a:pt x="195" y="183"/>
                    </a:lnTo>
                    <a:lnTo>
                      <a:pt x="186" y="208"/>
                    </a:lnTo>
                    <a:lnTo>
                      <a:pt x="162" y="183"/>
                    </a:lnTo>
                    <a:lnTo>
                      <a:pt x="139" y="168"/>
                    </a:lnTo>
                    <a:lnTo>
                      <a:pt x="116" y="183"/>
                    </a:lnTo>
                    <a:lnTo>
                      <a:pt x="79" y="208"/>
                    </a:lnTo>
                    <a:lnTo>
                      <a:pt x="45" y="224"/>
                    </a:lnTo>
                    <a:lnTo>
                      <a:pt x="35" y="208"/>
                    </a:lnTo>
                    <a:lnTo>
                      <a:pt x="21" y="208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21040" y="4460760"/>
                <a:ext cx="125280" cy="88920"/>
              </a:xfrm>
              <a:custGeom>
                <a:avLst/>
                <a:gdLst/>
                <a:ahLst/>
                <a:rect l="l" t="t" r="r" b="b"/>
                <a:pathLst>
                  <a:path w="188" h="168">
                    <a:moveTo>
                      <a:pt x="0" y="27"/>
                    </a:moveTo>
                    <a:lnTo>
                      <a:pt x="24" y="82"/>
                    </a:lnTo>
                    <a:lnTo>
                      <a:pt x="24" y="126"/>
                    </a:lnTo>
                    <a:lnTo>
                      <a:pt x="71" y="126"/>
                    </a:lnTo>
                    <a:lnTo>
                      <a:pt x="105" y="138"/>
                    </a:lnTo>
                    <a:lnTo>
                      <a:pt x="130" y="167"/>
                    </a:lnTo>
                    <a:lnTo>
                      <a:pt x="154" y="138"/>
                    </a:lnTo>
                    <a:lnTo>
                      <a:pt x="163" y="138"/>
                    </a:lnTo>
                    <a:lnTo>
                      <a:pt x="163" y="126"/>
                    </a:lnTo>
                    <a:lnTo>
                      <a:pt x="187" y="96"/>
                    </a:lnTo>
                    <a:lnTo>
                      <a:pt x="176" y="82"/>
                    </a:lnTo>
                    <a:lnTo>
                      <a:pt x="117" y="67"/>
                    </a:lnTo>
                    <a:lnTo>
                      <a:pt x="94" y="82"/>
                    </a:lnTo>
                    <a:lnTo>
                      <a:pt x="94" y="67"/>
                    </a:lnTo>
                    <a:lnTo>
                      <a:pt x="81" y="55"/>
                    </a:lnTo>
                    <a:lnTo>
                      <a:pt x="81" y="40"/>
                    </a:lnTo>
                    <a:lnTo>
                      <a:pt x="48" y="27"/>
                    </a:lnTo>
                    <a:lnTo>
                      <a:pt x="24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11240" y="4527720"/>
                <a:ext cx="69840" cy="5220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10" y="69"/>
                    </a:moveTo>
                    <a:lnTo>
                      <a:pt x="0" y="54"/>
                    </a:lnTo>
                    <a:lnTo>
                      <a:pt x="32" y="27"/>
                    </a:lnTo>
                    <a:lnTo>
                      <a:pt x="32" y="12"/>
                    </a:lnTo>
                    <a:lnTo>
                      <a:pt x="68" y="0"/>
                    </a:lnTo>
                    <a:lnTo>
                      <a:pt x="68" y="27"/>
                    </a:lnTo>
                    <a:lnTo>
                      <a:pt x="80" y="27"/>
                    </a:lnTo>
                    <a:lnTo>
                      <a:pt x="104" y="27"/>
                    </a:lnTo>
                    <a:lnTo>
                      <a:pt x="104" y="54"/>
                    </a:lnTo>
                    <a:lnTo>
                      <a:pt x="91" y="69"/>
                    </a:lnTo>
                    <a:lnTo>
                      <a:pt x="68" y="69"/>
                    </a:lnTo>
                    <a:lnTo>
                      <a:pt x="57" y="98"/>
                    </a:lnTo>
                    <a:lnTo>
                      <a:pt x="32" y="69"/>
                    </a:lnTo>
                    <a:lnTo>
                      <a:pt x="19" y="69"/>
                    </a:lnTo>
                    <a:lnTo>
                      <a:pt x="10" y="69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789000" y="455616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12" y="44"/>
                    </a:moveTo>
                    <a:lnTo>
                      <a:pt x="23" y="44"/>
                    </a:lnTo>
                    <a:lnTo>
                      <a:pt x="35" y="44"/>
                    </a:lnTo>
                    <a:lnTo>
                      <a:pt x="59" y="0"/>
                    </a:lnTo>
                    <a:lnTo>
                      <a:pt x="47" y="0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12" y="44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884400" y="4398840"/>
                <a:ext cx="79200" cy="66960"/>
              </a:xfrm>
              <a:custGeom>
                <a:avLst/>
                <a:gdLst/>
                <a:ahLst/>
                <a:rect l="l" t="t" r="r" b="b"/>
                <a:pathLst>
                  <a:path w="118" h="127">
                    <a:moveTo>
                      <a:pt x="70" y="126"/>
                    </a:moveTo>
                    <a:lnTo>
                      <a:pt x="23" y="126"/>
                    </a:lnTo>
                    <a:lnTo>
                      <a:pt x="0" y="113"/>
                    </a:lnTo>
                    <a:lnTo>
                      <a:pt x="12" y="98"/>
                    </a:lnTo>
                    <a:lnTo>
                      <a:pt x="23" y="69"/>
                    </a:lnTo>
                    <a:lnTo>
                      <a:pt x="48" y="44"/>
                    </a:lnTo>
                    <a:lnTo>
                      <a:pt x="70" y="44"/>
                    </a:lnTo>
                    <a:lnTo>
                      <a:pt x="82" y="15"/>
                    </a:lnTo>
                    <a:lnTo>
                      <a:pt x="104" y="0"/>
                    </a:lnTo>
                    <a:lnTo>
                      <a:pt x="117" y="28"/>
                    </a:lnTo>
                    <a:lnTo>
                      <a:pt x="104" y="44"/>
                    </a:lnTo>
                    <a:lnTo>
                      <a:pt x="104" y="56"/>
                    </a:lnTo>
                    <a:lnTo>
                      <a:pt x="104" y="69"/>
                    </a:lnTo>
                    <a:lnTo>
                      <a:pt x="82" y="85"/>
                    </a:lnTo>
                    <a:lnTo>
                      <a:pt x="82" y="98"/>
                    </a:lnTo>
                    <a:lnTo>
                      <a:pt x="70" y="126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62160" y="4451400"/>
                <a:ext cx="36360" cy="38160"/>
              </a:xfrm>
              <a:custGeom>
                <a:avLst/>
                <a:gdLst/>
                <a:ahLst/>
                <a:rect l="l" t="t" r="r" b="b"/>
                <a:pathLst>
                  <a:path w="53" h="70">
                    <a:moveTo>
                      <a:pt x="26" y="54"/>
                    </a:moveTo>
                    <a:lnTo>
                      <a:pt x="13" y="40"/>
                    </a:lnTo>
                    <a:lnTo>
                      <a:pt x="0" y="15"/>
                    </a:lnTo>
                    <a:lnTo>
                      <a:pt x="13" y="0"/>
                    </a:lnTo>
                    <a:lnTo>
                      <a:pt x="26" y="0"/>
                    </a:lnTo>
                    <a:lnTo>
                      <a:pt x="39" y="25"/>
                    </a:lnTo>
                    <a:lnTo>
                      <a:pt x="52" y="40"/>
                    </a:lnTo>
                    <a:lnTo>
                      <a:pt x="39" y="69"/>
                    </a:lnTo>
                    <a:lnTo>
                      <a:pt x="26" y="54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97080" y="44355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46" h="72">
                    <a:moveTo>
                      <a:pt x="45" y="71"/>
                    </a:moveTo>
                    <a:lnTo>
                      <a:pt x="20" y="55"/>
                    </a:lnTo>
                    <a:lnTo>
                      <a:pt x="0" y="15"/>
                    </a:lnTo>
                    <a:lnTo>
                      <a:pt x="10" y="0"/>
                    </a:lnTo>
                    <a:lnTo>
                      <a:pt x="45" y="15"/>
                    </a:lnTo>
                    <a:lnTo>
                      <a:pt x="45" y="28"/>
                    </a:lnTo>
                    <a:lnTo>
                      <a:pt x="45" y="55"/>
                    </a:lnTo>
                    <a:lnTo>
                      <a:pt x="45" y="7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02040" y="43848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25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7" y="0"/>
                    </a:lnTo>
                    <a:lnTo>
                      <a:pt x="47" y="14"/>
                    </a:lnTo>
                    <a:lnTo>
                      <a:pt x="25" y="4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60640" y="4415040"/>
                <a:ext cx="23760" cy="2844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0" y="38"/>
                    </a:moveTo>
                    <a:lnTo>
                      <a:pt x="0" y="13"/>
                    </a:lnTo>
                    <a:lnTo>
                      <a:pt x="11" y="13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34" y="25"/>
                    </a:lnTo>
                    <a:lnTo>
                      <a:pt x="22" y="38"/>
                    </a:lnTo>
                    <a:lnTo>
                      <a:pt x="11" y="52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773160" y="4384800"/>
                <a:ext cx="17640" cy="30240"/>
              </a:xfrm>
              <a:custGeom>
                <a:avLst/>
                <a:gdLst/>
                <a:ahLst/>
                <a:rect l="l" t="t" r="r" b="b"/>
                <a:pathLst>
                  <a:path w="28" h="57">
                    <a:moveTo>
                      <a:pt x="27" y="56"/>
                    </a:moveTo>
                    <a:lnTo>
                      <a:pt x="0" y="27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27" y="56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57680" y="3584520"/>
                <a:ext cx="79200" cy="58680"/>
              </a:xfrm>
              <a:custGeom>
                <a:avLst/>
                <a:gdLst/>
                <a:ahLst/>
                <a:rect l="l" t="t" r="r" b="b"/>
                <a:pathLst>
                  <a:path w="118" h="112">
                    <a:moveTo>
                      <a:pt x="0" y="15"/>
                    </a:moveTo>
                    <a:lnTo>
                      <a:pt x="12" y="0"/>
                    </a:lnTo>
                    <a:lnTo>
                      <a:pt x="34" y="15"/>
                    </a:lnTo>
                    <a:lnTo>
                      <a:pt x="47" y="55"/>
                    </a:lnTo>
                    <a:lnTo>
                      <a:pt x="69" y="70"/>
                    </a:lnTo>
                    <a:lnTo>
                      <a:pt x="92" y="70"/>
                    </a:lnTo>
                    <a:lnTo>
                      <a:pt x="117" y="96"/>
                    </a:lnTo>
                    <a:lnTo>
                      <a:pt x="117" y="111"/>
                    </a:lnTo>
                    <a:lnTo>
                      <a:pt x="103" y="111"/>
                    </a:lnTo>
                    <a:lnTo>
                      <a:pt x="80" y="84"/>
                    </a:lnTo>
                    <a:lnTo>
                      <a:pt x="22" y="40"/>
                    </a:lnTo>
                    <a:lnTo>
                      <a:pt x="0" y="27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381280" y="3562560"/>
                <a:ext cx="38160" cy="2988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5" y="56"/>
                    </a:moveTo>
                    <a:lnTo>
                      <a:pt x="55" y="28"/>
                    </a:lnTo>
                    <a:lnTo>
                      <a:pt x="34" y="0"/>
                    </a:lnTo>
                    <a:lnTo>
                      <a:pt x="12" y="0"/>
                    </a:lnTo>
                    <a:lnTo>
                      <a:pt x="0" y="12"/>
                    </a:lnTo>
                    <a:lnTo>
                      <a:pt x="12" y="40"/>
                    </a:lnTo>
                    <a:lnTo>
                      <a:pt x="34" y="56"/>
                    </a:lnTo>
                    <a:lnTo>
                      <a:pt x="44" y="56"/>
                    </a:lnTo>
                    <a:lnTo>
                      <a:pt x="55" y="56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25880" y="3308400"/>
                <a:ext cx="57240" cy="81000"/>
              </a:xfrm>
              <a:custGeom>
                <a:avLst/>
                <a:gdLst/>
                <a:ahLst/>
                <a:rect l="l" t="t" r="r" b="b"/>
                <a:pathLst>
                  <a:path w="85" h="152">
                    <a:moveTo>
                      <a:pt x="0" y="12"/>
                    </a:moveTo>
                    <a:lnTo>
                      <a:pt x="12" y="52"/>
                    </a:lnTo>
                    <a:lnTo>
                      <a:pt x="25" y="67"/>
                    </a:lnTo>
                    <a:lnTo>
                      <a:pt x="25" y="98"/>
                    </a:lnTo>
                    <a:lnTo>
                      <a:pt x="46" y="110"/>
                    </a:lnTo>
                    <a:lnTo>
                      <a:pt x="58" y="138"/>
                    </a:lnTo>
                    <a:lnTo>
                      <a:pt x="84" y="151"/>
                    </a:lnTo>
                    <a:lnTo>
                      <a:pt x="84" y="138"/>
                    </a:lnTo>
                    <a:lnTo>
                      <a:pt x="58" y="98"/>
                    </a:lnTo>
                    <a:lnTo>
                      <a:pt x="46" y="52"/>
                    </a:lnTo>
                    <a:lnTo>
                      <a:pt x="33" y="12"/>
                    </a:lnTo>
                    <a:lnTo>
                      <a:pt x="12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19440" y="3456000"/>
                <a:ext cx="511200" cy="193680"/>
              </a:xfrm>
              <a:custGeom>
                <a:avLst/>
                <a:gdLst/>
                <a:ahLst/>
                <a:rect l="l" t="t" r="r" b="b"/>
                <a:pathLst>
                  <a:path w="763" h="363">
                    <a:moveTo>
                      <a:pt x="0" y="69"/>
                    </a:moveTo>
                    <a:lnTo>
                      <a:pt x="25" y="99"/>
                    </a:lnTo>
                    <a:lnTo>
                      <a:pt x="35" y="125"/>
                    </a:lnTo>
                    <a:lnTo>
                      <a:pt x="46" y="140"/>
                    </a:lnTo>
                    <a:lnTo>
                      <a:pt x="59" y="140"/>
                    </a:lnTo>
                    <a:lnTo>
                      <a:pt x="84" y="125"/>
                    </a:lnTo>
                    <a:lnTo>
                      <a:pt x="107" y="152"/>
                    </a:lnTo>
                    <a:lnTo>
                      <a:pt x="107" y="181"/>
                    </a:lnTo>
                    <a:lnTo>
                      <a:pt x="130" y="181"/>
                    </a:lnTo>
                    <a:lnTo>
                      <a:pt x="143" y="165"/>
                    </a:lnTo>
                    <a:lnTo>
                      <a:pt x="153" y="165"/>
                    </a:lnTo>
                    <a:lnTo>
                      <a:pt x="178" y="196"/>
                    </a:lnTo>
                    <a:lnTo>
                      <a:pt x="216" y="208"/>
                    </a:lnTo>
                    <a:lnTo>
                      <a:pt x="250" y="208"/>
                    </a:lnTo>
                    <a:lnTo>
                      <a:pt x="262" y="236"/>
                    </a:lnTo>
                    <a:lnTo>
                      <a:pt x="275" y="250"/>
                    </a:lnTo>
                    <a:lnTo>
                      <a:pt x="275" y="262"/>
                    </a:lnTo>
                    <a:lnTo>
                      <a:pt x="296" y="262"/>
                    </a:lnTo>
                    <a:lnTo>
                      <a:pt x="307" y="262"/>
                    </a:lnTo>
                    <a:lnTo>
                      <a:pt x="345" y="277"/>
                    </a:lnTo>
                    <a:lnTo>
                      <a:pt x="345" y="292"/>
                    </a:lnTo>
                    <a:lnTo>
                      <a:pt x="357" y="321"/>
                    </a:lnTo>
                    <a:lnTo>
                      <a:pt x="357" y="346"/>
                    </a:lnTo>
                    <a:lnTo>
                      <a:pt x="391" y="362"/>
                    </a:lnTo>
                    <a:lnTo>
                      <a:pt x="429" y="346"/>
                    </a:lnTo>
                    <a:lnTo>
                      <a:pt x="465" y="346"/>
                    </a:lnTo>
                    <a:lnTo>
                      <a:pt x="488" y="333"/>
                    </a:lnTo>
                    <a:lnTo>
                      <a:pt x="499" y="321"/>
                    </a:lnTo>
                    <a:lnTo>
                      <a:pt x="524" y="333"/>
                    </a:lnTo>
                    <a:lnTo>
                      <a:pt x="558" y="292"/>
                    </a:lnTo>
                    <a:lnTo>
                      <a:pt x="558" y="277"/>
                    </a:lnTo>
                    <a:lnTo>
                      <a:pt x="583" y="250"/>
                    </a:lnTo>
                    <a:lnTo>
                      <a:pt x="595" y="250"/>
                    </a:lnTo>
                    <a:lnTo>
                      <a:pt x="642" y="250"/>
                    </a:lnTo>
                    <a:lnTo>
                      <a:pt x="677" y="250"/>
                    </a:lnTo>
                    <a:lnTo>
                      <a:pt x="724" y="224"/>
                    </a:lnTo>
                    <a:lnTo>
                      <a:pt x="749" y="208"/>
                    </a:lnTo>
                    <a:lnTo>
                      <a:pt x="762" y="181"/>
                    </a:lnTo>
                    <a:lnTo>
                      <a:pt x="738" y="165"/>
                    </a:lnTo>
                    <a:lnTo>
                      <a:pt x="677" y="152"/>
                    </a:lnTo>
                    <a:lnTo>
                      <a:pt x="631" y="140"/>
                    </a:lnTo>
                    <a:lnTo>
                      <a:pt x="595" y="125"/>
                    </a:lnTo>
                    <a:lnTo>
                      <a:pt x="536" y="99"/>
                    </a:lnTo>
                    <a:lnTo>
                      <a:pt x="452" y="99"/>
                    </a:lnTo>
                    <a:lnTo>
                      <a:pt x="429" y="125"/>
                    </a:lnTo>
                    <a:lnTo>
                      <a:pt x="391" y="140"/>
                    </a:lnTo>
                    <a:lnTo>
                      <a:pt x="345" y="140"/>
                    </a:lnTo>
                    <a:lnTo>
                      <a:pt x="332" y="140"/>
                    </a:lnTo>
                    <a:lnTo>
                      <a:pt x="345" y="111"/>
                    </a:lnTo>
                    <a:lnTo>
                      <a:pt x="296" y="111"/>
                    </a:lnTo>
                    <a:lnTo>
                      <a:pt x="275" y="99"/>
                    </a:lnTo>
                    <a:lnTo>
                      <a:pt x="216" y="69"/>
                    </a:lnTo>
                    <a:lnTo>
                      <a:pt x="166" y="27"/>
                    </a:lnTo>
                    <a:lnTo>
                      <a:pt x="94" y="0"/>
                    </a:lnTo>
                    <a:lnTo>
                      <a:pt x="59" y="12"/>
                    </a:lnTo>
                    <a:lnTo>
                      <a:pt x="46" y="27"/>
                    </a:lnTo>
                    <a:lnTo>
                      <a:pt x="35" y="40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1440000" y="3938760"/>
              <a:ext cx="1547640" cy="520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onvención de Parí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58920" y="4745160"/>
              <a:ext cx="2114640" cy="733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ratado de Cooperación en patentes (TC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24360" y="4778280"/>
              <a:ext cx="2562480" cy="520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spectos relacionados con el comercio de PI (TRIP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506400" y="4538520"/>
              <a:ext cx="376200" cy="38448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35680" y="4292640"/>
              <a:ext cx="712800" cy="51444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3240" y="4192560"/>
              <a:ext cx="439920" cy="3168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5660640" y="4202280"/>
              <a:ext cx="878040" cy="15552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67000" y="2946240"/>
              <a:ext cx="1633320" cy="520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onvención de Ber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37240" y="3965400"/>
              <a:ext cx="1403280" cy="520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ratado de Budap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35160" y="3394080"/>
              <a:ext cx="584280" cy="28116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15200" y="3108240"/>
              <a:ext cx="1401480" cy="520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rotocolo de Madr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751280" y="2492280"/>
              <a:ext cx="914400" cy="80172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8920" y="4494240"/>
              <a:ext cx="0" cy="103824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56000" y="5429160"/>
              <a:ext cx="2143080" cy="30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cuerdo de Niz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4083120" y="2209680"/>
              <a:ext cx="749160" cy="14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440320" y="1774800"/>
              <a:ext cx="1371600" cy="459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Tratados de Internet WIP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05360" y="2720880"/>
              <a:ext cx="1219320" cy="30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UPO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57440" y="1947960"/>
              <a:ext cx="2162160" cy="520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Acuerdos de La Haya [Diseños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243400" y="2979360"/>
              <a:ext cx="615960" cy="60012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703840" y="3557520"/>
              <a:ext cx="628560" cy="49680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7840" y="2454120"/>
              <a:ext cx="468360" cy="91152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763640" y="5864400"/>
            <a:ext cx="5705640" cy="73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jor protección de la PI en As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Political and Economic Risk Consultancy (PERC) desde 1997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150920"/>
            <a:ext cx="314280" cy="1938240"/>
          </a:xfrm>
          <a:prstGeom prst="rect">
            <a:avLst/>
          </a:prstGeom>
          <a:solidFill>
            <a:srgbClr val="004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6360" y="1157400"/>
            <a:ext cx="6373800" cy="1938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24520" y="1150920"/>
            <a:ext cx="2062440" cy="1938240"/>
          </a:xfrm>
          <a:prstGeom prst="rect">
            <a:avLst/>
          </a:prstGeom>
          <a:solidFill>
            <a:srgbClr val="cbd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8040" y="3143160"/>
            <a:ext cx="83440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Un lugar competitivo en coste en el que hacer nego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88979" t="0" r="0" b="0"/>
          <a:stretch/>
        </p:blipFill>
        <p:spPr>
          <a:xfrm>
            <a:off x="8136000" y="5740560"/>
            <a:ext cx="1008000" cy="1117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25480" y="6438960"/>
            <a:ext cx="35942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6d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5909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79132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10080" y="3727440"/>
            <a:ext cx="2819520" cy="20448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203640" y="1273320"/>
          <a:ext cx="5460840" cy="4794120"/>
        </p:xfrm>
        <a:graphic>
          <a:graphicData uri="http://schemas.openxmlformats.org/drawingml/2006/table">
            <a:tbl>
              <a:tblPr/>
              <a:tblGrid>
                <a:gridCol w="2717640"/>
                <a:gridCol w="1590840"/>
                <a:gridCol w="1152360"/>
              </a:tblGrid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Índice co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i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anad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Fra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Hol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45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It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Reino Un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ap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45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le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3191040" y="6051600"/>
            <a:ext cx="38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Fuente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Estudio de Alternativas Competitivas de KPMG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102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gapur es uno de los lugares más competitiv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precio para hacer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24680" y="1893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152360"/>
            <a:ext cx="2801880" cy="57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Singapur ofrece uno de los impuestos sobre sociedades más bajo de As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600200"/>
          <a:ext cx="8229600" cy="4664160"/>
        </p:xfrm>
        <a:graphic>
          <a:graphicData uri="http://schemas.openxmlformats.org/drawingml/2006/table">
            <a:tbl>
              <a:tblPr/>
              <a:tblGrid>
                <a:gridCol w="2378160"/>
                <a:gridCol w="2419200"/>
                <a:gridCol w="3432240"/>
              </a:tblGrid>
              <a:tr h="63792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uesto sobre Sociedad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 media efectiva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85280">
                <a:tc>
                  <a:txBody>
                    <a:bodyPr lIns="0" rIns="90000" tIns="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 (fem Aplic. 200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5280">
                <a:tc>
                  <a:txBody>
                    <a:bodyPr lIns="0" rIns="90000" tIns="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Hong K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2400">
                <a:tc>
                  <a:txBody>
                    <a:bodyPr lIns="0" rIns="90000" tIns="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ustr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5280">
                <a:tc>
                  <a:txBody>
                    <a:bodyPr lIns="0" rIns="90000" tIns="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5640">
                <a:tc>
                  <a:txBody>
                    <a:bodyPr lIns="0" rIns="90000" tIns="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5280">
                <a:tc>
                  <a:txBody>
                    <a:bodyPr lIns="0" rIns="90000" tIns="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ap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5640">
                <a:tc>
                  <a:txBody>
                    <a:bodyPr lIns="0" rIns="90000" tIns="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632880">
                <a:tc gridSpan="3">
                  <a:txBody>
                    <a:bodyPr lIns="0" rIns="90000" tIns="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: CD Howe Instit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udio: Informe sobre competitividad impositiva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 flipV="1" rot="10800000">
            <a:off x="6397560" y="2937960"/>
            <a:ext cx="227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yores  IRPFs marg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83960" y="1200240"/>
            <a:ext cx="7323480" cy="5566680"/>
            <a:chOff x="183960" y="1200240"/>
            <a:chExt cx="7323480" cy="5566680"/>
          </a:xfrm>
        </p:grpSpPr>
        <p:sp>
          <p:nvSpPr>
            <p:cNvPr id="181" name=""/>
            <p:cNvSpPr/>
            <p:nvPr/>
          </p:nvSpPr>
          <p:spPr>
            <a:xfrm>
              <a:off x="1450800" y="1200240"/>
              <a:ext cx="5931000" cy="51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39880" y="1200240"/>
              <a:ext cx="1800" cy="51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28960" y="1200240"/>
              <a:ext cx="1800" cy="51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05440" y="1200240"/>
              <a:ext cx="1440" cy="51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92720" y="1200240"/>
              <a:ext cx="1800" cy="51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81800" y="1200240"/>
              <a:ext cx="1800" cy="51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50800" y="1200240"/>
              <a:ext cx="5931000" cy="513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50800" y="6083280"/>
              <a:ext cx="557532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50800" y="5713560"/>
              <a:ext cx="5343840" cy="156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50800" y="5345280"/>
              <a:ext cx="474192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0800" y="4989600"/>
              <a:ext cx="4741920" cy="142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50800" y="4621320"/>
              <a:ext cx="438804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50800" y="4251240"/>
              <a:ext cx="4388040" cy="157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50800" y="3882960"/>
              <a:ext cx="426420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50800" y="3514680"/>
              <a:ext cx="415476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50800" y="3144960"/>
              <a:ext cx="391032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50800" y="2776680"/>
              <a:ext cx="379908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50800" y="2421000"/>
              <a:ext cx="3554640" cy="141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50800" y="2052720"/>
              <a:ext cx="332136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50800" y="1682640"/>
              <a:ext cx="248796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50800" y="1314360"/>
              <a:ext cx="183852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0800" y="6338880"/>
              <a:ext cx="593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450800" y="6338880"/>
              <a:ext cx="180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39880" y="6338880"/>
              <a:ext cx="180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828960" y="6338880"/>
              <a:ext cx="180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005440" y="6338880"/>
              <a:ext cx="14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192720" y="6338880"/>
              <a:ext cx="180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7381800" y="6338880"/>
              <a:ext cx="180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50800" y="1200240"/>
              <a:ext cx="1800" cy="51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90680" y="633888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90680" y="596916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90680" y="560088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90680" y="523080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90680" y="487692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90680" y="4506840"/>
              <a:ext cx="60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90680" y="4138560"/>
              <a:ext cx="60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90680" y="376884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90680" y="340056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90680" y="303228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90680" y="2662200"/>
              <a:ext cx="60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90680" y="230832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90680" y="1938240"/>
              <a:ext cx="60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90680" y="1569960"/>
              <a:ext cx="60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90680" y="120024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16480" y="6026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83200" y="5657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83080" y="5288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83080" y="4933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27400" y="4564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27400" y="4195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05360" y="3825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95560" y="3457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49680" y="3087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3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40240" y="2719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94000" y="2363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62160" y="19954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28760" y="1625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01280" y="12574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15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04360" y="65232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3320" y="6523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2400" y="6523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98880" y="6523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87600" y="6523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75240" y="6523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2120" y="602604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Austral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3600" y="5657760"/>
              <a:ext cx="57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Ch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4680" y="5288040"/>
              <a:ext cx="85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Vietn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1800" y="4919760"/>
              <a:ext cx="730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Taiwá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9120" y="4564080"/>
              <a:ext cx="932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Taila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3360" y="419580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Jap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8600" y="3825720"/>
              <a:ext cx="58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Cor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5920" y="3457440"/>
              <a:ext cx="100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Indones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1200" y="3087720"/>
              <a:ext cx="52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6880" y="2719440"/>
              <a:ext cx="951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ilipi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8680" y="2349360"/>
              <a:ext cx="97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Myanm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2560" y="1995480"/>
              <a:ext cx="78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Malas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0640" y="1625760"/>
              <a:ext cx="90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ingap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3960" y="1257480"/>
              <a:ext cx="111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Hong Ko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0" y="304920"/>
            <a:ext cx="91440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impuesto sobre las personas físicas de Singapur es el segundo más bajo de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24280" y="12193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29320" y="4149720"/>
            <a:ext cx="186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Fuente:  Ernst &amp; Yo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9360"/>
            <a:ext cx="9144000" cy="889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27120" y="1173240"/>
            <a:ext cx="8103600" cy="3049920"/>
            <a:chOff x="627120" y="1173240"/>
            <a:chExt cx="8103600" cy="304992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2558160" y="1173240"/>
              <a:ext cx="4818240" cy="2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86240" y="153360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66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842840" y="153720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67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2886480" y="153468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68" name="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3920400" y="1529280"/>
              <a:ext cx="626040" cy="208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69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4938840" y="152928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0" name="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5966280" y="153972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1" name="" descr="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6989400" y="153648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2" name="" descr="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8008920" y="153648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3" name="" descr="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786240" y="196884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4" name="" descr="">
              <a:hlinkClick r:id="rId20"/>
            </p:cNvPr>
            <p:cNvPicPr/>
            <p:nvPr/>
          </p:nvPicPr>
          <p:blipFill>
            <a:blip r:embed="rId21"/>
            <a:stretch/>
          </p:blipFill>
          <p:spPr>
            <a:xfrm>
              <a:off x="1854000" y="196992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5" name="" descr="">
              <a:hlinkClick r:id="rId22"/>
            </p:cNvPr>
            <p:cNvPicPr/>
            <p:nvPr/>
          </p:nvPicPr>
          <p:blipFill>
            <a:blip r:embed="rId23"/>
            <a:stretch/>
          </p:blipFill>
          <p:spPr>
            <a:xfrm>
              <a:off x="2883240" y="197352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6" name="" descr="">
              <a:hlinkClick r:id="rId24"/>
            </p:cNvPr>
            <p:cNvPicPr/>
            <p:nvPr/>
          </p:nvPicPr>
          <p:blipFill>
            <a:blip r:embed="rId25"/>
            <a:stretch/>
          </p:blipFill>
          <p:spPr>
            <a:xfrm>
              <a:off x="3907800" y="197352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7" name="" descr="">
              <a:hlinkClick r:id="rId26"/>
            </p:cNvPr>
            <p:cNvPicPr/>
            <p:nvPr/>
          </p:nvPicPr>
          <p:blipFill>
            <a:blip r:embed="rId27"/>
            <a:stretch/>
          </p:blipFill>
          <p:spPr>
            <a:xfrm>
              <a:off x="4943520" y="197352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8" name="" descr="">
              <a:hlinkClick r:id="rId28"/>
            </p:cNvPr>
            <p:cNvPicPr/>
            <p:nvPr/>
          </p:nvPicPr>
          <p:blipFill>
            <a:blip r:embed="rId29"/>
            <a:stretch/>
          </p:blipFill>
          <p:spPr>
            <a:xfrm>
              <a:off x="5974200" y="197352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9" name="" descr="">
              <a:hlinkClick r:id="rId30"/>
            </p:cNvPr>
            <p:cNvPicPr/>
            <p:nvPr/>
          </p:nvPicPr>
          <p:blipFill>
            <a:blip r:embed="rId31"/>
            <a:stretch/>
          </p:blipFill>
          <p:spPr>
            <a:xfrm>
              <a:off x="6982920" y="196992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0" name="" descr="">
              <a:hlinkClick r:id="rId32"/>
            </p:cNvPr>
            <p:cNvPicPr/>
            <p:nvPr/>
          </p:nvPicPr>
          <p:blipFill>
            <a:blip r:embed="rId33"/>
            <a:stretch/>
          </p:blipFill>
          <p:spPr>
            <a:xfrm>
              <a:off x="8013960" y="197640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1" name="" descr="">
              <a:hlinkClick r:id="rId34"/>
            </p:cNvPr>
            <p:cNvPicPr/>
            <p:nvPr/>
          </p:nvPicPr>
          <p:blipFill>
            <a:blip r:embed="rId35"/>
            <a:stretch/>
          </p:blipFill>
          <p:spPr>
            <a:xfrm>
              <a:off x="787680" y="240084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2" name="" descr="">
              <a:hlinkClick r:id="rId36"/>
            </p:cNvPr>
            <p:cNvPicPr/>
            <p:nvPr/>
          </p:nvPicPr>
          <p:blipFill>
            <a:blip r:embed="rId37"/>
            <a:stretch/>
          </p:blipFill>
          <p:spPr>
            <a:xfrm>
              <a:off x="1841040" y="240804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3" name="" descr="">
              <a:hlinkClick r:id="rId38"/>
            </p:cNvPr>
            <p:cNvPicPr/>
            <p:nvPr/>
          </p:nvPicPr>
          <p:blipFill>
            <a:blip r:embed="rId39"/>
            <a:stretch/>
          </p:blipFill>
          <p:spPr>
            <a:xfrm>
              <a:off x="2880000" y="240084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4" name="" descr="">
              <a:hlinkClick r:id="rId40"/>
            </p:cNvPr>
            <p:cNvPicPr/>
            <p:nvPr/>
          </p:nvPicPr>
          <p:blipFill>
            <a:blip r:embed="rId41"/>
            <a:stretch/>
          </p:blipFill>
          <p:spPr>
            <a:xfrm>
              <a:off x="3913920" y="240444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5" name="" descr="">
              <a:hlinkClick r:id="rId42"/>
            </p:cNvPr>
            <p:cNvPicPr/>
            <p:nvPr/>
          </p:nvPicPr>
          <p:blipFill>
            <a:blip r:embed="rId43"/>
            <a:stretch/>
          </p:blipFill>
          <p:spPr>
            <a:xfrm>
              <a:off x="4927680" y="240084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6" name="" descr="">
              <a:hlinkClick r:id="rId44"/>
            </p:cNvPr>
            <p:cNvPicPr/>
            <p:nvPr/>
          </p:nvPicPr>
          <p:blipFill>
            <a:blip r:embed="rId45"/>
            <a:stretch/>
          </p:blipFill>
          <p:spPr>
            <a:xfrm>
              <a:off x="5967720" y="240084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7" name="" descr="">
              <a:hlinkClick r:id="rId46"/>
            </p:cNvPr>
            <p:cNvPicPr/>
            <p:nvPr/>
          </p:nvPicPr>
          <p:blipFill>
            <a:blip r:embed="rId47"/>
            <a:stretch/>
          </p:blipFill>
          <p:spPr>
            <a:xfrm>
              <a:off x="6994080" y="240624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8" name="" descr="">
              <a:hlinkClick r:id="rId48"/>
            </p:cNvPr>
            <p:cNvPicPr/>
            <p:nvPr/>
          </p:nvPicPr>
          <p:blipFill>
            <a:blip r:embed="rId49"/>
            <a:stretch/>
          </p:blipFill>
          <p:spPr>
            <a:xfrm>
              <a:off x="8021880" y="240624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9" name="" descr="">
              <a:hlinkClick r:id="rId50"/>
            </p:cNvPr>
            <p:cNvPicPr/>
            <p:nvPr/>
          </p:nvPicPr>
          <p:blipFill>
            <a:blip r:embed="rId51"/>
            <a:stretch/>
          </p:blipFill>
          <p:spPr>
            <a:xfrm>
              <a:off x="786240" y="284796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0" name="" descr="">
              <a:hlinkClick r:id="rId52"/>
            </p:cNvPr>
            <p:cNvPicPr/>
            <p:nvPr/>
          </p:nvPicPr>
          <p:blipFill>
            <a:blip r:embed="rId53"/>
            <a:stretch/>
          </p:blipFill>
          <p:spPr>
            <a:xfrm>
              <a:off x="1837800" y="284976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1" name="" descr="">
              <a:hlinkClick r:id="rId54"/>
            </p:cNvPr>
            <p:cNvPicPr/>
            <p:nvPr/>
          </p:nvPicPr>
          <p:blipFill>
            <a:blip r:embed="rId55"/>
            <a:stretch/>
          </p:blipFill>
          <p:spPr>
            <a:xfrm>
              <a:off x="2877120" y="285336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2" name="" descr="">
              <a:hlinkClick r:id="rId56"/>
            </p:cNvPr>
            <p:cNvPicPr/>
            <p:nvPr/>
          </p:nvPicPr>
          <p:blipFill>
            <a:blip r:embed="rId57"/>
            <a:stretch/>
          </p:blipFill>
          <p:spPr>
            <a:xfrm>
              <a:off x="3915720" y="285336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3" name="" descr="">
              <a:hlinkClick r:id="rId58"/>
            </p:cNvPr>
            <p:cNvPicPr/>
            <p:nvPr/>
          </p:nvPicPr>
          <p:blipFill>
            <a:blip r:embed="rId59"/>
            <a:stretch/>
          </p:blipFill>
          <p:spPr>
            <a:xfrm>
              <a:off x="4935600" y="285336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4" name="" descr="">
              <a:hlinkClick r:id="rId60"/>
            </p:cNvPr>
            <p:cNvPicPr/>
            <p:nvPr/>
          </p:nvPicPr>
          <p:blipFill>
            <a:blip r:embed="rId61"/>
            <a:stretch/>
          </p:blipFill>
          <p:spPr>
            <a:xfrm>
              <a:off x="5974200" y="284976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5" name="" descr="">
              <a:hlinkClick r:id="rId62"/>
            </p:cNvPr>
            <p:cNvPicPr/>
            <p:nvPr/>
          </p:nvPicPr>
          <p:blipFill>
            <a:blip r:embed="rId63"/>
            <a:stretch/>
          </p:blipFill>
          <p:spPr>
            <a:xfrm>
              <a:off x="6991200" y="285336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6" name="" descr="">
              <a:hlinkClick r:id="rId64"/>
            </p:cNvPr>
            <p:cNvPicPr/>
            <p:nvPr/>
          </p:nvPicPr>
          <p:blipFill>
            <a:blip r:embed="rId65"/>
            <a:stretch/>
          </p:blipFill>
          <p:spPr>
            <a:xfrm>
              <a:off x="8007480" y="285336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7" name="" descr="">
              <a:hlinkClick r:id="rId66"/>
            </p:cNvPr>
            <p:cNvPicPr/>
            <p:nvPr/>
          </p:nvPicPr>
          <p:blipFill>
            <a:blip r:embed="rId67"/>
            <a:stretch/>
          </p:blipFill>
          <p:spPr>
            <a:xfrm>
              <a:off x="786240" y="329436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8" name="" descr="">
              <a:hlinkClick r:id="rId68"/>
            </p:cNvPr>
            <p:cNvPicPr/>
            <p:nvPr/>
          </p:nvPicPr>
          <p:blipFill>
            <a:blip r:embed="rId69"/>
            <a:stretch/>
          </p:blipFill>
          <p:spPr>
            <a:xfrm>
              <a:off x="1837800" y="329328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9" name="" descr="">
              <a:hlinkClick r:id="rId70"/>
            </p:cNvPr>
            <p:cNvPicPr/>
            <p:nvPr/>
          </p:nvPicPr>
          <p:blipFill>
            <a:blip r:embed="rId71"/>
            <a:stretch/>
          </p:blipFill>
          <p:spPr>
            <a:xfrm>
              <a:off x="2896200" y="329688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0" name="" descr="">
              <a:hlinkClick r:id="rId72"/>
            </p:cNvPr>
            <p:cNvPicPr/>
            <p:nvPr/>
          </p:nvPicPr>
          <p:blipFill>
            <a:blip r:embed="rId73"/>
            <a:stretch/>
          </p:blipFill>
          <p:spPr>
            <a:xfrm>
              <a:off x="3918960" y="329328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1" name="" descr="">
              <a:hlinkClick r:id="rId74"/>
            </p:cNvPr>
            <p:cNvPicPr/>
            <p:nvPr/>
          </p:nvPicPr>
          <p:blipFill>
            <a:blip r:embed="rId75"/>
            <a:stretch/>
          </p:blipFill>
          <p:spPr>
            <a:xfrm>
              <a:off x="4935600" y="329328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2" name="" descr="">
              <a:hlinkClick r:id="rId76"/>
            </p:cNvPr>
            <p:cNvPicPr/>
            <p:nvPr/>
          </p:nvPicPr>
          <p:blipFill>
            <a:blip r:embed="rId77"/>
            <a:stretch/>
          </p:blipFill>
          <p:spPr>
            <a:xfrm>
              <a:off x="5974200" y="329328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3" name="" descr="">
              <a:hlinkClick r:id="rId78"/>
            </p:cNvPr>
            <p:cNvPicPr/>
            <p:nvPr/>
          </p:nvPicPr>
          <p:blipFill>
            <a:blip r:embed="rId79"/>
            <a:stretch/>
          </p:blipFill>
          <p:spPr>
            <a:xfrm>
              <a:off x="6975000" y="329328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4" name="" descr="">
              <a:hlinkClick r:id="rId80"/>
            </p:cNvPr>
            <p:cNvPicPr/>
            <p:nvPr/>
          </p:nvPicPr>
          <p:blipFill>
            <a:blip r:embed="rId81"/>
            <a:stretch/>
          </p:blipFill>
          <p:spPr>
            <a:xfrm>
              <a:off x="8013960" y="329328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5" name="" descr="">
              <a:hlinkClick r:id="rId82"/>
            </p:cNvPr>
            <p:cNvPicPr/>
            <p:nvPr/>
          </p:nvPicPr>
          <p:blipFill>
            <a:blip r:embed="rId83"/>
            <a:stretch/>
          </p:blipFill>
          <p:spPr>
            <a:xfrm>
              <a:off x="789480" y="373068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6" name="" descr="">
              <a:hlinkClick r:id="rId84"/>
            </p:cNvPr>
            <p:cNvPicPr/>
            <p:nvPr/>
          </p:nvPicPr>
          <p:blipFill>
            <a:blip r:embed="rId85"/>
            <a:stretch/>
          </p:blipFill>
          <p:spPr>
            <a:xfrm>
              <a:off x="1841040" y="373500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7" name="" descr="">
              <a:hlinkClick r:id="rId86"/>
            </p:cNvPr>
            <p:cNvPicPr/>
            <p:nvPr/>
          </p:nvPicPr>
          <p:blipFill>
            <a:blip r:embed="rId87"/>
            <a:stretch/>
          </p:blipFill>
          <p:spPr>
            <a:xfrm>
              <a:off x="2892960" y="372960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8" name="" descr="">
              <a:hlinkClick r:id="rId88"/>
            </p:cNvPr>
            <p:cNvPicPr/>
            <p:nvPr/>
          </p:nvPicPr>
          <p:blipFill>
            <a:blip r:embed="rId89"/>
            <a:stretch/>
          </p:blipFill>
          <p:spPr>
            <a:xfrm>
              <a:off x="3920400" y="372600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9" name="" descr="">
              <a:hlinkClick r:id="rId90"/>
            </p:cNvPr>
            <p:cNvPicPr/>
            <p:nvPr/>
          </p:nvPicPr>
          <p:blipFill>
            <a:blip r:embed="rId91"/>
            <a:stretch/>
          </p:blipFill>
          <p:spPr>
            <a:xfrm>
              <a:off x="4935600" y="372960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0" name="" descr="">
              <a:hlinkClick r:id="rId92"/>
            </p:cNvPr>
            <p:cNvPicPr/>
            <p:nvPr/>
          </p:nvPicPr>
          <p:blipFill>
            <a:blip r:embed="rId93"/>
            <a:stretch/>
          </p:blipFill>
          <p:spPr>
            <a:xfrm>
              <a:off x="5967720" y="3729600"/>
              <a:ext cx="610200" cy="203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1" name="" descr="">
              <a:hlinkClick r:id="rId94"/>
            </p:cNvPr>
            <p:cNvPicPr/>
            <p:nvPr/>
          </p:nvPicPr>
          <p:blipFill>
            <a:blip r:embed="rId95"/>
            <a:stretch/>
          </p:blipFill>
          <p:spPr>
            <a:xfrm>
              <a:off x="6984720" y="373500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2" name=""/>
            <p:cNvSpPr/>
            <p:nvPr/>
          </p:nvSpPr>
          <p:spPr>
            <a:xfrm>
              <a:off x="778320" y="1719360"/>
              <a:ext cx="619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Austral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7000" y="1719360"/>
              <a:ext cx="61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Austr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17720" y="1719360"/>
              <a:ext cx="728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Banglades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88720" y="1719360"/>
              <a:ext cx="62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Bélgi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19400" y="1719360"/>
              <a:ext cx="621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Bulgar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959800" y="1719360"/>
              <a:ext cx="612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Canad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69960" y="1719360"/>
              <a:ext cx="608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Chi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7480" y="1719360"/>
              <a:ext cx="613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Chip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7120" y="2152800"/>
              <a:ext cx="92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Rep. Che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33120" y="2152800"/>
              <a:ext cx="61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 Narrow"/>
                </a:rPr>
                <a:t>Dinamar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83240" y="2152080"/>
              <a:ext cx="613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Egip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09240" y="2152080"/>
              <a:ext cx="61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Finland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40280" y="2152080"/>
              <a:ext cx="619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Fra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66280" y="2152800"/>
              <a:ext cx="614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Aleman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75000" y="2152080"/>
              <a:ext cx="616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Hungrí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13960" y="2152080"/>
              <a:ext cx="619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Ind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73880" y="2583000"/>
              <a:ext cx="619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Ital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49880" y="2583000"/>
              <a:ext cx="665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Indones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41040" y="2583000"/>
              <a:ext cx="62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Isra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25080" y="2583000"/>
              <a:ext cx="61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Japó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19400" y="2583000"/>
              <a:ext cx="61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Cor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67720" y="2583000"/>
              <a:ext cx="619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Kuwa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94080" y="2583000"/>
              <a:ext cx="619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Leton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52040" y="2583000"/>
              <a:ext cx="778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Luxembur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7800" y="3039840"/>
              <a:ext cx="66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Malas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27000" y="303984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Maurici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54440" y="3039840"/>
              <a:ext cx="638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Méxic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99880" y="3039840"/>
              <a:ext cx="63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Myanma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90960" y="3039840"/>
              <a:ext cx="749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Holan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02920" y="3039840"/>
              <a:ext cx="77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 Narrow"/>
                </a:rPr>
                <a:t>Nueva Zelan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25680" y="3039840"/>
              <a:ext cx="772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Norueg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81920" y="3039840"/>
              <a:ext cx="672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Pakistá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7800" y="348624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 Narrow"/>
                </a:rPr>
                <a:t>Papua Nueva Guine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12600" y="3486240"/>
              <a:ext cx="71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Filipin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24200" y="3485520"/>
              <a:ext cx="713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Polon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0800" y="3485520"/>
              <a:ext cx="691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Portug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27680" y="3485520"/>
              <a:ext cx="657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Rumaní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22000" y="3486240"/>
              <a:ext cx="754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Suráfri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35040" y="3485520"/>
              <a:ext cx="754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Sri Lank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70760" y="3485520"/>
              <a:ext cx="750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Sue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0160" y="3916080"/>
              <a:ext cx="7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Suiz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04680" y="3916080"/>
              <a:ext cx="740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Taiwá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5360" y="3916080"/>
              <a:ext cx="742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Tailand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67840" y="3916080"/>
              <a:ext cx="74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Turquí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90960" y="3916080"/>
              <a:ext cx="74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 Narrow"/>
                </a:rPr>
                <a:t>Emiratos Árabes Unid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32800" y="3914640"/>
              <a:ext cx="74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Reino Uni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15960" y="3915360"/>
              <a:ext cx="7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Vietn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0" y="-237960"/>
            <a:ext cx="91440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117440" y="4300560"/>
            <a:ext cx="6480000" cy="2498760"/>
            <a:chOff x="1117440" y="4300560"/>
            <a:chExt cx="6480000" cy="2498760"/>
          </a:xfrm>
        </p:grpSpPr>
        <p:pic>
          <p:nvPicPr>
            <p:cNvPr id="361" name="" descr=""/>
            <p:cNvPicPr/>
            <p:nvPr/>
          </p:nvPicPr>
          <p:blipFill>
            <a:blip r:embed="rId96"/>
            <a:stretch/>
          </p:blipFill>
          <p:spPr>
            <a:xfrm>
              <a:off x="1896840" y="4300560"/>
              <a:ext cx="4800600" cy="2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>
              <a:hlinkClick r:id="rId97"/>
            </p:cNvPr>
            <p:cNvPicPr/>
            <p:nvPr/>
          </p:nvPicPr>
          <p:blipFill>
            <a:blip r:embed="rId98"/>
            <a:stretch/>
          </p:blipFill>
          <p:spPr>
            <a:xfrm>
              <a:off x="1195200" y="4796280"/>
              <a:ext cx="69696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63" name="" descr="">
              <a:hlinkClick r:id="rId99"/>
            </p:cNvPr>
            <p:cNvPicPr/>
            <p:nvPr/>
          </p:nvPicPr>
          <p:blipFill>
            <a:blip r:embed="rId100"/>
            <a:stretch/>
          </p:blipFill>
          <p:spPr>
            <a:xfrm>
              <a:off x="2304720" y="4797000"/>
              <a:ext cx="69696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64" name="" descr="">
              <a:hlinkClick r:id="rId101"/>
            </p:cNvPr>
            <p:cNvPicPr/>
            <p:nvPr/>
          </p:nvPicPr>
          <p:blipFill>
            <a:blip r:embed="rId102"/>
            <a:stretch/>
          </p:blipFill>
          <p:spPr>
            <a:xfrm>
              <a:off x="3425760" y="4800600"/>
              <a:ext cx="69660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65" name="" descr="">
              <a:hlinkClick r:id="rId103"/>
            </p:cNvPr>
            <p:cNvPicPr/>
            <p:nvPr/>
          </p:nvPicPr>
          <p:blipFill>
            <a:blip r:embed="rId104"/>
            <a:stretch/>
          </p:blipFill>
          <p:spPr>
            <a:xfrm>
              <a:off x="4557600" y="4794480"/>
              <a:ext cx="69696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66" name="" descr="">
              <a:hlinkClick r:id="rId105"/>
            </p:cNvPr>
            <p:cNvPicPr/>
            <p:nvPr/>
          </p:nvPicPr>
          <p:blipFill>
            <a:blip r:embed="rId106"/>
            <a:stretch/>
          </p:blipFill>
          <p:spPr>
            <a:xfrm>
              <a:off x="5657760" y="4799880"/>
              <a:ext cx="69696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67" name="" descr="">
              <a:hlinkClick r:id="rId107"/>
            </p:cNvPr>
            <p:cNvPicPr/>
            <p:nvPr/>
          </p:nvPicPr>
          <p:blipFill>
            <a:blip r:embed="rId108"/>
            <a:stretch/>
          </p:blipFill>
          <p:spPr>
            <a:xfrm>
              <a:off x="6729120" y="4799880"/>
              <a:ext cx="69696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68" name="" descr=""/>
            <p:cNvPicPr/>
            <p:nvPr/>
          </p:nvPicPr>
          <p:blipFill>
            <a:blip r:embed="rId109"/>
            <a:stretch/>
          </p:blipFill>
          <p:spPr>
            <a:xfrm>
              <a:off x="1954080" y="5627160"/>
              <a:ext cx="4800600" cy="2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110"/>
            <a:stretch/>
          </p:blipFill>
          <p:spPr>
            <a:xfrm>
              <a:off x="1195200" y="6136920"/>
              <a:ext cx="69696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70" name="" descr=""/>
            <p:cNvPicPr/>
            <p:nvPr/>
          </p:nvPicPr>
          <p:blipFill>
            <a:blip r:embed="rId111"/>
            <a:stretch/>
          </p:blipFill>
          <p:spPr>
            <a:xfrm>
              <a:off x="2301840" y="6136920"/>
              <a:ext cx="69660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71" name="" descr=""/>
            <p:cNvPicPr/>
            <p:nvPr/>
          </p:nvPicPr>
          <p:blipFill>
            <a:blip r:embed="rId112"/>
            <a:stretch/>
          </p:blipFill>
          <p:spPr>
            <a:xfrm>
              <a:off x="3425760" y="6132240"/>
              <a:ext cx="69660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72" name="" descr=""/>
            <p:cNvPicPr/>
            <p:nvPr/>
          </p:nvPicPr>
          <p:blipFill>
            <a:blip r:embed="rId113"/>
            <a:stretch/>
          </p:blipFill>
          <p:spPr>
            <a:xfrm>
              <a:off x="4551120" y="6133320"/>
              <a:ext cx="69696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73" name="" descr=""/>
            <p:cNvPicPr/>
            <p:nvPr/>
          </p:nvPicPr>
          <p:blipFill>
            <a:blip r:embed="rId114"/>
            <a:stretch/>
          </p:blipFill>
          <p:spPr>
            <a:xfrm>
              <a:off x="5676840" y="6139440"/>
              <a:ext cx="69660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74" name="" descr=""/>
            <p:cNvPicPr/>
            <p:nvPr/>
          </p:nvPicPr>
          <p:blipFill>
            <a:blip r:embed="rId115"/>
            <a:stretch/>
          </p:blipFill>
          <p:spPr>
            <a:xfrm>
              <a:off x="6729120" y="6136920"/>
              <a:ext cx="69696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75" name=""/>
            <p:cNvSpPr/>
            <p:nvPr/>
          </p:nvSpPr>
          <p:spPr>
            <a:xfrm>
              <a:off x="1117440" y="5051520"/>
              <a:ext cx="81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Bahre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41360" y="5046120"/>
              <a:ext cx="81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09920" y="5049720"/>
              <a:ext cx="75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Omá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7920" y="5046120"/>
              <a:ext cx="100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Arabia Saud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27440" y="5049720"/>
              <a:ext cx="1001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Arial Narrow"/>
                </a:rPr>
                <a:t>Emiratos Árabes Uni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95920" y="5046120"/>
              <a:ext cx="100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U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37960" y="6394680"/>
              <a:ext cx="81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Bél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19040" y="6399360"/>
              <a:ext cx="9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Hong Ko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7120" y="6394680"/>
              <a:ext cx="9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Litua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65440" y="6399360"/>
              <a:ext cx="9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Mongo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90800" y="6395760"/>
              <a:ext cx="9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Omá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040" y="6400800"/>
              <a:ext cx="928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 Narrow"/>
                </a:rPr>
                <a:t>Federación Ru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96840" y="50760"/>
            <a:ext cx="903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gapur tiene Acuerdos sobre Doble Imposición con más de 50 paí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43320" y="1195560"/>
            <a:ext cx="4914720" cy="246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  <a:ea typeface="Arial"/>
              </a:rPr>
              <a:t>Posibilidad de evitar completamente la doble imposi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28880" y="4305240"/>
            <a:ext cx="4914720" cy="246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  <a:ea typeface="Arial"/>
              </a:rPr>
              <a:t>Tratados limit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30320" y="5621400"/>
            <a:ext cx="4915080" cy="246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  <a:ea typeface="Arial"/>
              </a:rPr>
              <a:t>Tratados firmados pero todavía no ratific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6d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5909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931c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579132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539800" cy="3810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6320"/>
            <a:ext cx="914400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gapur cuenta con una mano de obra de primera catego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25780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ente: Clasificación de manos de obra BERI 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735200"/>
          <a:ext cx="457200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35200"/>
                    <a:ext cx="45720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4400640" y="1395360"/>
            <a:ext cx="487656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8% como mínimo con título de   Secundaria o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o de obra más cualificada del mundo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– BERI (Business Environment Risk Intelligence)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Informe de Competitividad Mundial 2003/4 clasifica a Singapur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º a nivel mundial en la disponibilidad de trabajo especializ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7º a nivel mundial en la disponibilidad de profesionales de tecnologías de la información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3480" y="1289160"/>
            <a:ext cx="254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1266840"/>
            <a:ext cx="361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JOR MANO DE O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CA0-51FA-4BC1-9DF4-6B245D81D24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gapur es una ciudad cosmopolita multirracial   y multi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35160" y="936720"/>
          <a:ext cx="65530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5160" y="936720"/>
                    <a:ext cx="6553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0" y="658332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8080"/>
                </a:solidFill>
                <a:latin typeface="Arial"/>
              </a:rPr>
              <a:t>Fuente: Estadísticas de Singapur (http://www.singstat.gov.s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94000" y="15462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7c23"/>
                </a:solidFill>
                <a:latin typeface="Arial"/>
              </a:rPr>
              <a:t>Distribución étnica,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74680" y="16225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hi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76,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75280" y="352728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lay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3,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4200" y="36799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7,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41720" y="36036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-5410080" y="4419720"/>
            <a:ext cx="1234440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100160"/>
            <a:ext cx="5981760" cy="575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6804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bido a las acogedoras leyes de inmigración de Singapur para contratar mano de obra extranj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7640" y="4869000"/>
            <a:ext cx="2049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Fuente: IMD World Competitiveness Yearbook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7680" y="1701720"/>
            <a:ext cx="516096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Clasif.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rl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ino U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ngap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Hong K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slan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co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inlan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rtug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840" y="1239840"/>
            <a:ext cx="728352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Leyes de Inmigración Menos Restrictiv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60960" y="1881360"/>
            <a:ext cx="1413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欢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32440" y="2503440"/>
            <a:ext cx="2279880" cy="42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lamat Dat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24520" y="1273320"/>
            <a:ext cx="227988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337440" y="4170240"/>
            <a:ext cx="2613960" cy="1146240"/>
            <a:chOff x="6337440" y="4170240"/>
            <a:chExt cx="2613960" cy="1146240"/>
          </a:xfrm>
        </p:grpSpPr>
        <p:sp>
          <p:nvSpPr>
            <p:cNvPr id="86" name=""/>
            <p:cNvSpPr/>
            <p:nvPr/>
          </p:nvSpPr>
          <p:spPr>
            <a:xfrm>
              <a:off x="6337440" y="4429080"/>
              <a:ext cx="26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Bienveni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64080" y="4170240"/>
              <a:ext cx="2587320" cy="11462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176880" y="3108240"/>
            <a:ext cx="2148120" cy="430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cs typeface="Arial"/>
              </a:rPr>
              <a:t>ترحي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6d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5909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e27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579132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70640" y="3124080"/>
            <a:ext cx="2658960" cy="26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52280"/>
            <a:ext cx="853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5276880"/>
            <a:ext cx="444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uente: Political &amp; Economic Risk Consultancy Ltd, PERC, junio 2005. Valores de 0 a 10, con 0 = ningún papeleo, 10 = altos niveles de papele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278000"/>
          <a:ext cx="4530600" cy="40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8000"/>
                    <a:ext cx="453060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KMA4F595B"/>
          <p:cNvSpPr/>
          <p:nvPr/>
        </p:nvSpPr>
        <p:spPr>
          <a:xfrm>
            <a:off x="593640" y="1200240"/>
            <a:ext cx="323856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47880" bIns="478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ugar menos burocrático de Asia para hacer nego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gapur es un lugar en el que hacer negocios 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ncillo debido a sus políticas favo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94440" y="1333440"/>
            <a:ext cx="3682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7760" y="1143000"/>
            <a:ext cx="464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12240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ugar más competitivo en costes para hacer negocios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– KPMG Estudio de Alternativas Competitivas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240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2240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conomía Asiática más Competitiva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– Índice de Competitividad Mundial (ICM), 2005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2240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2240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lugar de Asia donde es más fácil lanzar una actividad empresarial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– Informe Banco Mundial: “Hacer negocios en 200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2240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2240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stema judicial de primera categoría e ínteg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– PERC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2240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2240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do tipo de facilidades para hacer negoc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– Banco Mundial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62485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490-1576-4C5C-860B-AE728F57D74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42554" t="-387" r="0" b="0"/>
          <a:stretch/>
        </p:blipFill>
        <p:spPr>
          <a:xfrm>
            <a:off x="0" y="900000"/>
            <a:ext cx="3409920" cy="5396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11280" y="152280"/>
            <a:ext cx="853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The Singapore Advantage – An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35480" y="1184400"/>
            <a:ext cx="497340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Nivel más bajo de corrupción gubernamental en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500" spc="-1" strike="noStrike">
                <a:solidFill>
                  <a:srgbClr val="000066"/>
                </a:solidFill>
                <a:latin typeface="Arial"/>
              </a:rPr>
              <a:t>Political and Economic Risk Consultancy, marzo 200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La nación más globalizada del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es-ES_tradnl" sz="1500" spc="-1" strike="noStrike">
                <a:solidFill>
                  <a:srgbClr val="000066"/>
                </a:solidFill>
                <a:latin typeface="Arial"/>
              </a:rPr>
              <a:t>. T. Kearney/ Foreign Policy Magazine 200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Los mejores entornos para hacer negocios – 6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500" spc="-1" strike="noStrike">
                <a:solidFill>
                  <a:srgbClr val="000066"/>
                </a:solidFill>
                <a:latin typeface="Arial"/>
              </a:rPr>
              <a:t>The Economist Intelligence Unit, en su clasificación de entornos para hacer negocios (2006-201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El mejor lugar de Asia para hacer negocios en los próximos 5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500" spc="-1" strike="noStrike">
                <a:solidFill>
                  <a:srgbClr val="000066"/>
                </a:solidFill>
                <a:latin typeface="Arial"/>
              </a:rPr>
              <a:t>Economist Intelligence Un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500" spc="-1" strike="noStrike">
                <a:solidFill>
                  <a:srgbClr val="000066"/>
                </a:solidFill>
                <a:latin typeface="Arial"/>
              </a:rPr>
              <a:t>Clasificación de entornos para hacer negocios 200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901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Óptimo entorno para hacer negoc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498600" y="1636560"/>
            <a:ext cx="7633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Mejor Gobierno Corporativo de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GMI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El sistema bancario de Singapur es uno de los más potentes en Asia Pací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Economic &amp; Industry Risk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Asia Pacific Banking Systems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2ª ciudad más segura de entre las 50 principales del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Mercer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Ciudad con más Convenciones en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ICCA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B5D-D894-473D-BA6F-CBC2EF3096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42554" t="-387" r="0" b="0"/>
          <a:stretch/>
        </p:blipFill>
        <p:spPr>
          <a:xfrm>
            <a:off x="0" y="836640"/>
            <a:ext cx="3409920" cy="5396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1280" y="152280"/>
            <a:ext cx="853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The Singapore Advantage – An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901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Óptimo entorno para hacer negoc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1040" y="1222200"/>
            <a:ext cx="4506840" cy="47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Economía asiática más 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Índice de Competitividad Mundial (ICM), 2005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es-ES_tradnl" sz="2000" spc="-1" strike="noStrike" baseline="30000">
                <a:solidFill>
                  <a:srgbClr val="ff6600"/>
                </a:solidFill>
                <a:latin typeface="Arial"/>
              </a:rPr>
              <a:t>o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 país en potencial inver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Informe BERI agosto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Los incentivos más atractivos para la inversión en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Arial"/>
              </a:rPr>
              <a:t>IMD World Competitiveness </a:t>
            </a:r>
            <a:br>
              <a:rPr sz="2000"/>
            </a:br>
            <a:r>
              <a:rPr b="0" i="1" lang="es-ES_tradnl" sz="2000" spc="-1" strike="noStrike">
                <a:solidFill>
                  <a:srgbClr val="000066"/>
                </a:solidFill>
                <a:latin typeface="Arial"/>
              </a:rPr>
              <a:t>Yearbook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es-ES_tradnl" sz="2000" spc="-1" strike="noStrike" baseline="30000">
                <a:solidFill>
                  <a:srgbClr val="ff6600"/>
                </a:solidFill>
                <a:latin typeface="Arial"/>
              </a:rPr>
              <a:t>o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 entorno más atractivo para extranjeros muy cualifi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IMD World Competitiveness </a:t>
            </a:r>
            <a:br>
              <a:rPr sz="1800"/>
            </a:b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Yearbook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498600" y="1636560"/>
            <a:ext cx="7633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Mejor Gobierno Corporativo de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GMI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El sistema bancario de Singapur es uno de los más potentes en Asia Pací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Economic &amp; Industry Risk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Asia Pacific Banking Systems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2ª ciudad más segura de entre las 50 principales del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Mercer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Ciudad con más Convenciones en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ICCA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D6A-CCD8-4C2F-955F-DC992BF294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17:29:41Z</dcterms:created>
  <dc:creator>Alexis Marquez</dc:creator>
  <dc:description/>
  <dc:language>en-US</dc:language>
  <cp:lastModifiedBy>Usuario</cp:lastModifiedBy>
  <dcterms:modified xsi:type="dcterms:W3CDTF">2007-11-02T19:52:02Z</dcterms:modified>
  <cp:revision>4</cp:revision>
  <dc:subject/>
  <dc:title>Diapositiva 1</dc:title>
</cp:coreProperties>
</file>