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7E8-A915-4D2C-8C37-A2515B75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C56-B668-45D5-99A6-170451A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D90-5FEE-4F09-BCE2-36DAC00B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431-95D8-4B8F-B014-182377D4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52AE6-91DB-47FD-BDC6-D906FCB4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17AB4-3459-4D5B-AA99-3357D8CE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BD7D7-CAD8-4AF9-9221-09ECF95B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59E51-D761-4E01-8DC5-D781CF61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1B19C-4C6A-48E0-8A38-20A81256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DF591-D2A8-4E0C-AB5C-C0893F3F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B3F34-7B7C-40DE-8702-9D541DD0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DD2-9DEA-470F-8914-4BB440EE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3D0A6-4771-4CB5-B0C4-2BA486E6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9DF90-F1D5-40A1-94A1-496530E6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BB6C2-5EF5-4B88-BA43-7500FDD5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9943E-E824-43F4-9943-509588B8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89602-3AF0-4F28-9A3E-2CA0DFBC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47A-77E6-48EF-9F8D-E9BF1E38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6FE-37A6-4973-96D5-980DE0D2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1E6-22E7-421C-B078-C657D7D0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3D8-EC40-4B19-82EC-401CB2B4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1B2-0CBD-49C7-AAD6-CE313026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E54-59EA-4121-ACEC-EBCC2A6D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DC3-2C1A-40A8-8DC0-05551207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765C-93A9-4E77-9F9D-4AF6201ECA4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AE93-D090-47B4-9664-ED77E0C780B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Chile, Asia Pacíf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y Chin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r>
              <a:rPr b="1" lang="es-ES_tradnl" sz="4800" spc="-1" strike="noStrike">
                <a:solidFill>
                  <a:srgbClr val="e3e3ff"/>
                </a:solidFill>
                <a:latin typeface="Abadi MT Condensed Light"/>
              </a:rPr>
              <a:t>¿Qué nos falta para aprovechar la oportunida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2670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4. Renji Hexie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armonía interpersonal)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Un hombre sin sonrisa no debería abrir un nego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rácter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ulce y amabilidad producen diner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stos proverbios chinos dicen mucho sobre la importancia de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relaciones armónicas entre los socios de negoc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el respeto y la responsabilidad son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egamento que une las relaciones jerárquicas, la amistad y los sentimientos positivos (Renji Hex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tan las relaciones entre ig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5. Zhengti Guannian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ensamiento holíst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piensan en términos de un todo, mientras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nosotros pensamos de forma secuencial e individual, dividiendo negociaciones complejas en una serie de asuntos más pequeños: precio, cantidad, garantía, entrega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negociadores chinos tienden a hablar sobre todos esos asuntos al mismo tiempo, saltando entre uno a otro, con lo qu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sde el punto de vista nuestro, parece que nunca se llega a un acuer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Además, suelen usar el silencio como táctica de negociación; esto deja a los otros en la incómoda posición de negociar haciendo preguntas, directamente o a travé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nterme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6. Mianz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restigio o capital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n la cultura de negocios chino, la reputación y el estatus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 una persona reposan en el prestig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un occidental hace que los chinos se sientan avergonzados o pierdan la compostura, aunque sea de forma no intencionada, puede resultar desastroso para las negociaci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a noción china de prestigio se parece mucho a nuestro concepto de dign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l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 Mianz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fine el puesto de una persona en su red social; es la medida más importante de valor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Fuentes de prestigio pueden ser la riqueza, la inteligencia, el atractivo, las habilidades, la posición y, por supuesto, un buen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Guanx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7. Chiku Nailao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(resistencia, severidad o trago amargo y trabajo const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son famosos por su ética de trabajo, pero llevan la diligencia un paso mas allá: a la resistenc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nosotros valoramos el talento como una clave del éxito, los chinos consideran el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Chiku Nailao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mucho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mportante y honor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Por ello los niños chinos van al colegio 251 días al año. El trabajo duro, incluso en las peores condiciones, es el id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425880"/>
            <a:ext cx="91440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3e3ff"/>
                </a:solidFill>
                <a:latin typeface="Book Antiqua"/>
              </a:rPr>
              <a:t>¿Asia Pacífico es importante para nosotros?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e3e3ff"/>
                </a:solidFill>
                <a:latin typeface="Book Antiqua"/>
              </a:rPr>
              <a:t>Exportaciones Chilenas por Región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240" y="6350040"/>
            <a:ext cx="23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7564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Larra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DCA-07F2-4681-90DD-2F01833E9A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DESAFÍOS COMO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ESFUERZO ESPECIAL PARA REVERTIR DESVENTA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lejanía/transporte/mercado pequ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INVERTIR MAS EN EXTERIOR Y 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PÚBLICO-PRIVADO, AMPLIO, SÓLIDO Y LARGO PLAZO PARA APROVECHAR ASIA PACÍF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DE COOPERACIÓN PÚBLICO-PRIVADO EN AMBITO VECINAL PARA VINCULACIÓN CON 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PASOS QUE AL MENOS NOS SINGULAR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TLC/búsqueda de múltiples asociaciones internacionales/manejo económico y político responsable/importancia como vínculo a mercado latinoamericano de 700 millones/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necesidad de integración física y energética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CONSTRUIR SÓLIDA “IMAGEN PAÍ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FORMACIÓN DE CAPITAL HU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0" y="-17172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DESARROLLO DE LAS 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MEJORAR ESTRATEGIAS Y PROGRAMAS DE PROMOCIÓN DEL EMPRENDI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Ampliar base de futuros emprendedores (difusión modelos ejemplares,  innovaciones en sistema educativo e instituciones de formación de adultos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= PROMOVER VOCACIÓN Y COMPETENCIAS EMPRENDEDOR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2. Desarrollo de redes y equipos emprend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3. Reducción periodo gestación de los nuevos nego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CONOC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18108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sos de Acercamiento </a:t>
            </a: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ra los Nego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conocer e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ir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  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promocionar </a:t>
            </a: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o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s product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tener perseve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B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uscar puntos comunes y evitar los confli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6.     E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egir un buen representante para sus negoci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 </a:t>
            </a:r>
            <a:r>
              <a:rPr b="1" lang="es-ES" sz="14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ementos al momento de Negoc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Guanx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conexiones person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valoriz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l networking, la información y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nstituciones, los chinos valoran el capital social de un individuo dentro de su grupo de amig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amiliares y compañeros cerc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2. Zhongjian Ren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l intermedi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occidente se tiende a confiar en los demás hasta que haya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tivo para no hacerlo. En china, todos los encuentros con extraños están marcados por la sospecha y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desconfianza; en los negocios se puede ganar confianza, porque sin ella ni siquiera se llega 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btener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una relación comerc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confianza se debe transmitir vía Guanxi, es decir, un contacto de 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fianza debe presentarlo a un contacto de la confianza de o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iense en una típica sesión de negociación sino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ccidenta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 vez de decir directamente que no, la gente de negocios de china es más dada a cambiar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tema, a callarse, a hacer otra pregunta o a responder usando de forma ambigua y vaga expresiones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ositivas con sutiles connotaciones negativas, tales como hai bu cuo (“me parece equivocado”), hai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hao (“parece bastante acertado”) y hai xing o hai ke yi (“parece bastante aceptable”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enga presente que en China es el intermediario, y no el negociador, el primero en mencionar e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sunto a negoci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Shehui Dengj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status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ara los occidentales a menudo es difícil entender la formalidad de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os ejecutivos chinos.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unque 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 estilo formal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los chilen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ncaja bien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un país donde siguen imperando los valores confucianos de obediencia y respeto a los superi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ormalidad, no obstante, va mucho más allá, hasta puntos insondables para muchos occidentales.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jemplo, evite enviar a un delegado suyo con menor rango, a reunirse con uno de más alto rango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nt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traparte china. Puede que la reunión ni siquiera se lleve a cabo, incluso para su propio b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1:46Z</dcterms:created>
  <dc:creator>CANCILLERÍA (Equipo)</dc:creator>
  <dc:description/>
  <dc:language>en-US</dc:language>
  <cp:lastModifiedBy>Profesor</cp:lastModifiedBy>
  <cp:lastPrinted>2006-05-03T05:31:36Z</cp:lastPrinted>
  <dcterms:modified xsi:type="dcterms:W3CDTF">2007-08-23T15:49:12Z</dcterms:modified>
  <cp:revision>964</cp:revision>
  <dc:subject/>
  <dc:title>PRINCIPALES ASPECTOS DE ACUERDO CON UE</dc:title>
</cp:coreProperties>
</file>