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7CEC-AC78-495D-9818-AF8C4C051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D63A-B77C-472F-A71D-AB7221E3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2D6E-D1E0-4852-AE3A-1707FEF59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CB5C-DDAF-49E7-B3F3-6EB15A00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C10ED-6292-4F7C-BFD3-CB6948797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764CD-C886-4192-B14D-7E547798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16C52-10C4-43D4-BF72-284AE328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8163B-2F40-4F3F-97B9-A8A3CBE3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64F3C-61D4-4A8D-B36C-BBA2B8FA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1C933-D9D6-48E9-B56C-B95C1F80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A970E-922C-44D9-A81C-FFF08C98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5CC9-4DE8-4C39-9DDA-8148362F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38B5B-2350-4BC4-8683-7C5AEC4C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3366B4-4726-4438-8CC2-F5F718FE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723BA-5577-46D7-8192-B6EF7000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7E33B-7AAD-4347-B39E-EC2D3D61A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715CD-32D0-4275-ACF1-AF59100C2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68BE-A162-4836-B5FB-52271DF6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62A4-FB50-44B4-9A49-15FD9516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7139-5F0F-4E24-983C-CA0AAD14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C1D1-29CC-4B38-8D44-A93D57E6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5336-BDE6-4401-ADBE-504B3503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34B2-3410-4777-906F-ABC1FBC2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1943-6A7E-4CDB-A8EA-E6D00E5D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6B05-8D22-4C84-B2D4-08C255FAFCD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5FAB-9C4D-492C-897E-A1E261AE97A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e3e3ff"/>
                </a:solidFill>
                <a:latin typeface="Abadi MT Condensed Light"/>
              </a:rPr>
              <a:t>Chile, Asia Pacífic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e3e3ff"/>
                </a:solidFill>
                <a:latin typeface="Abadi MT Condensed Light"/>
              </a:rPr>
              <a:t>y Chin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0" spc="-1" strike="noStrike">
                <a:solidFill>
                  <a:srgbClr val="e3e3ff"/>
                </a:solidFill>
                <a:latin typeface="Abadi MT Condensed Light"/>
              </a:rPr>
              <a:t> </a:t>
            </a:r>
            <a:r>
              <a:rPr b="1" lang="es-ES_tradnl" sz="4800" spc="-1" strike="noStrike">
                <a:solidFill>
                  <a:srgbClr val="e3e3ff"/>
                </a:solidFill>
                <a:latin typeface="Abadi MT Condensed Light"/>
              </a:rPr>
              <a:t>¿Qué nos falta para aprovechar la oportunidad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426708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4. Renji Hexie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(armonía interpersonal)</a:t>
            </a:r>
            <a:r>
              <a:rPr b="1" lang="es-E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Un hombre sin sonrisa no debería abrir un negocio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arácter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dulce y amabilidad producen dinero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stos proverbios chinos dicen mucho sobre la importancia de las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relaciones armónicas entre los socios de negoci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Mientras el respeto y la responsabilidad son 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pegamento que une las relaciones jerárquicas, la amistad y los sentimientos positivos (Renji Hexi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atan las relaciones entre igu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500"/>
                            </p:stCondLst>
                            <p:childTnLst>
                              <p:par>
                                <p:cTn id="24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6000"/>
                            </p:stCondLst>
                            <p:childTnLst>
                              <p:par>
                                <p:cTn id="25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7500"/>
                            </p:stCondLst>
                            <p:childTnLst>
                              <p:par>
                                <p:cTn id="26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9000"/>
                            </p:stCondLst>
                            <p:childTnLst>
                              <p:par>
                                <p:cTn id="27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</a:rPr>
              <a:t>5. Zhengti Guannian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(pensamiento holístic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Los chinos piensan en términos de un todo, mientras 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nosotros pensamos de forma secuencial e individual, dividiendo negociaciones complejas en una serie de asuntos más pequeños: precio, cantidad, garantía, entrega, et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Los negociadores chinos tienden a hablar sobre todos esos asuntos al mismo tiempo, saltando entre uno a otro, con lo qu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desde el punto de vista nuestro, parece que nunca se llega a un acuer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Además, suelen usar el silencio como táctica de negociación; esto deja a los otros en la incómoda posición de negociar haciendo preguntas, directamente o a través 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intermedi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</a:rPr>
              <a:t>6. Mianzi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(prestigio o capital soci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En la cultura de negocios chino, la reputación y el estatus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de una persona reposan en el prestigi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Si un occidental hace que los chinos se sientan avergonzados o pierdan la compostura, aunque sea de forma no intencionada, puede resultar desastroso para las negociacion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La noción china de prestigio se parece mucho a nuestro concepto de dignida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El</a:t>
            </a:r>
            <a:r>
              <a:rPr b="1" i="1" lang="es-ES" sz="2400" spc="-1" strike="noStrike">
                <a:solidFill>
                  <a:srgbClr val="ffffff"/>
                </a:solidFill>
                <a:latin typeface="Book Antiqua"/>
              </a:rPr>
              <a:t> Mianzi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define el puesto de una persona en su red social; es la medida más importante de valor so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Fuentes de prestigio pueden ser la riqueza, la inteligencia, el atractivo, las habilidades, la posición y, por supuesto, un buen </a:t>
            </a:r>
            <a:r>
              <a:rPr b="1" i="1" lang="es-ES" sz="2400" spc="-1" strike="noStrike">
                <a:solidFill>
                  <a:srgbClr val="ffffff"/>
                </a:solidFill>
                <a:latin typeface="Book Antiqua"/>
              </a:rPr>
              <a:t>Guanxi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</a:rPr>
              <a:t>7. Chiku Nailao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(resistencia, severidad o trago amargo y trabajo constan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Los chinos son famosos por su ética de trabajo, pero llevan la diligencia un paso mas allá: a la resistenc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Si nosotros valoramos el talento como una clave del éxito, los chinos consideran el </a:t>
            </a:r>
            <a:r>
              <a:rPr b="1" i="1" lang="es-ES" sz="2400" spc="-1" strike="noStrike">
                <a:solidFill>
                  <a:srgbClr val="ffffff"/>
                </a:solidFill>
                <a:latin typeface="Book Antiqua"/>
              </a:rPr>
              <a:t>Chiku Nailao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mucho m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importante y honorab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</a:rPr>
              <a:t>Por ello los niños chinos van al colegio 251 días al año. El trabajo duro, incluso en las peores condiciones, es el id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Book Antiqua"/>
              </a:rPr>
              <a:t>MUCHAS GRACI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425880"/>
            <a:ext cx="914400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600" spc="-1" strike="noStrike">
                <a:solidFill>
                  <a:srgbClr val="e3e3ff"/>
                </a:solidFill>
                <a:latin typeface="Book Antiqua"/>
              </a:rPr>
              <a:t>¿Asia Pacífico es importante para nosotros?</a:t>
            </a: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Book Antiqua"/>
              </a:rPr>
              <a:t>(</a:t>
            </a:r>
            <a:r>
              <a:rPr b="0" lang="en-US" sz="2400" spc="-1" strike="noStrike">
                <a:solidFill>
                  <a:srgbClr val="e3e3ff"/>
                </a:solidFill>
                <a:latin typeface="Book Antiqua"/>
              </a:rPr>
              <a:t>Exportaciones Chilenas por Región)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5240" y="6350040"/>
            <a:ext cx="23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Fuente: Banco Central de Chi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8675640" cy="597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elipe Larraí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F81A-0D61-41AB-9ADE-A3A829D805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DESAFÍOS COMO PAÍ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ESFUERZO ESPECIAL PARA REVERTIR DESVENTAJ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(lejanía/transporte/mercado pequeñ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INVERTIR MAS EN EXTERIOR Y AS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ACUERDO PÚBLICO-PRIVADO, AMPLIO, SÓLIDO Y LARGO PLAZO PARA APROVECHAR ASIA PACÍF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ACUERDO DE COOPERACIÓN PÚBLICO-PRIVADO EN AMBITO VECINAL PARA VINCULACIÓN CON A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PASOS QUE AL MENOS NOS SINGULARI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(TLC/búsqueda de múltiples asociaciones internacionales/manejo económico y político responsable/importancia como vínculo a mercado latinoamericano de 700 millones/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necesidad de integración física y energética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CONSTRUIR SÓLIDA “IMAGEN PAÍ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FORMACIÓN DE CAPITAL HUMA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0" y="-171720"/>
            <a:ext cx="91440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400" spc="-1" strike="noStrike">
                <a:solidFill>
                  <a:srgbClr val="e3e3ff"/>
                </a:solidFill>
                <a:latin typeface="Book Antiqua"/>
              </a:rPr>
              <a:t>DESARROLLO DE LAS T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3e3ff"/>
                </a:solidFill>
                <a:latin typeface="Book Antiqua"/>
              </a:rPr>
              <a:t> </a:t>
            </a:r>
            <a:r>
              <a:rPr b="1" lang="es-ES_tradnl" sz="2400" spc="-1" strike="noStrike">
                <a:solidFill>
                  <a:srgbClr val="e3e3ff"/>
                </a:solidFill>
                <a:latin typeface="Book Antiqua"/>
              </a:rPr>
              <a:t>MEJORAR ESTRATEGIAS Y PROGRAMAS DE PROMOCIÓN DEL EMPRENDIMIEN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Ampliar base de futuros emprendedores (difusión modelos ejemplares,  innovaciones en sistema educativo e instituciones de formación de adultos </a:t>
            </a:r>
            <a:r>
              <a:rPr b="1" lang="es-ES_tradnl" sz="2000" spc="-1" strike="noStrike">
                <a:solidFill>
                  <a:srgbClr val="e3e3ff"/>
                </a:solidFill>
                <a:latin typeface="Book Antiqua"/>
              </a:rPr>
              <a:t>= PROMOVER VOCACIÓN Y COMPETENCIAS EMPRENDEDORA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2. Desarrollo de redes y equipos emprende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3. Reducción periodo gestación de los nuevos negoc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0" spc="-1" strike="noStrike">
                <a:solidFill>
                  <a:srgbClr val="e3e3ff"/>
                </a:solidFill>
                <a:latin typeface="Abadi MT Condensed Light"/>
              </a:rPr>
              <a:t>CONOCER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-18108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ASO CH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Pasos de Acercamiento </a:t>
            </a:r>
            <a:r>
              <a:rPr b="1" lang="es-MX" sz="32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para los Negoc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Hay que conocer el mercado ch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Hay que ir al mercado ch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3.    </a:t>
            </a: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Hay que promocionar </a:t>
            </a:r>
            <a:r>
              <a:rPr b="1" lang="es-MX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lo</a:t>
            </a: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s productos</a:t>
            </a:r>
            <a:r>
              <a:rPr b="1" lang="es-ES" sz="2400" spc="-1" strike="noStrike">
                <a:solidFill>
                  <a:srgbClr val="e3e3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Hay que tener persevera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B</a:t>
            </a: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uscar puntos comunes y evitar los conflic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6.     E</a:t>
            </a: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legir un buen representante para sus negocios</a:t>
            </a: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 </a:t>
            </a:r>
            <a:r>
              <a:rPr b="1" lang="he-IL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e3e3ff"/>
                </a:solidFill>
                <a:latin typeface="Book Antiqua"/>
              </a:rPr>
              <a:t>  </a:t>
            </a:r>
            <a:r>
              <a:rPr b="1" lang="es-ES" sz="1400" spc="-1" strike="noStrike">
                <a:solidFill>
                  <a:srgbClr val="e3e3ff"/>
                </a:solidFill>
                <a:latin typeface="Abadi MT Condensed Light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0" y="692280"/>
            <a:ext cx="9144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ASO CH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Elementos al momento de Negoci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EL </a:t>
            </a: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Guanxi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(conexiones persona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Mientras 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nosotros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valoriza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mos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el networking, la información y las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instituciones, los chinos valoran el capital social de un individuo dentro de su grupo de amig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familiares y compañeros cerc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2. Zhongjian Ren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(el intermediar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n occidente se tiende a confiar en los demás hasta que haya 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motivo para no hacerlo. En china, todos los encuentros con extraños están marcados por la sospecha y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a desconfianza; en los negocios se puede ganar confianza, porque sin ella ni siquiera se llega 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obtener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una relación comerc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a confianza se debe transmitir vía Guanxi, es decir, un contacto de s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onfianza debe presentarlo a un contacto de la confianza de ot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Piense en una típica sesión de negociación sino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-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occidental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n vez de decir directamente que no, la gente de negocios de china es más dada a cambiar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de tema, a callarse, a hacer otra pregunta o a responder usando de forma ambigua y vaga expresiones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positivas con sutiles connotaciones negativas, tales como hai bu cuo (“me parece equivocado”), hai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hao (“parece bastante acertado”) y hai xing o hai ke yi (“parece bastante aceptable”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Tenga presente que en China es el intermediario, y no el negociador, el primero en mencionar el</a:t>
            </a:r>
            <a:r>
              <a:rPr b="1" lang="es-MX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asunto a negoci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7500"/>
                            </p:stCondLst>
                            <p:childTnLst>
                              <p:par>
                                <p:cTn id="16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9000"/>
                            </p:stCondLst>
                            <p:childTnLst>
                              <p:par>
                                <p:cTn id="17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Book Antiqua"/>
                <a:ea typeface="Times New Roman"/>
              </a:rPr>
              <a:t>3. Shehui Dengji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(estatus soci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Para los occidentales a menudo es difícil entender la formalidad de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os ejecutivos chinos. 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Aunque e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 estilo formal 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de los chilenos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encaja bien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n un país donde siguen imperando los valores confucianos de obediencia y respeto a los superior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a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formalidad, no obstante, va mucho más allá, hasta puntos insondables para muchos occidentales. P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Ejemplo, evite enviar a un delegado suyo con menor rango, a reunirse con uno de más alto rango </a:t>
            </a:r>
            <a:r>
              <a:rPr b="1" lang="es-MX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ante</a:t>
            </a: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ontraparte china. Puede que la reunión ni siquiera se lleve a cabo, incluso para su propio bi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3T18:31:46Z</dcterms:created>
  <dc:creator>CANCILLERÍA (Equipo)</dc:creator>
  <dc:description/>
  <dc:language>en-US</dc:language>
  <cp:lastModifiedBy>Profesor</cp:lastModifiedBy>
  <cp:lastPrinted>2006-05-03T05:31:36Z</cp:lastPrinted>
  <dcterms:modified xsi:type="dcterms:W3CDTF">2007-08-23T15:49:12Z</dcterms:modified>
  <cp:revision>964</cp:revision>
  <dc:subject/>
  <dc:title>PRINCIPALES ASPECTOS DE ACUERDO CON UE</dc:title>
</cp:coreProperties>
</file>