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AF8A-C591-43E6-AFAB-B5E9EF2E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5E1F-DEEA-4508-8A9A-19BD03FF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E3C7-E314-4092-9BA6-52F50EFA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65A0-A0CA-4D93-A2B1-05D04DDD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9C5D9-C507-46D1-A09C-37F66890E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21B45-67A8-4415-97B9-6E6C962A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EDC40-3D10-40F9-B1B8-28439147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86D7B-22A9-47D9-B211-43F139D9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62B32-2479-4519-9CE9-301FF3B0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E3584-3CAA-4844-9F00-24BAB560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B5644-5BFE-467F-96E6-E82BDDDD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B726-ED17-4776-B2C1-5F18D13C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D6B64-FEA5-4F17-82A9-1C009213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98B92-B4D2-4CEF-BDA7-D86B992A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4A1EE-97FB-497B-BEE3-9BC92DC9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80DC8-413E-46F4-AE6E-64FBA7B1E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C3B1A-75E3-413E-996B-0AD4B3CF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DBFD-A31E-4AE4-855F-06F3BD56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A155-E3BC-4B65-A366-C4AEF783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EE7F-3D0B-4C3D-91A5-1D2D904A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313F-AA44-4BA7-A038-00D13813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C3C0-BFAD-4BD0-B451-A7B4B325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38F9-2AC7-4F1A-9565-08B0E6BF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A76E-9C74-4F85-800F-6A8272FD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ECC1-330E-4436-AD11-A912FA8DE7B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42D9-F1B2-4B34-944F-6BFD1130E86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3e3ff"/>
                </a:solidFill>
                <a:latin typeface="Abadi MT Condensed Light"/>
              </a:rPr>
              <a:t>Chile, Asia Pacífic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3e3ff"/>
                </a:solidFill>
                <a:latin typeface="Abadi MT Condensed Light"/>
              </a:rPr>
              <a:t>y Chin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e3e3ff"/>
                </a:solidFill>
                <a:latin typeface="Abadi MT Condensed Light"/>
              </a:rPr>
              <a:t> </a:t>
            </a:r>
            <a:r>
              <a:rPr b="1" lang="es-ES_tradnl" sz="4800" spc="-1" strike="noStrike">
                <a:solidFill>
                  <a:srgbClr val="e3e3ff"/>
                </a:solidFill>
                <a:latin typeface="Abadi MT Condensed Light"/>
              </a:rPr>
              <a:t>¿Qué nos falta para aprovechar la oportunidad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42670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4. Renji Hexie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armonía interpersonal)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Un hombre sin sonrisa no debería abrir un negoci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arácter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ulce y amabilidad producen diner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stos proverbios chinos dicen mucho sobre la importancia de las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relaciones armónicas entre los socios de negoci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ientras el respeto y la responsabilidad son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egamento que une las relaciones jerárquicas, la amistad y los sentimientos positivos (Renji Hexi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tan las relaciones entre igu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500"/>
                            </p:stCondLst>
                            <p:childTnLst>
                              <p:par>
                                <p:cTn id="26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9000"/>
                            </p:stCondLst>
                            <p:childTnLst>
                              <p:par>
                                <p:cTn id="27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5. Zhengti Guannian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(pensamiento holístic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os chinos piensan en términos de un todo, mientras 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nosotros pensamos de forma secuencial e individual, dividiendo negociaciones complejas en una serie de asuntos más pequeños: precio, cantidad, garantía, entrega,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os negociadores chinos tienden a hablar sobre todos esos asuntos al mismo tiempo, saltando entre uno a otro, con lo qu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desde el punto de vista nuestro, parece que nunca se llega a un acuer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Además, suelen usar el silencio como táctica de negociación; esto deja a los otros en la incómoda posición de negociar haciendo preguntas, directamente o a través 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intermedi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6. Mianzi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(prestigio o capital soc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En la cultura de negocios chino, la reputación y el estatus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de una persona reposan en el prestigi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Si un occidental hace que los chinos se sientan avergonzados o pierdan la compostura, aunque sea de forma no intencionada, puede resultar desastroso para las negociacion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a noción china de prestigio se parece mucho a nuestro concepto de dignida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El</a:t>
            </a: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 Mianzi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define el puesto de una persona en su red social; es la medida más importante de valor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Fuentes de prestigio pueden ser la riqueza, la inteligencia, el atractivo, las habilidades, la posición y, por supuesto, un buen </a:t>
            </a: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Guanxi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7. Chiku Nailao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(resistencia, severidad o trago amargo y trabajo constan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os chinos son famosos por su ética de trabajo, pero llevan la diligencia un paso mas allá: a la resistenc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Si nosotros valoramos el talento como una clave del éxito, los chinos consideran el </a:t>
            </a: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Chiku Nailao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mucho m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importante y honora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Por ello los niños chinos van al colegio 251 días al año. El trabajo duro, incluso en las peores condiciones, es el id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Book Antiqua"/>
              </a:rPr>
              <a:t>MUCHAS GRACI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425880"/>
            <a:ext cx="91440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e3e3ff"/>
                </a:solidFill>
                <a:latin typeface="Book Antiqua"/>
              </a:rPr>
              <a:t>¿Asia Pacífico es importante para nosotros?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Book Antiqua"/>
              </a:rPr>
              <a:t>(</a:t>
            </a:r>
            <a:r>
              <a:rPr b="0" lang="en-US" sz="2400" spc="-1" strike="noStrike">
                <a:solidFill>
                  <a:srgbClr val="e3e3ff"/>
                </a:solidFill>
                <a:latin typeface="Book Antiqua"/>
              </a:rPr>
              <a:t>Exportaciones Chilenas por Región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5240" y="6350040"/>
            <a:ext cx="23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Fuente: Banco Central de Chi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8675640" cy="597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pe Larraí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A04E-E1DE-4AD4-952E-3A2E264E88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DESAFÍOS COMO PAÍ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ESFUERZO ESPECIAL PARA REVERTIR DESVENTAJ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(lejanía/transporte/mercado pequeñ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INVERTIR MAS EN EXTERIOR Y AS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ACUERDO PÚBLICO-PRIVADO, AMPLIO, SÓLIDO Y LARGO PLAZO PARA APROVECHAR ASIA PACÍF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ACUERDO DE COOPERACIÓN PÚBLICO-PRIVADO EN AMBITO VECINAL PARA VINCULACIÓN CON 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PASOS QUE AL MENOS NOS SINGULARI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(TLC/búsqueda de múltiples asociaciones internacionales/manejo económico y político responsable/importancia como vínculo a mercado latinoamericano de 700 millones/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necesidad de integración física y energética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CONSTRUIR SÓLIDA “IMAGEN PAÍ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FORMACIÓN DE CAPITAL HUM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0" y="-171720"/>
            <a:ext cx="91440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DESARROLLO DE LAS 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MEJORAR ESTRATEGIAS Y PROGRAMAS DE PROMOCIÓN DEL EMPRENDIMIEN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Ampliar base de futuros emprendedores (difusión modelos ejemplares,  innovaciones en sistema educativo e instituciones de formación de adultos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= PROMOVER VOCACIÓN Y COMPETENCIAS EMPRENDEDORA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2. Desarrollo de redes y equipos emprend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3. Reducción periodo gestación de los nuevos negoc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e3e3ff"/>
                </a:solidFill>
                <a:latin typeface="Abadi MT Condensed Light"/>
              </a:rPr>
              <a:t>CONOCER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-18108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ASO CH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Pasos de Acercamiento </a:t>
            </a:r>
            <a:r>
              <a:rPr b="1" lang="es-MX" sz="32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para los Nego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conocer el mercado ch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ir al mercado ch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3.    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promocionar </a:t>
            </a: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lo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s productos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tener persevera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B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uscar puntos comunes y evitar los conflic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6.     E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legir un buen representante para sus negocios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  </a:t>
            </a:r>
            <a:r>
              <a:rPr b="1" lang="es-ES" sz="1400" spc="-1" strike="noStrike">
                <a:solidFill>
                  <a:srgbClr val="e3e3ff"/>
                </a:solidFill>
                <a:latin typeface="Abadi MT Condensed Ligh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0" y="692280"/>
            <a:ext cx="9144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ASO CH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Elementos al momento de Negoci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EL 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Guanxi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conexiones persona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ientras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nosotros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valoriza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os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el networking, la información y las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instituciones, los chinos valoran el capital social de un individuo dentro de su grupo de amig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familiares y compañeros cerc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2. Zhongjian Ren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el intermedi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n occidente se tiende a confiar en los demás hasta que haya 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otivo para no hacerlo. En china, todos los encuentros con extraños están marcados por la sospecha y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a desconfianza; en los negocios se puede ganar confianza, porque sin ella ni siquiera se llega 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obtener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una relación comerc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a confianza se debe transmitir vía Guanxi, es decir, un contacto de s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onfianza debe presentarlo a un contacto de la confianza de o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iense en una típica sesión de negociación sino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-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occidental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n vez de decir directamente que no, la gente de negocios de china es más dada a cambiar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e tema, a callarse, a hacer otra pregunta o a responder usando de forma ambigua y vaga expresiones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ositivas con sutiles connotaciones negativas, tales como hai bu cuo (“me parece equivocado”), hai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hao (“parece bastante acertado”) y hai xing o hai ke yi (“parece bastante aceptable”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Tenga presente que en China es el intermediario, y no el negociador, el primero en mencionar el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sunto a negoci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3. Shehui Dengji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estatus soc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ara los occidentales a menudo es difícil entender la formalidad de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os ejecutivos chinos.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unque e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 estilo formal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e los chilenos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encaja bien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n un país donde siguen imperando los valores confucianos de obediencia y respeto a los superio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a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formalidad, no obstante, va mucho más allá, hasta puntos insondables para muchos occidentales. P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jemplo, evite enviar a un delegado suyo con menor rango, a reunirse con uno de más alto rango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nte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ontraparte china. Puede que la reunión ni siquiera se lleve a cabo, incluso para su propio bi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8:31:46Z</dcterms:created>
  <dc:creator>CANCILLERÍA (Equipo)</dc:creator>
  <dc:description/>
  <dc:language>en-US</dc:language>
  <cp:lastModifiedBy>Profesor</cp:lastModifiedBy>
  <cp:lastPrinted>2006-05-03T05:31:36Z</cp:lastPrinted>
  <dcterms:modified xsi:type="dcterms:W3CDTF">2007-08-23T15:49:12Z</dcterms:modified>
  <cp:revision>964</cp:revision>
  <dc:subject/>
  <dc:title>PRINCIPALES ASPECTOS DE ACUERDO CON UE</dc:title>
</cp:coreProperties>
</file>