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A3B56-896B-4B60-8A9C-E6766C37B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9DDDC-2460-465E-BBC3-F07F9E2E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50017-5014-4C1B-874B-C22144A80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F746E-8869-4AFD-AC3A-69216179C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2BA5E-A776-4462-9933-4693BE1EE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FC83E-866B-416A-A1A2-BFF0C3F95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F510C-8B7B-4A1F-9618-0895FC508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D1771-53E8-41AE-846A-E17D6C5F7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69FEC-63AA-4FA7-9554-56A7F256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A8DB2-C8FD-4870-B62D-E411CB745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1647D-B9D4-4FC8-B36C-60652AE2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6B8B4-951C-42F8-8191-B51846604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12A8-47E5-4373-AB3D-38ED0C4E5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292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niversidad de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SIA PACÍFICO </a:t>
            </a:r>
            <a:r>
              <a:rPr b="0" lang="es-ES_tradnl" sz="2400" spc="-1" strike="noStrike">
                <a:solidFill>
                  <a:srgbClr val="000000"/>
                </a:solidFill>
                <a:latin typeface="Times New Roman"/>
              </a:rPr>
              <a:t>Primavera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u="sng">
                <a:solidFill>
                  <a:srgbClr val="000000"/>
                </a:solidFill>
                <a:uFillTx/>
                <a:latin typeface="Times New Roman"/>
              </a:rPr>
              <a:t>Módulo 1</a:t>
            </a:r>
            <a:r>
              <a:rPr b="1" lang="es-MX" sz="2400" spc="-1" strike="noStrike">
                <a:solidFill>
                  <a:srgbClr val="000000"/>
                </a:solidFill>
                <a:latin typeface="Times New Roman"/>
              </a:rPr>
              <a:t>: REGIÓN ASIA PACÍFICO</a:t>
            </a: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6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historia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07-26T18:35:35Z</dcterms:modified>
  <cp:revision>172</cp:revision>
  <dc:subject/>
  <dc:title>Presentación de PowerPoint</dc:title>
</cp:coreProperties>
</file>