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E9D85-B29C-4CD8-837B-FD7168D4A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3098B-DAA4-4E32-8893-520CBB568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875C6-1B06-413A-8BFC-E832E0D20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354C-2525-425D-AB3B-8A8568A91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0247C-C460-4C1F-93E3-33C559C95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08D29-C101-4760-BB80-B147A1434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0A02-76B5-4E8C-AEF6-4E0F6E22B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B3EA2-C4C6-4F0F-9CE6-6CF1557A2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A0B9-CA65-4EC7-995C-E4C91DBA2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D1309-CDDE-4B56-8D29-7996D4FA6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DB5CE-6D63-4A50-9E39-7AF6E73E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ACCDE-03B0-4344-BE6E-F0A9AAD2F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75C8-6106-46F4-9F2C-B50DD2E9C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292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niversidad de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r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ASIA PACÍFICO </a:t>
            </a:r>
            <a:r>
              <a:rPr b="0" lang="es-ES_tradnl" sz="2400" spc="-1" strike="noStrike">
                <a:solidFill>
                  <a:srgbClr val="000000"/>
                </a:solidFill>
                <a:latin typeface="Times New Roman"/>
              </a:rPr>
              <a:t>Primavera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u="sng">
                <a:solidFill>
                  <a:srgbClr val="000000"/>
                </a:solidFill>
                <a:uFillTx/>
                <a:latin typeface="Times New Roman"/>
              </a:rPr>
              <a:t>Módulo 1</a:t>
            </a:r>
            <a:r>
              <a:rPr b="1" lang="es-MX" sz="2400" spc="-1" strike="noStrike">
                <a:solidFill>
                  <a:srgbClr val="000000"/>
                </a:solidFill>
                <a:latin typeface="Times New Roman"/>
              </a:rPr>
              <a:t>: REGIÓN ASIA PACÍFICO</a:t>
            </a: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6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historia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7-26T18:35:35Z</dcterms:modified>
  <cp:revision>172</cp:revision>
  <dc:subject/>
  <dc:title>Presentación de PowerPoint</dc:title>
</cp:coreProperties>
</file>