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2AB7C-5F59-4CE3-BC54-A6435F4199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E91AB-13FA-4EB3-8389-97B298584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78B77-F140-409E-9812-9453ACFA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B5C5F-B802-40AB-B8FA-674820744D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620B6C-ACE1-4E39-BF09-4A17BD8D2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48FD5E-2742-4510-B7D3-30C4BA631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1021FD-9245-4516-8256-73DD2505F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3B867A-DACC-4F53-A931-88E2B517F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12D43F-9366-4797-9D43-4825D67C8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63E0DB-DCB5-4E0D-95BC-04139B0E5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61237D-6113-470C-98B1-FDCF430D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F6C15-4234-4E6D-87E4-2599DDD8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FD9237-8208-4D1B-99E7-3115DBF9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22F335-94E8-41A8-B62C-9883C95E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FB7A76-1724-4DA8-B9E1-EC1B94017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E49AFC-D710-4201-9A76-805110C3B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D85DB6-CFFA-494D-BDA0-B272D04D0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EE18B-3C2A-4A96-A8DD-F7A0B5ECE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1D6F8-BC6E-4A20-8668-74FF1D3AA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AF9B5-E9CE-483B-B8B2-4A12F8D3F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B4D8E-F01E-4208-8620-835185DDA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DF19C-EAE0-41CE-B6B0-F2A8735CE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E65DD-CE4E-44CB-B113-8A9A3DB04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FE5DF-B45B-48D2-9783-1E4DA3317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67EEB-771B-400C-8F45-B7A65CD9CE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" name="" descr=""/>
          <p:cNvPicPr/>
          <p:nvPr/>
        </p:nvPicPr>
        <p:blipFill>
          <a:blip r:embed="rId2"/>
          <a:stretch/>
        </p:blipFill>
        <p:spPr>
          <a:xfrm>
            <a:off x="4567320" y="1752480"/>
            <a:ext cx="4576680" cy="4135680"/>
          </a:xfrm>
          <a:prstGeom prst="rect">
            <a:avLst/>
          </a:prstGeom>
          <a:ln w="0">
            <a:noFill/>
          </a:ln>
        </p:spPr>
      </p:pic>
      <p:sp>
        <p:nvSpPr>
          <p:cNvPr id="15" name=""/>
          <p:cNvSpPr/>
          <p:nvPr/>
        </p:nvSpPr>
        <p:spPr>
          <a:xfrm>
            <a:off x="0" y="5943600"/>
            <a:ext cx="9144000" cy="380880"/>
          </a:xfrm>
          <a:prstGeom prst="rect">
            <a:avLst/>
          </a:prstGeom>
          <a:gradFill rotWithShape="0">
            <a:gsLst>
              <a:gs pos="0">
                <a:srgbClr val="46465e"/>
              </a:gs>
              <a:gs pos="100000">
                <a:srgbClr val="9999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67320" y="1752480"/>
            <a:ext cx="4576680" cy="4135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76520" y="1690560"/>
            <a:ext cx="7467480" cy="26528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A2CF7-0B6F-4D98-9F42-85B1A961E4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"/>
          <p:cNvSpPr/>
          <p:nvPr/>
        </p:nvSpPr>
        <p:spPr>
          <a:xfrm>
            <a:off x="0" y="620640"/>
            <a:ext cx="2971800" cy="3700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5837760" y="3026160"/>
            <a:ext cx="431640" cy="6164280"/>
          </a:xfrm>
          <a:prstGeom prst="rect">
            <a:avLst/>
          </a:prstGeom>
          <a:gradFill rotWithShape="0">
            <a:gsLst>
              <a:gs pos="0">
                <a:srgbClr val="9e9ece"/>
              </a:gs>
              <a:gs pos="100000">
                <a:srgbClr val="9999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87640" y="5445000"/>
            <a:ext cx="6192720" cy="716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0920" y="836280"/>
            <a:ext cx="7643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Arial"/>
              </a:rPr>
              <a:t>La Presentació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628640"/>
            <a:ext cx="8532720" cy="0"/>
          </a:xfrm>
          <a:prstGeom prst="line">
            <a:avLst/>
          </a:prstGeom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84360" y="2492280"/>
          <a:ext cx="7416720" cy="3095640"/>
        </p:xfrm>
        <a:graphic>
          <a:graphicData uri="http://schemas.openxmlformats.org/drawingml/2006/table">
            <a:tbl>
              <a:tblPr/>
              <a:tblGrid>
                <a:gridCol w="639720"/>
                <a:gridCol w="4832280"/>
                <a:gridCol w="1944720"/>
              </a:tblGrid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trod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Pregunt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Conteni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Conclusió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0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                     </a:t>
                      </a:r>
                      <a:r>
                        <a:rPr b="1" lang="en-US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Pregunt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324000" y="652464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IN 523 Desarrollo de Habilidades Directiv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1773360"/>
            <a:ext cx="69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Estructura típica de una present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0920" y="836280"/>
            <a:ext cx="7643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Arial"/>
              </a:rPr>
              <a:t>La Presentació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628640"/>
            <a:ext cx="8532720" cy="0"/>
          </a:xfrm>
          <a:prstGeom prst="line">
            <a:avLst/>
          </a:prstGeom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652464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IN 523 Desarrollo de Habilidades Directiv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1280" y="1989000"/>
            <a:ext cx="69850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En otras palabra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Decir, lo que tu vas a deci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decirl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luego decir justo lo que intentaste dec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0920" y="836280"/>
            <a:ext cx="7643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Arial"/>
              </a:rPr>
              <a:t>La Presentación - Introdu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628640"/>
            <a:ext cx="8532720" cy="0"/>
          </a:xfrm>
          <a:prstGeom prst="line">
            <a:avLst/>
          </a:prstGeom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652464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IN 523 Desarrollo de Habilidades Directiv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1280" y="1989000"/>
            <a:ext cx="698508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Saludar a la audi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Introducir los obje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Dar una mirada general a la estructura de la presen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Dar instrucción sobre las pregun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0920" y="836280"/>
            <a:ext cx="7643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Arial"/>
              </a:rPr>
              <a:t>La Presentación - Conteni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628640"/>
            <a:ext cx="8532720" cy="0"/>
          </a:xfrm>
          <a:prstGeom prst="line">
            <a:avLst/>
          </a:prstGeom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652464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IN 523 Desarrollo de Habilidades Directiv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1773360"/>
            <a:ext cx="7920000" cy="41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Es la presentación en sí, es importante mostrar dominio y confianza en lo que se d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Cuidar los tiempos, ni rápido, ni l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Conservar la estruc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Ser enfático y entusias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Mantener contacto visual con toda la audie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Modular la vo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Remarcar los hitos de la present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Lucir amistoso y político si se abordan temas conflictiv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0920" y="836280"/>
            <a:ext cx="7643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Arial"/>
              </a:rPr>
              <a:t>La Presentación - Conclus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628640"/>
            <a:ext cx="8532720" cy="0"/>
          </a:xfrm>
          <a:prstGeom prst="line">
            <a:avLst/>
          </a:prstGeom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" y="652464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IN 523 Desarrollo de Habilidades Directiv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1280" y="1989000"/>
            <a:ext cx="69850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Resumir lo dich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Dar recomendaciones, si es apropi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Agradecer a la audien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Invitar a realizar pregun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0920" y="836280"/>
            <a:ext cx="7643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Arial"/>
              </a:rPr>
              <a:t>La Presentación - Pregun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628640"/>
            <a:ext cx="8532720" cy="0"/>
          </a:xfrm>
          <a:prstGeom prst="line">
            <a:avLst/>
          </a:prstGeom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652464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IN 523 Desarrollo de Habilidades Directiv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" y="1916280"/>
            <a:ext cx="7920000" cy="40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Buena oportunidad para interactuar con tu audi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Preparar las respuestas a posibles pregun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Escuchar atentamente a quién pregunta, mostrar interé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A veces es posible reformular la pregu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A veces puedes responder con otra pregunta o abrir la respuesta a la asambl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0920" y="764640"/>
            <a:ext cx="7643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Arial"/>
              </a:rPr>
              <a:t>La Presentación – otras recomenda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628640"/>
            <a:ext cx="8532720" cy="0"/>
          </a:xfrm>
          <a:prstGeom prst="line">
            <a:avLst/>
          </a:prstGeom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4000" y="652464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IN 523 Desarrollo de Habilidades Directiv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1773360"/>
            <a:ext cx="792000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7d"/>
                </a:solidFill>
                <a:latin typeface="Arial"/>
              </a:rPr>
              <a:t>Ensayar la presentación. (6 vec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7d"/>
                </a:solidFill>
                <a:latin typeface="Arial"/>
              </a:rPr>
              <a:t>Actitud de servic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7d"/>
                </a:solidFill>
                <a:latin typeface="Arial"/>
              </a:rPr>
              <a:t>Aprenderse muy bien los primeros dos minu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7d"/>
                </a:solidFill>
                <a:latin typeface="Arial"/>
              </a:rPr>
              <a:t>Usar frases precis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7d"/>
                </a:solidFill>
                <a:latin typeface="Arial"/>
              </a:rPr>
              <a:t>El humor es bienvenido, mantiene el interés de la audie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7d"/>
                </a:solidFill>
                <a:latin typeface="Arial"/>
              </a:rPr>
              <a:t>Si se usa material audiovisual es muy importante chequear con anticipación el funcionamiento de los equip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7d"/>
                </a:solidFill>
                <a:latin typeface="Arial"/>
              </a:rPr>
              <a:t>Saber cuando </a:t>
            </a:r>
            <a:r>
              <a:rPr b="1" lang="es-ES" sz="1800" spc="-1" strike="noStrike">
                <a:solidFill>
                  <a:srgbClr val="00007d"/>
                </a:solidFill>
                <a:latin typeface="Arial"/>
              </a:rPr>
              <a:t>parar</a:t>
            </a:r>
            <a:r>
              <a:rPr b="0" lang="es-ES" sz="1800" spc="-1" strike="noStrike">
                <a:solidFill>
                  <a:srgbClr val="00007d"/>
                </a:solidFill>
                <a:latin typeface="Arial"/>
              </a:rPr>
              <a:t> de hablar, manejar muy bien el tiempo. Cuidar no ser repetitiv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5T08:26:19Z</dcterms:created>
  <dc:creator>Sebastian Depolo</dc:creator>
  <dc:description/>
  <dc:language>en-US</dc:language>
  <cp:lastModifiedBy>Sergio Celiz</cp:lastModifiedBy>
  <dcterms:modified xsi:type="dcterms:W3CDTF">2007-08-20T14:57:46Z</dcterms:modified>
  <cp:revision>333</cp:revision>
  <dc:subject/>
  <dc:title>Plantilla i+d</dc:title>
</cp:coreProperties>
</file>