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A19A7-9776-4E77-9251-8AF79C2370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6C46A-EC51-44CE-BF06-45E755F1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5A63F-AB9B-49E5-BE4B-85D51A6A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4D1EC-0459-4D22-96BE-78B018CFE8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86A36-210B-436C-B4BF-F48C3084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5CCEE-2DF9-4A98-B740-FACBAAD5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63AC0-63F2-4A3B-B88C-00D304D0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2FF9D-E11D-4660-A4A4-759DEA66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47F9B-E106-4BDB-839A-33C31E43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7B448-C6B5-437D-883A-4B9508FB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30C8C-BE53-43CF-86F1-02CA21CB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CFAB3-982D-46AA-B4D7-F43EB761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759DD-4F2F-4218-9969-F917C010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CC9B7-D643-4551-8AA1-314C7044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574D2-7B9A-4B3D-9719-AE0EC996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320DB-BE46-483A-BC1F-5B483664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E7679-C3A9-468A-9DA8-2C48BABAD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D9C1D-80E7-4457-B242-3B804F63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9AA96-8C69-44D6-B8BB-773E3FA5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46B81-BA3B-497F-A04E-284D6404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D3E35-0F1C-432F-BD4F-8C692D29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0CAFD-806E-4112-920B-173130BA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B4E0A-E427-4CF6-AB99-198C89F0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049C7-4D14-477E-AE69-EB07CB0B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8E13-52B3-4FBC-97A0-3EC9A7312E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2"/>
          <a:stretch/>
        </p:blipFill>
        <p:spPr>
          <a:xfrm>
            <a:off x="4567320" y="1752480"/>
            <a:ext cx="4576680" cy="413568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>
            <a:off x="0" y="5943600"/>
            <a:ext cx="9144000" cy="380880"/>
          </a:xfrm>
          <a:prstGeom prst="rect">
            <a:avLst/>
          </a:prstGeom>
          <a:gradFill rotWithShape="0">
            <a:gsLst>
              <a:gs pos="0">
                <a:srgbClr val="46465e"/>
              </a:gs>
              <a:gs pos="100000">
                <a:srgbClr val="99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67320" y="1752480"/>
            <a:ext cx="4576680" cy="4135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1690560"/>
            <a:ext cx="7467480" cy="26528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F603-E6B5-4350-AAAA-E41357E91C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20640"/>
            <a:ext cx="2971800" cy="3700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5837760" y="3026160"/>
            <a:ext cx="431640" cy="6164280"/>
          </a:xfrm>
          <a:prstGeom prst="rect">
            <a:avLst/>
          </a:prstGeom>
          <a:gradFill rotWithShape="0">
            <a:gsLst>
              <a:gs pos="0">
                <a:srgbClr val="9e9ece"/>
              </a:gs>
              <a:gs pos="100000">
                <a:srgbClr val="99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87640" y="5445000"/>
            <a:ext cx="6192720" cy="716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La Presentació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628640"/>
            <a:ext cx="8532720" cy="0"/>
          </a:xfrm>
          <a:prstGeom prst="line">
            <a:avLst/>
          </a:prstGeom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4360" y="2492280"/>
          <a:ext cx="7416720" cy="3095640"/>
        </p:xfrm>
        <a:graphic>
          <a:graphicData uri="http://schemas.openxmlformats.org/drawingml/2006/table">
            <a:tbl>
              <a:tblPr/>
              <a:tblGrid>
                <a:gridCol w="639720"/>
                <a:gridCol w="4832280"/>
                <a:gridCol w="1944720"/>
              </a:tblGrid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trod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regun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nteni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nclusió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regun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324000" y="652464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IN 523 Desarrollo de Habilidades Directi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1773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Estructura típica de una present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La Presentació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628640"/>
            <a:ext cx="8532720" cy="0"/>
          </a:xfrm>
          <a:prstGeom prst="line">
            <a:avLst/>
          </a:prstGeom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652464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IN 523 Desarrollo de Habilidades Directi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1989000"/>
            <a:ext cx="6985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En otras palabra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ecir, lo que tu vas a deci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ecirl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luego decir justo lo que intentaste dec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La Presentación - 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628640"/>
            <a:ext cx="8532720" cy="0"/>
          </a:xfrm>
          <a:prstGeom prst="line">
            <a:avLst/>
          </a:prstGeom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652464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IN 523 Desarrollo de Habilidades Directi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1989000"/>
            <a:ext cx="69850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Saludar a la audi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Introducir los 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ar una mirada general a la estructura de la 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ar instrucción sobre las pregu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La Presentación - Conteni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628640"/>
            <a:ext cx="8532720" cy="0"/>
          </a:xfrm>
          <a:prstGeom prst="line">
            <a:avLst/>
          </a:prstGeom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652464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IN 523 Desarrollo de Habilidades Directi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773360"/>
            <a:ext cx="792000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Es la presentación en sí, es importante mostrar dominio y confianza en lo que se d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Cuidar los tiempos, ni rápido, ni l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Conservar la estru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Ser enfático y entusia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Mantener contacto visual con toda la audi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Modular la vo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Remarcar los hitos de la present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Lucir amistoso y político si se abordan temas conflic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La Presentación - Conclu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628640"/>
            <a:ext cx="8532720" cy="0"/>
          </a:xfrm>
          <a:prstGeom prst="line">
            <a:avLst/>
          </a:prstGeom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652464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IN 523 Desarrollo de Habilidades Directi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1989000"/>
            <a:ext cx="6985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Resumir lo dic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ar recomendaciones, si es apropi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gradecer a la audi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Invitar a realizar pregu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La Presentación - Pregun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628640"/>
            <a:ext cx="8532720" cy="0"/>
          </a:xfrm>
          <a:prstGeom prst="line">
            <a:avLst/>
          </a:prstGeom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652464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IN 523 Desarrollo de Habilidades Directi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1916280"/>
            <a:ext cx="7920000" cy="40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Buena oportunidad para interactuar con tu audi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reparar las respuestas a posibles pregun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Escuchar atentamente a quién pregunta, mostrar inter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 veces es posible reformular la pregu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 veces puedes responder con otra pregunta o abrir la respuesta a la asambl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La Presentación – otras recomenda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628640"/>
            <a:ext cx="8532720" cy="0"/>
          </a:xfrm>
          <a:prstGeom prst="line">
            <a:avLst/>
          </a:prstGeom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652464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IN 523 Desarrollo de Habilidades Directi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1773360"/>
            <a:ext cx="792000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7d"/>
                </a:solidFill>
                <a:latin typeface="Arial"/>
              </a:rPr>
              <a:t>Ensayar la presentación. (6 ve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7d"/>
                </a:solidFill>
                <a:latin typeface="Arial"/>
              </a:rPr>
              <a:t>Actitud de servi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7d"/>
                </a:solidFill>
                <a:latin typeface="Arial"/>
              </a:rPr>
              <a:t>Aprenderse muy bien los primeros dos minu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7d"/>
                </a:solidFill>
                <a:latin typeface="Arial"/>
              </a:rPr>
              <a:t>Usar frases preci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7d"/>
                </a:solidFill>
                <a:latin typeface="Arial"/>
              </a:rPr>
              <a:t>El humor es bienvenido, mantiene el interés de la audi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7d"/>
                </a:solidFill>
                <a:latin typeface="Arial"/>
              </a:rPr>
              <a:t>Si se usa material audiovisual es muy importante chequear con anticipación el funcionamiento de los equip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7d"/>
                </a:solidFill>
                <a:latin typeface="Arial"/>
              </a:rPr>
              <a:t>Saber cuando </a:t>
            </a:r>
            <a:r>
              <a:rPr b="1" lang="es-ES" sz="1800" spc="-1" strike="noStrike">
                <a:solidFill>
                  <a:srgbClr val="00007d"/>
                </a:solidFill>
                <a:latin typeface="Arial"/>
              </a:rPr>
              <a:t>parar</a:t>
            </a:r>
            <a:r>
              <a:rPr b="0" lang="es-ES" sz="1800" spc="-1" strike="noStrike">
                <a:solidFill>
                  <a:srgbClr val="00007d"/>
                </a:solidFill>
                <a:latin typeface="Arial"/>
              </a:rPr>
              <a:t> de hablar, manejar muy bien el tiempo. Cuidar no ser repetiti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5T08:26:19Z</dcterms:created>
  <dc:creator>Sebastian Depolo</dc:creator>
  <dc:description/>
  <dc:language>en-US</dc:language>
  <cp:lastModifiedBy>Sergio Celiz</cp:lastModifiedBy>
  <dcterms:modified xsi:type="dcterms:W3CDTF">2007-08-20T14:57:46Z</dcterms:modified>
  <cp:revision>333</cp:revision>
  <dc:subject/>
  <dc:title>Plantilla i+d</dc:title>
</cp:coreProperties>
</file>