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F5142-647B-4F51-A82D-C660D3EE3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FC164-063D-4C60-9F44-E1371546C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921BB-C5AB-4DFA-B19A-8C5C3A60A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910C5-BD56-43C3-8802-63202F05B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825FB-3B79-4BAA-A4A2-D10F33D56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46D9A-48F9-43E4-85A7-244313508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08197-3353-426B-9BEB-4389F3F1B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A6105-CF17-431A-B932-79D885C9A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FFA98-9047-4C63-948C-AE398B29B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C55BB-E60F-4B40-AD5E-F7BA71D13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6E210-9522-41CE-A9ED-F448EE68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D4FB1-C64C-4C44-AFC4-F12A7B0A9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EA18A-7EE3-47E0-9E36-B2B2EB81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6CD0F-1F42-4189-A478-E1387B9B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84DE3-8FC0-46C2-9DAF-ABE665DB9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FBE6D-4143-429B-9911-868E26565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1B0A7-9765-4661-BF16-49E3C721A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5B5A5-F0FA-4DB3-BD76-6DB8522A4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66329-2FB0-46B9-B36D-6C895A4D9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238F4-DDCA-4EA1-9F96-A8FBDAF84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19CEA-FD73-4404-B109-543EF5F84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05C16-ADC2-4C19-A494-2E7E09B3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D0483-210E-41DD-AEA3-8F6D6FA6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B780D-3B1D-4735-A0FF-77E6B42C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8874E-19F0-46DF-9745-78B1B81718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269D5-C444-44B3-AA34-FB4366C711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EVALUACION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IN523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Resultados de la evalu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ólo un 10% de los empleados saca evaluación destac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 10% obtiene resultados bajo lo esperado y aquí queda comprometida la continuidad del pues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52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pacio de crecimiento para to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ás que evaluación, retroalimen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odos retroalimenta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Qué es lo que hay detrás de mis comentarios al retroalimen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ómo me siento con los comentarios de los o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La Insta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nstancia en la que puedo aprender acerca de cómo otros (mis superiores, compañeros, etc.) me ven en el trabaj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or qué evaluamo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ara mantener y aumentar la productiv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acilitar el avance hacia la meta estraté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Oportunidad de analizar regularmente el traba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dentificar fortalezas y debilidades de los emple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aborar y recomendar acciones para ayudar a mejorar el desemp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mporta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evaluación anual es una extensión lógica de la supervisión diaria del desempeño del emple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be ser POSI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aracterística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be ser relacionada con el puesto y sus nor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s partes deben tener las normas escritas en base a las cuales se hará la evalu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os evaluadores deben ser capaces de observar el comportamiento que califi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tilizar correctamente los instrumentos y la instancia de evalu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pacio de discusión y de entrega de directrices para los emple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stancia de apelación para quienes no estén conformes con su evalu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 evalu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aracterísticas (liderazgo, iniciativa, resolución de problemas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mportamientos (incidentes críticos, condicionan desarroll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sultados (objetiv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 evalu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umplimiento de obje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carnación de val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alidad del traba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nd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mportamiento y actit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laciones con terc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n la evalu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edir una auto evalu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vitar a la particip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xpresar apre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inimizar la crí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mbiar la conducta no la pers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focarse en la solución de probl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poy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ablecer me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ar seguimiento en forma cotidi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vitar los mensajes do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valuar en primera pers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 debe pedir permiso para retroalimen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uando yo soy el evalu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Nadie espera que haga las cosas sin equivocar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bo estar abierto a escuchar cosas que puede que no me agra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bo estar dispuesto a cre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omar la evaluación para enriquecer mi propio proye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1T05:43:44Z</dcterms:created>
  <dc:creator>María Jesús Guzmán L</dc:creator>
  <dc:description/>
  <dc:language>en-US</dc:language>
  <cp:lastModifiedBy>María Jesús Guzmán L</cp:lastModifiedBy>
  <dcterms:modified xsi:type="dcterms:W3CDTF">2007-08-21T06:56:42Z</dcterms:modified>
  <cp:revision>16</cp:revision>
  <dc:subject/>
  <dc:title>EVALUACION</dc:title>
</cp:coreProperties>
</file>