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E19D-DD25-4DE1-B360-6349B32C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DEC9-F348-43A7-A4B4-CB07E1C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DF9E-F16F-42D0-9D5F-800F3C7E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141F-6D0B-4319-A3D3-9F741523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9841-7BC9-43CB-8720-ED9F447F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518B-E453-4A74-8981-BFB16384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89B3-BC3E-4BE3-92F5-6F9EF1B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5DF8-651B-4641-933A-85A176D6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305C-F07C-44E4-93A5-B1E6931F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9F31-0BED-436B-903C-AF547497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7ECD-5578-4718-9EAE-D9BDF29D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57B6-A1C7-440B-9536-59C2300F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683-B17E-4386-8E17-57253C81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FB3B-69D2-46F0-AAC3-1D750490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B0DF-7B4D-4980-918B-432B3A59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8A3B-F63A-46B9-9DF0-AF60D9D0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449B-BDF3-4CC6-B163-C6B51536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B75A-4FE2-4D7C-94AC-C7BDB64D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04F5-0267-40A9-9010-50DC114C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71D5-EFB7-4DC2-AE16-CD9D2233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2177-2A2C-473F-8BE8-F0206B3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57AF-F682-40C1-BD28-4BECEB1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7F9E-A2B5-4B55-8C05-EEB557E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C55A-E7AF-41F7-AA54-A5D32D68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B1C-0D42-45BE-B9E4-45E389E48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F706-8E18-421B-9A01-C8215E50C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VALUAC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IN52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ltados de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un 10% de los empleados saca evaluación desta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10% obtiene resultados bajo lo esperado y aquí queda comprometida la continuidad del 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5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acio de crecimiento para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ás que evaluación,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s retroaliment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é es lo que hay detrás de mis comentarios al retroali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ómo me siento con los comentarios de los 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Ins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stancia en la que puedo aprender acerca de cómo otros (mis superiores, compañeros, etc.) me ven en 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evalu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mantener y aumentar la produ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ilitar el avance hacia la meta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portunidad de analizar regularmente el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fortalezas y debilidades de los empl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aborar y recomendar acciones para ayudar a mejorar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valuación anual es una extensión lógica de la supervisión diaria del desempeño del emple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 ser 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 ser relacionada con el puesto y sus n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artes deben tener las normas escritas en base a las cuales se hará la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valuadores deben ser capaces de observar el comportamiento que calif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r correctamente los instrumentos y la instancia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pacio de discusión y de entrega de directrices para los empl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ancia de apelación para quienes no estén conformes con su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acterísticas (liderazgo, iniciativa, resolución de problem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s (incidentes críticos, condicionan desarro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s (objetiv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mplimiento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arnación de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 y 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laciones con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dir una auto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vitar a la partici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resar a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nimizar la cr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a conducta no 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focarse en la solución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blecer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r seguimiento en form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itar los mensajes do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en primer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pedir permiso para retroali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ando yo soy el eval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die espera que haga las cosas sin equivoca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o estar abierto a escuchar cosas que puede que no me ag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o estar dispuesto a cre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mar la evaluación para enriquecer mi propio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5:43:44Z</dcterms:created>
  <dc:creator>María Jesús Guzmán L</dc:creator>
  <dc:description/>
  <dc:language>en-US</dc:language>
  <cp:lastModifiedBy>María Jesús Guzmán L</cp:lastModifiedBy>
  <dcterms:modified xsi:type="dcterms:W3CDTF">2007-08-21T06:56:42Z</dcterms:modified>
  <cp:revision>16</cp:revision>
  <dc:subject/>
  <dc:title>EVALUACION</dc:title>
</cp:coreProperties>
</file>