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C0BB3-E682-4F4A-89E8-0A23DA74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496C-0704-4E13-A82C-CB10FD0E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0294-6F72-459D-9911-6D209112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01D64-B5ED-42A9-9014-9E48A6F3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C078-153D-450A-AE9C-B82524BF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13D7-4C87-41C6-9D52-44506967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ED93-0254-41CB-B6D3-3A8BE644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B48C-9BF5-4779-B758-7A0E4B48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1FB7-A115-4FF4-AA52-0D6A9DB7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B954-1298-492D-A025-83727B77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A11C-C910-411C-A522-42C80E2D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CF6D-A006-4A0F-801C-FC262770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E302-25AF-43B1-8502-C970D4A6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E7EE-D23D-4229-8E9F-7BE7709B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74E9-9792-4E99-BCF0-77226449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3442-C794-4F31-9372-70CBCECB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CD08-6CC7-4CB9-9D6E-1CDE68EE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5E18-C6EF-47A0-BFD8-5964AAD7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2EDB-E605-48F9-A3C0-CEB65B75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273C-9B35-4761-815F-11EA2859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D81CD-9D76-492B-B6C9-BC7DE8FD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432E-C0E0-4F49-B100-BED0FD99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D8CC-6521-4116-BA33-963BF6F5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90C0-C9A9-4908-AB16-8FD14016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A3B7-251E-4953-B03B-C28486BFF2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61FC-0A2E-41B9-A27A-638D7D96A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VALUAC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IN52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ultados de la 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ólo un 10% de los empleados saca evaluación destac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10% obtiene resultados bajo lo esperado y aquí queda comprometida la continuidad del 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5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pacio de crecimiento para t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ás que evaluación, retro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dos retroaliment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é es lo que hay detrás de mis comentarios al retroalim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ómo me siento con los comentarios de los 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Inst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stancia en la que puedo aprender acerca de cómo otros (mis superiores, compañeros, etc.) me ven en 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or qué evaluam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mantener y aumentar la produ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ilitar el avance hacia la meta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portunidad de analizar regularmente el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r fortalezas y debilidades de los emple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aborar y recomendar acciones para ayudar a mejorar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evaluación anual es una extensión lógica de la supervisión diaria del desempeño del emple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e ser POS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be ser relacionada con el puesto y sus nor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partes deben tener las normas escritas en base a las cuales se hará la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evaluadores deben ser capaces de observar el comportamiento que califi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r correctamente los instrumentos y la instancia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pacio de discusión y de entrega de directrices para los empl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stancia de apelación para quienes no estén conformes con su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 evalu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racterísticas (liderazgo, iniciativa, resolución de problema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rtamientos (incidentes críticos, condicionan desarrol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ultados (objetiv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 evalu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mplimiento de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carnación de 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lidad del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nd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rtamiento y ac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laciones con terc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 la 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dir una auto evalu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vitar a la partici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presar a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nimizar la cr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la conducta no l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focarse en la solución de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y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blecer m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ar seguimiento en form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itar los mensajes do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valuar en primer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pedir permiso para retroalimen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uando yo soy el evalu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adie espera que haga las cosas sin equivoca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o estar abierto a escuchar cosas que puede que no me agra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o estar dispuesto a cre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mar la evaluación para enriquecer mi propio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5:43:44Z</dcterms:created>
  <dc:creator>María Jesús Guzmán L</dc:creator>
  <dc:description/>
  <dc:language>en-US</dc:language>
  <cp:lastModifiedBy>María Jesús Guzmán L</cp:lastModifiedBy>
  <dcterms:modified xsi:type="dcterms:W3CDTF">2007-08-21T06:56:42Z</dcterms:modified>
  <cp:revision>16</cp:revision>
  <dc:subject/>
  <dc:title>EVALUACION</dc:title>
</cp:coreProperties>
</file>