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2C7A-67A8-4DE0-A386-09C97A3A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10E3-3CCF-4D80-9417-FAC6441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7199-5826-46BE-9992-C6788822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ACEF-3D82-4D4A-8608-2EFEFDB9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0DF5-069B-48E9-B548-5F3AFC1F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9F32-22C4-4413-B276-83637C6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D58D-E7A5-4397-8C0B-F07CBF59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8EF0-3EC8-43BE-921A-8F2621F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7D7-F77A-4C22-9A27-BC2C2FD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05C2-E18B-41CE-92E3-A035366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2548-3E7E-49C1-B47F-2405619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895E-7DC3-4FB7-A51D-4D327F4F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9B3-9634-4BCC-BC99-30966D3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2B5-2BF6-40B8-A337-619EB40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3F12-1A1A-45AB-9816-8933793A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716-2072-45F4-91F2-1FFB3DB8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B58-5995-4211-889C-56111D5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C651-3C5D-4B36-90D0-6397B845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7163-6C93-4CCC-B4C1-27F29AA5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88C3-B250-4ED3-9CEC-D4A758C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78CA-5CF1-4F95-B7D8-F36D173B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7818-8F5D-4DD6-B073-71CBE31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F365-30B8-4B87-9885-FEF0BBB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6800-7172-42BA-AFF6-18278342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D1DB-7DAB-4CC3-9CE0-27358B932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682-B7D3-4F31-8BE3-81B73CE9C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VALUAC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un 10% de los empleados saca evaluación desta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10% obtiene resultados bajo lo esperado y aquí queda comprometida la continuidad del 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de crecimiento para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ás que evaluación,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retroalime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é es lo que hay detrás de mis comentarios al retro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ómo me siento con los comentarios de los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ancia en la que puedo aprender acerca de cómo otros (mis superiores, compañeros, etc.) me ven en 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evalu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mantener y aumentar la produ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ilitar el avance hacia la meta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ortunidad de analizar regularmente 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fortalezas y debilidades de los empl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aborar y recomendar acciones para ayudar a mejorar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valuación anual es una extensión lógica de la supervisión diaria del desempeño del empl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 ser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 ser relacionada con el puesto y sus 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artes deben tener las normas escritas en base a las cuales se hará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valuadores deben ser capaces de observar el comportamiento que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r correctamente los instrumentos y la instancia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 de discusión y de entrega de directrices para los empl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ancia de apelación para quienes no estén conformes con su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acterísticas (liderazgo, iniciativa, resolución de problem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s (incidentes críticos, condicionan desarro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(objetiv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mplimiento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arnación de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 y 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aciones con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dir una auto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itar a la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ar a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nimizar la cr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a conducta no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focarse en la solución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r seguimiento en form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itar los mensaje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en primer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pedir permiso para retroali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ando yo soy el eval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die espera que haga las cosas sin equivoca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abierto a escuchar cosas que puede que no me ag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dispuesto a c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mar la evaluación para enriquecer mi propio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5:43:44Z</dcterms:created>
  <dc:creator>María Jesús Guzmán L</dc:creator>
  <dc:description/>
  <dc:language>en-US</dc:language>
  <cp:lastModifiedBy>María Jesús Guzmán L</cp:lastModifiedBy>
  <dcterms:modified xsi:type="dcterms:W3CDTF">2007-08-21T06:56:42Z</dcterms:modified>
  <cp:revision>16</cp:revision>
  <dc:subject/>
  <dc:title>EVALUACION</dc:title>
</cp:coreProperties>
</file>