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FD911-AA35-4477-B249-691A2CDA5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EA74-BFEA-448D-9D18-7986F0FF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F1E0B-0AC7-4F7F-8022-5B7D103BB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1E855-5B36-4779-B68A-7D0527330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0B54-7699-4E78-8D53-A714B840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A7626-1680-48F9-BFBD-34003DFC1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A9D3E-1F39-495A-9001-61239DB0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BD78-D22A-494D-9F6F-73801B464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D0E0B-A369-49A0-95CE-B213F685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D90F-E195-4843-AE10-43F7E8DB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E528-8919-4169-A3BB-1BA8D27D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3CB7-7340-444B-A5BE-CA15C47D3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ABDA-9A61-4B44-88BF-21CC30649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
        <p:nvSpPr>
          <p:cNvPr id="7"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4"/>
          <a:stretch/>
        </p:blipFill>
        <p:spPr>
          <a:xfrm>
            <a:off x="87480" y="44280"/>
            <a:ext cx="2971800" cy="108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46"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rebuchet MS"/>
              </a:rPr>
              <a:t>AGOSTO 2007</a:t>
            </a:r>
            <a:endParaRPr b="0" lang="en-US" sz="2400" spc="-1" strike="noStrike">
              <a:solidFill>
                <a:srgbClr val="000000"/>
              </a:solidFill>
              <a:latin typeface="Arial"/>
            </a:endParaRPr>
          </a:p>
        </p:txBody>
      </p:sp>
      <p:sp>
        <p:nvSpPr>
          <p:cNvPr id="4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6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68"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75"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77"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78"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80"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81"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83"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84"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6"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836640"/>
            <a:ext cx="61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5560" y="843120"/>
            <a:ext cx="554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92"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96" name=""/>
          <p:cNvSpPr/>
          <p:nvPr/>
        </p:nvSpPr>
        <p:spPr>
          <a:xfrm>
            <a:off x="250920" y="1773360"/>
            <a:ext cx="8353440" cy="43599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UnitOT-Regular"/>
              </a:rPr>
              <a:t> </a:t>
            </a:r>
            <a:r>
              <a:rPr b="0" lang="es-CL" sz="2800" spc="-1" strike="noStrike">
                <a:solidFill>
                  <a:srgbClr val="333399"/>
                </a:solidFill>
                <a:latin typeface="UnitOT-Regular"/>
              </a:rPr>
              <a:t>1.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Formal (Misión, Objetivos específicos dentro de la misión,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0" name=""/>
          <p:cNvSpPr/>
          <p:nvPr/>
        </p:nvSpPr>
        <p:spPr>
          <a:xfrm>
            <a:off x="395280" y="1860480"/>
            <a:ext cx="8353440" cy="39333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2"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4"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6"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8"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realizado en la clase Auxiliar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99880" y="770040"/>
            <a:ext cx="21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12" name=""/>
          <p:cNvSpPr/>
          <p:nvPr/>
        </p:nvSpPr>
        <p:spPr>
          <a:xfrm>
            <a:off x="611280" y="1935000"/>
            <a:ext cx="777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Francisco Bustos</a:t>
            </a: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nia  Escob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16"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áximo de 5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lamente 2 grupos del total podrán estar formados por 6 alumn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20"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5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5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59"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3"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7-08-02T18:15:00Z</dcterms:modified>
  <cp:revision>39</cp:revision>
  <dc:subject/>
  <dc:title>Título </dc:title>
</cp:coreProperties>
</file>