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F70A-2F0C-4C28-8DFE-D521E548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356652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D64-75B7-41C8-8292-BE84C9B2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1196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356652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2320" y="356652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B35-C543-4601-9B36-E0BCCA0A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720" y="119664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0160" y="119664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356652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720" y="356652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0160" y="356652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DD6-7E47-469C-A0BD-668B78BD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FA9-4FF2-46BE-B3EA-A59F806C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883-DCFA-4507-96DF-BD99CC6D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2320" y="119664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C94-DCC5-41E3-8274-46F723C1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5B2-8EAC-4C6D-A1C3-0A7FF425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6040" y="144360"/>
            <a:ext cx="8229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AA3-9C2D-47F4-B815-D2C1DBAB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19664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356652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E9B-417F-44D2-B6D7-2A359E67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1196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2320" y="356652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9D5-7EF5-4EF0-8B93-BB27E1F5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1196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356652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78F-2D6E-445A-B2F4-BE56E62A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dii.uchile.cl/~eyg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 Unicode MS"/>
              </a:rPr>
              <a:t>Click to edit the outline text format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 Unicode MS"/>
              </a:rPr>
              <a:t>Second Outline Level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2" marL="1143000" indent="-228600">
              <a:spcBef>
                <a:spcPts val="476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 Unicode MS"/>
              </a:rPr>
              <a:t>Third Outline Level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3" marL="1600200" indent="-2286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 Unicode MS"/>
              </a:rPr>
              <a:t>Fourth Outline Level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4" marL="2057400" indent="-2286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 Unicode MS"/>
              </a:rPr>
              <a:t>Fifth Outline Level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 Unicode MS"/>
              </a:rPr>
              <a:t>Sixth Outline Level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 Unicode MS"/>
              </a:rPr>
              <a:t>Seventh Outline Level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99BB-95E2-47E9-9474-71E375F69B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-2700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Line 9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0" descr="getImageResiz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85080" y="9360"/>
            <a:ext cx="122400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MV5CBKD0"/>
          <p:cNvPicPr/>
          <p:nvPr/>
        </p:nvPicPr>
        <p:blipFill>
          <a:blip r:embed="rId1"/>
          <a:stretch/>
        </p:blipFill>
        <p:spPr>
          <a:xfrm>
            <a:off x="2700360" y="-27000"/>
            <a:ext cx="6443640" cy="688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Fonernalico"/>
          <p:cNvPicPr/>
          <p:nvPr/>
        </p:nvPicPr>
        <p:blipFill>
          <a:blip r:embed="rId2"/>
          <a:stretch/>
        </p:blipFill>
        <p:spPr>
          <a:xfrm>
            <a:off x="9360" y="-27000"/>
            <a:ext cx="2833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2852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Courier New"/>
              </a:rPr>
              <a:t>PROGRAMACI</a:t>
            </a:r>
            <a:r>
              <a:rPr b="1" lang="es-ES_tradnl" sz="3000" spc="-1" strike="noStrike">
                <a:solidFill>
                  <a:srgbClr val="000099"/>
                </a:solidFill>
                <a:latin typeface="Humnst777 BT"/>
              </a:rPr>
              <a:t>Ó</a:t>
            </a:r>
            <a:r>
              <a:rPr b="1" lang="es-ES_tradnl" sz="3000" spc="-1" strike="noStrike">
                <a:solidFill>
                  <a:srgbClr val="000099"/>
                </a:solidFill>
                <a:latin typeface="Courier New"/>
              </a:rPr>
              <a:t>N LINEAL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Line 5"/>
          <p:cNvSpPr/>
          <p:nvPr/>
        </p:nvSpPr>
        <p:spPr>
          <a:xfrm>
            <a:off x="755640" y="3860640"/>
            <a:ext cx="78598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476360" y="4222800"/>
            <a:ext cx="6400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urier New"/>
                <a:ea typeface="Courier New"/>
              </a:rPr>
              <a:t>Departamento de Ingeniería Industr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urier New"/>
                <a:ea typeface="Courier New"/>
              </a:rPr>
              <a:t>Universidad de Chi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urier New"/>
                <a:ea typeface="Courier New"/>
              </a:rPr>
              <a:t>Jaime Mirand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PROBLEMA DE COBERTURA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855720" y="1557360"/>
            <a:ext cx="7819920" cy="3952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MODELOS CL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SICOS DE OPTIMIZACI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N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333399"/>
                </a:solidFill>
                <a:latin typeface="Arial Unicode MS"/>
              </a:rPr>
              <a:t>PROBLEMA DEL VENDEDOR VIAJERO: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n vendedor debe visitar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ciudades y luego retornar a su punto de partida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ada ciudad debe ser visitada exactamente una vez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tiempo que toma viajar de la ciudad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a la ciudad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es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i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problema consiste en encontrar el orden en el cual el vendedor debe hacer su viaje de manera de finalizar lo más rápido posible”.</a:t>
            </a:r>
            <a:r>
              <a:rPr b="1" i="1" lang="es-E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6" name="Picture 5" descr="Vendedor"/>
          <p:cNvPicPr/>
          <p:nvPr/>
        </p:nvPicPr>
        <p:blipFill>
          <a:blip r:embed="rId1"/>
          <a:stretch/>
        </p:blipFill>
        <p:spPr>
          <a:xfrm>
            <a:off x="6719760" y="4363920"/>
            <a:ext cx="1571760" cy="194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250920" y="907920"/>
            <a:ext cx="8713800" cy="5761080"/>
          </a:xfrm>
          <a:prstGeom prst="rect">
            <a:avLst/>
          </a:prstGeom>
          <a:solidFill>
            <a:srgbClr val="ffffff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PROBLEMA DEL VENDEDOR VIAJERO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3240" cy="525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203640" y="6093000"/>
            <a:ext cx="240984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MODELOS CL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SICOS DE OPTIMIZACI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N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333399"/>
                </a:solidFill>
                <a:latin typeface="Arial Unicode MS"/>
              </a:rPr>
              <a:t>PROBLEMA DE LOCALIZACIÓN DE INSTALACIONES: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={1,...,n} bodegas potenciales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={1,...,m} clientes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xiste un costo fijo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asociado al uso de la bodega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i el pedido del cliente i es entregado desde la bodega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la empresa incurre en un costo de transporte igual a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i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problema consiste en decidir qué bodegas abrir y determinar qué bodegas servirán a cada uno de los clientes con el fin de minimizar los costos totales”.</a:t>
            </a:r>
            <a:r>
              <a:rPr b="1" i="1" lang="es-E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3" name="Picture 5" descr="plan_gross"/>
          <p:cNvPicPr/>
          <p:nvPr/>
        </p:nvPicPr>
        <p:blipFill>
          <a:blip r:embed="rId1"/>
          <a:stretch/>
        </p:blipFill>
        <p:spPr>
          <a:xfrm>
            <a:off x="6227640" y="4437000"/>
            <a:ext cx="2124360" cy="194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 Unicode MS"/>
              </a:rPr>
              <a:t>PROBLEMA DE LOCALIZACI</a:t>
            </a:r>
            <a:r>
              <a:rPr b="1" lang="es-ES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" sz="1900" spc="-1" strike="noStrike">
                <a:solidFill>
                  <a:srgbClr val="000000"/>
                </a:solidFill>
                <a:latin typeface="Arial Unicode MS"/>
              </a:rPr>
              <a:t>N DE INSTALACIONES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438120" y="1297080"/>
            <a:ext cx="8020080" cy="4798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MODELOS CL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SICOS DE OPTIMIZACI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N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333399"/>
                </a:solidFill>
                <a:latin typeface="Arial Unicode MS"/>
              </a:rPr>
              <a:t>PROBLEMA DE PRODUCCIÓN DE LOTES: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rizonte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períodos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sto fijo de producción en el período t,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t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sto unitario de producción en el período t,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t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sto unitario de inventario en el período t,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t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manda en el período t,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t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problema consiste en decidir la producción de un producto en una planta para un horizonte de n períodos”.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8" name="Picture 5" descr="Linea-de-produccion-0508"/>
          <p:cNvPicPr/>
          <p:nvPr/>
        </p:nvPicPr>
        <p:blipFill>
          <a:blip r:embed="rId1"/>
          <a:stretch/>
        </p:blipFill>
        <p:spPr>
          <a:xfrm>
            <a:off x="5651640" y="4149720"/>
            <a:ext cx="2857320" cy="1828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Modelos Cl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sicos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500120" y="1276200"/>
            <a:ext cx="6743880" cy="4842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¿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CU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LES SON LAS T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É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CNICAS DE SOLUCI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N?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333399"/>
                </a:solidFill>
                <a:latin typeface="Arial Unicode MS"/>
              </a:rPr>
              <a:t>MÉTODOS OPTIMIZANTES EXACTOS Y APROXIMADOS: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Métodos de Branch&amp;Bound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Algoritmos de punto interior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Fortalecimiento de formulaciones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Relajación Lagrangeana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333399"/>
                </a:solidFill>
                <a:latin typeface="Arial Unicode MS"/>
              </a:rPr>
              <a:t>MÉTODOS HEURÍSTICOS: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Enfoques de redondeo y golosas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Búsqueda Tabú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Simulated Annealing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3" name="Picture 5" descr="skate"/>
          <p:cNvPicPr/>
          <p:nvPr/>
        </p:nvPicPr>
        <p:blipFill>
          <a:blip r:embed="rId1"/>
          <a:stretch/>
        </p:blipFill>
        <p:spPr>
          <a:xfrm>
            <a:off x="5724360" y="2421000"/>
            <a:ext cx="263844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SOFTWARES: GAMS-CPLEX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862280" y="1424160"/>
            <a:ext cx="541944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V5CBKD0"/>
          <p:cNvPicPr/>
          <p:nvPr/>
        </p:nvPicPr>
        <p:blipFill>
          <a:blip r:embed="rId1"/>
          <a:stretch/>
        </p:blipFill>
        <p:spPr>
          <a:xfrm>
            <a:off x="2700360" y="-27000"/>
            <a:ext cx="6443640" cy="688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Fonernalico"/>
          <p:cNvPicPr/>
          <p:nvPr/>
        </p:nvPicPr>
        <p:blipFill>
          <a:blip r:embed="rId2"/>
          <a:stretch/>
        </p:blipFill>
        <p:spPr>
          <a:xfrm>
            <a:off x="9360" y="-27000"/>
            <a:ext cx="28339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2852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Courier New"/>
              </a:rPr>
              <a:t>PROGRAMACI</a:t>
            </a:r>
            <a:r>
              <a:rPr b="1" lang="es-ES_tradnl" sz="3000" spc="-1" strike="noStrike">
                <a:solidFill>
                  <a:srgbClr val="000099"/>
                </a:solidFill>
                <a:latin typeface="Humnst777 BT"/>
              </a:rPr>
              <a:t>Ó</a:t>
            </a:r>
            <a:r>
              <a:rPr b="1" lang="es-ES_tradnl" sz="3000" spc="-1" strike="noStrike">
                <a:solidFill>
                  <a:srgbClr val="000099"/>
                </a:solidFill>
                <a:latin typeface="Courier New"/>
              </a:rPr>
              <a:t>N LINEAL</a:t>
            </a:r>
            <a:endParaRPr b="1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Line 5"/>
          <p:cNvSpPr/>
          <p:nvPr/>
        </p:nvSpPr>
        <p:spPr>
          <a:xfrm>
            <a:off x="755640" y="3860640"/>
            <a:ext cx="78598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476360" y="4222800"/>
            <a:ext cx="6400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urier New"/>
                <a:ea typeface="Courier New"/>
              </a:rPr>
              <a:t>Departamento de Ingeniería Industr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urier New"/>
                <a:ea typeface="Courier New"/>
              </a:rPr>
              <a:t>Universidad de Chi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ourier New"/>
                <a:ea typeface="Courier New"/>
              </a:rPr>
              <a:t>Jaime Mirand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Arial Unicode MS"/>
              </a:rPr>
              <a:t>PROGRAMACI</a:t>
            </a:r>
            <a:r>
              <a:rPr b="1" lang="es-MX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MX" sz="1900" spc="-1" strike="noStrike">
                <a:solidFill>
                  <a:srgbClr val="000000"/>
                </a:solidFill>
                <a:latin typeface="Arial Unicode MS"/>
              </a:rPr>
              <a:t>N MATEM</a:t>
            </a:r>
            <a:r>
              <a:rPr b="1" lang="es-MX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MX" sz="1900" spc="-1" strike="noStrike">
                <a:solidFill>
                  <a:srgbClr val="000000"/>
                </a:solidFill>
                <a:latin typeface="Arial Unicode MS"/>
              </a:rPr>
              <a:t>TICA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333399"/>
                </a:solidFill>
                <a:latin typeface="Arial Unicode MS"/>
              </a:rPr>
              <a:t>Es una de las principales disciplinas de la Investigación Operativa.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0">
              <a:lnSpc>
                <a:spcPct val="4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333399"/>
                </a:solidFill>
                <a:latin typeface="Arial Unicode MS"/>
              </a:rPr>
              <a:t>Consiste en encontrar el mejor valor de alguna medida de desempeño (función objetivo) con la condición de que las variables de decisión cumplan ciertas limitaciones</a:t>
            </a:r>
            <a:r>
              <a:rPr b="1" lang="es-MX" sz="19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1" lang="es-AR" sz="1900" spc="-1" strike="noStrike">
                <a:solidFill>
                  <a:srgbClr val="333399"/>
                </a:solidFill>
                <a:latin typeface="Arial Unicode MS"/>
              </a:rPr>
              <a:t> (restricciones).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0">
              <a:lnSpc>
                <a:spcPct val="4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333399"/>
                </a:solidFill>
                <a:latin typeface="Arial Unicode MS"/>
              </a:rPr>
              <a:t>Todos sus elementos corresponden a funciones o relaciones matemáticas.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0">
              <a:lnSpc>
                <a:spcPct val="2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333399"/>
                </a:solidFill>
                <a:latin typeface="Arial Unicode MS"/>
              </a:rPr>
              <a:t>Ha sido impulsada por el gran desarrollo de las herramientas computacionales y de comunicaciones.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</p:txBody>
      </p:sp>
      <p:pic>
        <p:nvPicPr>
          <p:cNvPr id="51" name="Picture 5" descr="otta-ico"/>
          <p:cNvPicPr/>
          <p:nvPr/>
        </p:nvPicPr>
        <p:blipFill>
          <a:blip r:embed="rId1"/>
          <a:stretch/>
        </p:blipFill>
        <p:spPr>
          <a:xfrm>
            <a:off x="6443640" y="4508640"/>
            <a:ext cx="1604880" cy="165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 Unicode MS"/>
              </a:rPr>
              <a:t>CLASIFICACI</a:t>
            </a:r>
            <a:r>
              <a:rPr b="1" lang="es-ES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" sz="1900" spc="-1" strike="noStrike">
                <a:solidFill>
                  <a:srgbClr val="000000"/>
                </a:solidFill>
                <a:latin typeface="Arial Unicode MS"/>
              </a:rPr>
              <a:t>N DE MODELO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Arial Unicode MS"/>
              </a:rPr>
              <a:t>DE PROGRAMACI</a:t>
            </a:r>
            <a:r>
              <a:rPr b="1" lang="es-ES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" sz="1900" spc="-1" strike="noStrike">
                <a:solidFill>
                  <a:srgbClr val="000000"/>
                </a:solidFill>
                <a:latin typeface="Arial Unicode MS"/>
              </a:rPr>
              <a:t>N MATEM</a:t>
            </a:r>
            <a:r>
              <a:rPr b="1" lang="es-ES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" sz="1900" spc="-1" strike="noStrike">
                <a:solidFill>
                  <a:srgbClr val="000000"/>
                </a:solidFill>
                <a:latin typeface="Arial Unicode MS"/>
              </a:rPr>
              <a:t>TICA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828800" y="2549520"/>
            <a:ext cx="4975200" cy="32558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793160" y="1424160"/>
            <a:ext cx="580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PROGRAMACIÓN MATEMÁT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 flipV="1">
            <a:off x="4716360" y="1915920"/>
            <a:ext cx="0" cy="6490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otta-ico"/>
          <p:cNvPicPr/>
          <p:nvPr/>
        </p:nvPicPr>
        <p:blipFill>
          <a:blip r:embed="rId2"/>
          <a:stretch/>
        </p:blipFill>
        <p:spPr>
          <a:xfrm>
            <a:off x="6443640" y="4508640"/>
            <a:ext cx="1604880" cy="165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EN FORMA GR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FICA 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…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8" name="Picture 5" descr="optimizacion"/>
          <p:cNvPicPr/>
          <p:nvPr/>
        </p:nvPicPr>
        <p:blipFill>
          <a:blip r:embed="rId1"/>
          <a:stretch/>
        </p:blipFill>
        <p:spPr>
          <a:xfrm>
            <a:off x="1403280" y="1125360"/>
            <a:ext cx="6840720" cy="5332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MODELOS CL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SICOS DE OPTIMIZACI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N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333399"/>
                </a:solidFill>
                <a:latin typeface="Arial Unicode MS"/>
              </a:rPr>
              <a:t>PROBLEMA DE ASIGNACIÓN: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xisten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personas disponibles para realizar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tareas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ada persona debe ser asignada exactamente a una tarea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lgunas personas están mejor calificados para algunas tareas que otros. Por lo tanto se ha estimado un costo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i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si la persona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es asignada a la tarea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problema consiste en encontrar la asignación de menor costo”.</a:t>
            </a:r>
            <a:r>
              <a:rPr b="1" i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1" name="Picture 6" descr="index_clip_image002_0000"/>
          <p:cNvPicPr/>
          <p:nvPr/>
        </p:nvPicPr>
        <p:blipFill>
          <a:blip r:embed="rId1"/>
          <a:stretch/>
        </p:blipFill>
        <p:spPr>
          <a:xfrm>
            <a:off x="5867280" y="4437000"/>
            <a:ext cx="2586240" cy="1565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PROBLEMA DE ASIGNACI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N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344000" cy="4591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MODELOS CL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SICOS DE OPTIMIZACI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N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333399"/>
                </a:solidFill>
                <a:latin typeface="Arial Unicode MS"/>
              </a:rPr>
              <a:t>PROBLEMA DE LA MOCHILA: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n presupuesto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disponible para invertir en proyectos durante el próximo año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proyectos bajo consideración.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e ha estimado en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j</a:t>
            </a: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gasto requerido por el proyecto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siendo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</a:t>
            </a:r>
            <a:r>
              <a:rPr b="1" i="1" lang="es-ES_tradnl" sz="16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j</a:t>
            </a: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su retorno esperado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problema consiste en escoger un conjunto de proyectos de manera que el presupuesto no sea excedido y el retorno esperado sea maximizado”.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6" name="Picture 6" descr="img?s=MLB&amp;f=33120234_6354"/>
          <p:cNvPicPr/>
          <p:nvPr/>
        </p:nvPicPr>
        <p:blipFill>
          <a:blip r:embed="rId1"/>
          <a:stretch/>
        </p:blipFill>
        <p:spPr>
          <a:xfrm>
            <a:off x="6588000" y="4581360"/>
            <a:ext cx="1911600" cy="1911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PROBLEMA DE LA MOCHILA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905040" y="1881360"/>
            <a:ext cx="7781760" cy="3095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6040" y="144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MODELOS CL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Á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SICOS DE OPTIMIZACI</a:t>
            </a:r>
            <a:r>
              <a:rPr b="1" lang="es-ES_tradnl" sz="1900" spc="-1" strike="noStrike">
                <a:solidFill>
                  <a:srgbClr val="000000"/>
                </a:solidFill>
                <a:latin typeface="Humnst777 BT"/>
              </a:rPr>
              <a:t>Ó</a:t>
            </a:r>
            <a:r>
              <a:rPr b="1" lang="es-ES_tradnl" sz="1900" spc="-1" strike="noStrike">
                <a:solidFill>
                  <a:srgbClr val="000000"/>
                </a:solidFill>
                <a:latin typeface="Arial Unicode MS"/>
              </a:rPr>
              <a:t>N</a:t>
            </a:r>
            <a:endParaRPr b="1" lang="en-US" sz="1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333399"/>
                </a:solidFill>
                <a:latin typeface="Arial Unicode MS"/>
              </a:rPr>
              <a:t>PROBLEMA DE COBERTURA:</a:t>
            </a:r>
            <a:endParaRPr b="0" lang="en-US" sz="1900" spc="-1" strike="noStrike">
              <a:solidFill>
                <a:srgbClr val="333399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 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iones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posibles ubicaciones para centros de atención de emergencias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ada centro de atención se caracteriza por un costo instalación y por el conjunto de regiones que puede servir.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i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1" i="1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problema consiste en decidir dónde instalar los centros de atención de manera que se minimicen los costos de instalación y que cada región sea cubierta”.</a:t>
            </a:r>
            <a:r>
              <a:rPr b="1" i="1" lang="es-E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1" name="Picture 6" descr="constel"/>
          <p:cNvPicPr/>
          <p:nvPr/>
        </p:nvPicPr>
        <p:blipFill>
          <a:blip r:embed="rId1"/>
          <a:stretch/>
        </p:blipFill>
        <p:spPr>
          <a:xfrm>
            <a:off x="6516720" y="4653000"/>
            <a:ext cx="1905120" cy="1895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02:04:29Z</dcterms:created>
  <dc:creator>Jaime Miranda</dc:creator>
  <dc:description/>
  <dc:language>en-US</dc:language>
  <cp:lastModifiedBy>MARIAPAZ</cp:lastModifiedBy>
  <dcterms:modified xsi:type="dcterms:W3CDTF">2007-08-05T17:39:57Z</dcterms:modified>
  <cp:revision>1489</cp:revision>
  <dc:subject/>
  <dc:title>INTRODUCCIÖN</dc:title>
</cp:coreProperties>
</file>