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1C3-CD52-47C0-9C44-B7F11DE8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66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EEF-F934-4498-B3D1-6A93CE1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E92-91EB-4FB7-AA6A-A6AC896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0B5-ED30-48C6-BFF4-DDBE4A71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044-17FA-49AF-8A03-243F985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DA-C67B-4183-91E4-3C87A460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CEA-1616-4952-8AF2-B4AABAC3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043-EACB-446D-9042-828941DC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6040" y="14436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76D-62F4-472D-BDDC-8647B45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8F3-414B-435A-87E3-FE10712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21F-A121-4DFB-AED5-AA2F954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FF1-F777-49CD-9366-EB4AA29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dii.uchile.cl/~ey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Click to edit the outline text format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econd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2" marL="1143000" indent="-228600"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Third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3" marL="1600200" indent="-2286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Four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4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Fif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ix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even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7917-25D0-48CB-AA1C-DC4C9C381E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Line 9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" descr="getImageResiz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9360"/>
            <a:ext cx="122400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V5CBKD0"/>
          <p:cNvPicPr/>
          <p:nvPr/>
        </p:nvPicPr>
        <p:blipFill>
          <a:blip r:embed="rId1"/>
          <a:stretch/>
        </p:blipFill>
        <p:spPr>
          <a:xfrm>
            <a:off x="2700360" y="-27000"/>
            <a:ext cx="6443640" cy="688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Fonernalico"/>
          <p:cNvPicPr/>
          <p:nvPr/>
        </p:nvPicPr>
        <p:blipFill>
          <a:blip r:embed="rId2"/>
          <a:stretch/>
        </p:blipFill>
        <p:spPr>
          <a:xfrm>
            <a:off x="9360" y="-27000"/>
            <a:ext cx="2833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PROGRAMACI</a:t>
            </a:r>
            <a:r>
              <a:rPr b="1" lang="es-ES_tradnl" sz="3000" spc="-1" strike="noStrike">
                <a:solidFill>
                  <a:srgbClr val="000099"/>
                </a:solidFill>
                <a:latin typeface="Humnst777 BT"/>
              </a:rPr>
              <a:t>Ó</a:t>
            </a: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N LINEAL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755640" y="3860640"/>
            <a:ext cx="7859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476360" y="42228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Departamento de Ingeniería Indust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Universidad de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Jaime Miran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COBERTUR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55720" y="1557360"/>
            <a:ext cx="7819920" cy="3952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L VENDEDOR VIAJERO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vendedor debe visit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iudades y luego retornar a su punto de partid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ciudad debe ser visitada exactamente una vez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tiempo que toma viajar de la ciudad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 la ciudad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s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ncontrar el orden en el cual el vendedor debe hacer su viaje de manera de finalizar lo más rápido posible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" name="Picture 5" descr="Vendedor"/>
          <p:cNvPicPr/>
          <p:nvPr/>
        </p:nvPicPr>
        <p:blipFill>
          <a:blip r:embed="rId1"/>
          <a:stretch/>
        </p:blipFill>
        <p:spPr>
          <a:xfrm>
            <a:off x="6719760" y="4363920"/>
            <a:ext cx="1571760" cy="19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L VENDEDOR VIAJERO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3240" cy="525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203640" y="6093000"/>
            <a:ext cx="240984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LOCALIZACIÓN DE INSTALACIONE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={1,...,n} bodegas potencial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={1,...,m} client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xiste un costo fij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sociado al uso de la bodeg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el pedido del cliente i es entregado desde la bodeg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la empresa incurre en un costo de transporte igual 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qué bodegas abrir y determinar qué bodegas servirán a cada uno de los clientes con el fin de minimizar los costos totales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" name="Picture 5" descr="plan_gross"/>
          <p:cNvPicPr/>
          <p:nvPr/>
        </p:nvPicPr>
        <p:blipFill>
          <a:blip r:embed="rId1"/>
          <a:stretch/>
        </p:blipFill>
        <p:spPr>
          <a:xfrm>
            <a:off x="6227640" y="4437000"/>
            <a:ext cx="2124360" cy="19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PROBLEMA DE LOCALIZ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DE INSTALACIONES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38120" y="1297080"/>
            <a:ext cx="8020080" cy="479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PRODUCCIÓN DE LOTE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rizonte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eríodo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fijo de producción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unitario de producción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unitario de inventario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manda en el período t,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la producción de un producto en una planta para un horizonte de n períodos”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8" name="Picture 5" descr="Linea-de-produccion-0508"/>
          <p:cNvPicPr/>
          <p:nvPr/>
        </p:nvPicPr>
        <p:blipFill>
          <a:blip r:embed="rId1"/>
          <a:stretch/>
        </p:blipFill>
        <p:spPr>
          <a:xfrm>
            <a:off x="5651640" y="4149720"/>
            <a:ext cx="2857320" cy="182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500120" y="1276200"/>
            <a:ext cx="6743880" cy="484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¿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CU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LES SON LAS T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É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CNICAS DE SOLU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?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MÉTODOS OPTIMIZANTES EXACTOS Y APROXIMADO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Métodos de Branch&amp;Bound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Algoritmos de punto interior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Fortalecimiento de formulacion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Relajación Lagrangean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MÉTODOS HEURÍSTICO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Enfoques de redondeo y golos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Búsqueda Tabú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Simulated Annealing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Picture 5" descr="skate"/>
          <p:cNvPicPr/>
          <p:nvPr/>
        </p:nvPicPr>
        <p:blipFill>
          <a:blip r:embed="rId1"/>
          <a:stretch/>
        </p:blipFill>
        <p:spPr>
          <a:xfrm>
            <a:off x="5724360" y="2421000"/>
            <a:ext cx="263844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OFTWARES: GAMS-CPLEX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862280" y="1424160"/>
            <a:ext cx="5419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V5CBKD0"/>
          <p:cNvPicPr/>
          <p:nvPr/>
        </p:nvPicPr>
        <p:blipFill>
          <a:blip r:embed="rId1"/>
          <a:stretch/>
        </p:blipFill>
        <p:spPr>
          <a:xfrm>
            <a:off x="2700360" y="-27000"/>
            <a:ext cx="6443640" cy="688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Fonernalico"/>
          <p:cNvPicPr/>
          <p:nvPr/>
        </p:nvPicPr>
        <p:blipFill>
          <a:blip r:embed="rId2"/>
          <a:stretch/>
        </p:blipFill>
        <p:spPr>
          <a:xfrm>
            <a:off x="9360" y="-27000"/>
            <a:ext cx="283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PROGRAMACI</a:t>
            </a:r>
            <a:r>
              <a:rPr b="1" lang="es-ES_tradnl" sz="3000" spc="-1" strike="noStrike">
                <a:solidFill>
                  <a:srgbClr val="000099"/>
                </a:solidFill>
                <a:latin typeface="Humnst777 BT"/>
              </a:rPr>
              <a:t>Ó</a:t>
            </a: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N LINEAL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Line 5"/>
          <p:cNvSpPr/>
          <p:nvPr/>
        </p:nvSpPr>
        <p:spPr>
          <a:xfrm>
            <a:off x="755640" y="3860640"/>
            <a:ext cx="7859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76360" y="42228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Departamento de Ingeniería Indust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Universidad de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Jaime Miran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PROGRAMACI</a:t>
            </a:r>
            <a:r>
              <a:rPr b="1" lang="es-MX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N MATEM</a:t>
            </a:r>
            <a:r>
              <a:rPr b="1" lang="es-MX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TIC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Es una de las principales disciplinas de la Investigación Operativa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4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Consiste en encontrar el mejor valor de alguna medida de desempeño (función objetivo) con la condición de que las variables de decisión cumplan ciertas limitaciones</a:t>
            </a: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 (restricciones)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4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Todos sus elementos corresponden a funciones o relaciones matemáticas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Ha sido impulsada por el gran desarrollo de las herramientas computacionales y de comunicaciones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51" name="Picture 5" descr="otta-ico"/>
          <p:cNvPicPr/>
          <p:nvPr/>
        </p:nvPicPr>
        <p:blipFill>
          <a:blip r:embed="rId1"/>
          <a:stretch/>
        </p:blipFill>
        <p:spPr>
          <a:xfrm>
            <a:off x="6443640" y="4508640"/>
            <a:ext cx="1604880" cy="165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CLASIFIC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DE MODELO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DE PROGRAM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MATEM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TIC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828800" y="2549520"/>
            <a:ext cx="4975200" cy="3255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793160" y="1424160"/>
            <a:ext cx="58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PROGRAMA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4716360" y="1915920"/>
            <a:ext cx="0" cy="649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otta-ico"/>
          <p:cNvPicPr/>
          <p:nvPr/>
        </p:nvPicPr>
        <p:blipFill>
          <a:blip r:embed="rId2"/>
          <a:stretch/>
        </p:blipFill>
        <p:spPr>
          <a:xfrm>
            <a:off x="6443640" y="4508640"/>
            <a:ext cx="1604880" cy="165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EN FORMA GR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FICA 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8" name="Picture 5" descr="optimizacion"/>
          <p:cNvPicPr/>
          <p:nvPr/>
        </p:nvPicPr>
        <p:blipFill>
          <a:blip r:embed="rId1"/>
          <a:stretch/>
        </p:blipFill>
        <p:spPr>
          <a:xfrm>
            <a:off x="1403280" y="1125360"/>
            <a:ext cx="6840720" cy="5332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ASIGNACIÓN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xisten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personas disponibles para realiz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tare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persona debe ser asignada exactamente a una tare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gunas personas están mejor calificados para algunas tareas que otros. Por lo tanto se ha estimado un cos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i la person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s asignada a la tare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ncontrar la asignación de menor costo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1" name="Picture 6" descr="index_clip_image002_0000"/>
          <p:cNvPicPr/>
          <p:nvPr/>
        </p:nvPicPr>
        <p:blipFill>
          <a:blip r:embed="rId1"/>
          <a:stretch/>
        </p:blipFill>
        <p:spPr>
          <a:xfrm>
            <a:off x="5867280" y="4437000"/>
            <a:ext cx="2586240" cy="156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ASIGN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44000" cy="4591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LA MOCHILA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presupues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sponible para invertir en proyectos durante el próximo año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royectos bajo consideración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e ha estimado en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gasto requerido por el proyec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siend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u retorno esperado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scoger un conjunto de proyectos de manera que el presupuesto no sea excedido y el retorno esperado sea maximizado”.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" name="Picture 6" descr="img?s=MLB&amp;f=33120234_6354"/>
          <p:cNvPicPr/>
          <p:nvPr/>
        </p:nvPicPr>
        <p:blipFill>
          <a:blip r:embed="rId1"/>
          <a:stretch/>
        </p:blipFill>
        <p:spPr>
          <a:xfrm>
            <a:off x="6588000" y="4581360"/>
            <a:ext cx="1911600" cy="1911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LA MOCHIL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905040" y="1881360"/>
            <a:ext cx="7781760" cy="309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COBERTURA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on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osibles ubicaciones para centros de atención de emergenci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centro de atención se caracteriza por un costo instalación y por el conjunto de regiones que puede servir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dónde instalar los centros de atención de manera que se minimicen los costos de instalación y que cada región sea cubierta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" name="Picture 6" descr="constel"/>
          <p:cNvPicPr/>
          <p:nvPr/>
        </p:nvPicPr>
        <p:blipFill>
          <a:blip r:embed="rId1"/>
          <a:stretch/>
        </p:blipFill>
        <p:spPr>
          <a:xfrm>
            <a:off x="6516720" y="465300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02:04:29Z</dcterms:created>
  <dc:creator>Jaime Miranda</dc:creator>
  <dc:description/>
  <dc:language>en-US</dc:language>
  <cp:lastModifiedBy>MARIAPAZ</cp:lastModifiedBy>
  <dcterms:modified xsi:type="dcterms:W3CDTF">2007-08-05T17:39:57Z</dcterms:modified>
  <cp:revision>1489</cp:revision>
  <dc:subject/>
  <dc:title>INTRODUCCIÖN</dc:title>
</cp:coreProperties>
</file>