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BAF3-EF70-4153-A4E4-BF97AA48F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8B99-F454-4F5C-B715-1D7637E10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4C81-B0CB-40DF-8B9A-C137CE0E9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A490-E7D2-4059-81BE-30D404003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03FE4-311A-42F3-96F6-B8E9859E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BB3A6-6DAB-4247-A3B4-CA5D913B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19DB7-48B6-4B6D-8D69-B3BF273D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CE5A0-01B5-4CA6-8B02-87A83316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BB690-7256-4C07-9BA6-E08AA52E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1E734-D948-4F04-9D2E-04297167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87A1F-AE89-4E72-82C0-AE5387D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B0948-D9DA-4E17-8E86-720A4C85F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4C242-E034-431B-A454-1543CD03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C63C9-A32C-4A0B-A1EB-416C956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6F415-A28B-454F-A058-E1ECF43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77215-52B9-4566-AB8C-20C3CC50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37F21-75E0-4282-94A6-61CF4965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9D1D-2F72-4C86-97C8-4CDD5E103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61CC-E36D-45BA-AF58-674692BA6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3679-C7D7-467A-B3B1-A20E8BD17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3900A-6715-428A-8DBC-AAE8CB7B3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36044-B2AD-4197-B711-E2EAB7069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0C53-5D44-46C1-BF5D-CA617F6A7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6BB4-7186-41E5-97C1-385BDB117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23560" y="62784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F943-4013-4E89-84FA-2E7A3003C22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5BEC-7AAC-455C-A6DB-C0F3B70AF740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053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rogramac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determinar la ruta crítica y las holguras además hay que defin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550880" y="2932200"/>
                <a:ext cx="7145280" cy="30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comienzo máximo de la actividad x s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atrasar el proyec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fin máximo de la actividad x sin atras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el proyec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sucesor de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D113-1959-4D8B-B60D-084AE78849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el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587600" y="2755800"/>
                <a:ext cx="7035840" cy="27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,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724280" y="2754360"/>
                <a:ext cx="280512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C00E-4209-40F1-AB91-89FC341496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esta mane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ruta crítica esta definida por las actividades en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ax(x)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-C-D-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holgura de la actividad x estará dada por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Fmax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F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ax(x)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lgura de B =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EF10-EE30-40F4-ABCD-0BDDAC890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pueden hacer los cálculos directamente en la mall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133720" y="3421080"/>
            <a:ext cx="5257800" cy="1608120"/>
            <a:chOff x="2133720" y="3421080"/>
            <a:chExt cx="5257800" cy="1608120"/>
          </a:xfrm>
        </p:grpSpPr>
        <p:sp>
          <p:nvSpPr>
            <p:cNvPr id="151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95680" y="457200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41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43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909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11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2200" y="394956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902120" y="39366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96080" y="34210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24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,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69400" y="39895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836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6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6160" y="397656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23360" y="4567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4,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4884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374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32640" y="4567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4,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712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9,9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32120" y="3772080"/>
              <a:ext cx="5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9800" y="377208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8800" y="37558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70920" y="42926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4960" y="4290840"/>
              <a:ext cx="56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14DD-0C2D-4F78-85A9-309BCA7466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idades artifici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pasa si agregamos una actividad A’ que precede a B pero no a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necesario definir una actividad artificial con tiempo de duración igual a 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525780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59320" y="46224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0200" y="40561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3800" y="4056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32280" y="404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88600" y="5475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56680" y="48020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525780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809880" y="4635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6280" y="481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24880" y="48150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C588-8D50-4E65-B146-28CED9C050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recede a D y 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precede a 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precede a 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57600" y="3429000"/>
            <a:ext cx="2819520" cy="2590920"/>
            <a:chOff x="3657600" y="3429000"/>
            <a:chExt cx="2819520" cy="2590920"/>
          </a:xfrm>
        </p:grpSpPr>
        <p:sp>
          <p:nvSpPr>
            <p:cNvPr id="201" name=""/>
            <p:cNvSpPr/>
            <p:nvPr/>
          </p:nvSpPr>
          <p:spPr>
            <a:xfrm>
              <a:off x="480060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0600" y="55627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060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5760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114800" y="472284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38480" y="487692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257800" y="4800600"/>
              <a:ext cx="762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4200" y="43959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10920" y="39117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57320" y="5270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01560" y="5272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3480" y="39117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114800" y="38095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81480" y="3809880"/>
              <a:ext cx="838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29200" y="4952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2920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10480" y="504360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99680" y="403848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354C-9A0B-4A52-8725-65C4C449C7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a Gant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estra cuánto tiempo se necesita para cada actividad y cuándo tendrá lugar la mis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ver el uso de recursos en el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74000" y="3657240"/>
            <a:ext cx="4208760" cy="2669400"/>
            <a:chOff x="1674000" y="3657240"/>
            <a:chExt cx="4208760" cy="2669400"/>
          </a:xfrm>
        </p:grpSpPr>
        <p:sp>
          <p:nvSpPr>
            <p:cNvPr id="223" name=""/>
            <p:cNvSpPr/>
            <p:nvPr/>
          </p:nvSpPr>
          <p:spPr>
            <a:xfrm flipV="1">
              <a:off x="2072880" y="3657240"/>
              <a:ext cx="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72880" y="594324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54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35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15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97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78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58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40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21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01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94520" y="3885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87680" y="42670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4000" y="4647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86240" y="50288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88760" y="54100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72880" y="5600520"/>
              <a:ext cx="76176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5000" y="4876560"/>
              <a:ext cx="76176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35000" y="5257440"/>
              <a:ext cx="1523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97120" y="4419360"/>
              <a:ext cx="114264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40120" y="4038480"/>
              <a:ext cx="7614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3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0540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6716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29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1016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72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972400" y="3641760"/>
            <a:ext cx="21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rta Gantt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l Ejemplo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32AE-7358-4DBE-956C-DB716FF47E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si los tiempos de las actividades no son determinístic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la actividad de programación puede demorar entre 3 y 5 semanas, el proyecto podría demorar de 9 a 11 sema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les son las actividades crític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tiempo que demora cada activida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9C03-9737-4916-8F84-4CCF2755B0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pone una distribución beta para el tiempo que demoran las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fin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optimi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pesimi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esperado para cada activ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rianza de cada activ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total de terminación d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E(T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lor esperado para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Var(T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riación de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8198-1FD3-496C-804E-52620CB600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supone que los tiempos optimistas y pesimistas cubren seis desviaciones estándar en la distribución b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2362320"/>
                <a:ext cx="2514600" cy="20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6E6B-65F8-4C14-A356-FF62F832ED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rogramación de proyectos asume que los proyectos están divididos en etapas independientes con claras relaciones de prece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ación de un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ción de un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yecto del 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6591-78C9-49A6-938C-FBB2B8F2A3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esta manera, considerando que T es el tiempo total de terminación del proyecto, se pueden calcul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asume independ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362320" y="3200400"/>
                <a:ext cx="274320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t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ític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t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ític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93D5-49E2-4F44-8386-9DA38D51A7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la probabilidad de que T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solución exacta es compleja en redes no triv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alternativa se puede utilizar simulación. Si se hacen n experimen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.- Determinar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para la actividad x, al aza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.- Determinar T y ruta crít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 = 1000 y en 800 experimentos 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 se puede decir que la probabilidad que el proyecto demore a lo más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es 0,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actividad x aparece en la ruta crítica 600 veces, se puede decir que la probabilidad que x esté en la ruta crítica es 0,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884E2-25F6-46B9-ACD5-EF828C5A89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posible incrementar o disminuir el tiempo de las actividades a un mayor co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11960" y="3124080"/>
            <a:ext cx="4586760" cy="3085560"/>
            <a:chOff x="1911960" y="3124080"/>
            <a:chExt cx="4586760" cy="3085560"/>
          </a:xfrm>
        </p:grpSpPr>
        <p:sp>
          <p:nvSpPr>
            <p:cNvPr id="266" name=""/>
            <p:cNvSpPr/>
            <p:nvPr/>
          </p:nvSpPr>
          <p:spPr>
            <a:xfrm flipV="1">
              <a:off x="2743200" y="33526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3200" y="56386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3733920"/>
              <a:ext cx="1600200" cy="1218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47840" y="5689440"/>
              <a:ext cx="81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9320" y="5676840"/>
              <a:ext cx="81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28600" y="358128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ím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11960" y="4648320"/>
              <a:ext cx="81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5320" y="37339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05520" y="4952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9528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742840" y="37339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07320" y="312408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88720" y="5486400"/>
              <a:ext cx="81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799240" y="3276720"/>
            <a:ext cx="27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mpensación C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tre Tiempo y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DD1C-9B64-468E-A238-FEBF0E9782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09680" y="3429000"/>
            <a:ext cx="5257800" cy="1674360"/>
            <a:chOff x="2209680" y="3429000"/>
            <a:chExt cx="5257800" cy="1674360"/>
          </a:xfrm>
        </p:grpSpPr>
        <p:sp>
          <p:nvSpPr>
            <p:cNvPr id="283" name=""/>
            <p:cNvSpPr/>
            <p:nvPr/>
          </p:nvSpPr>
          <p:spPr>
            <a:xfrm>
              <a:off x="38098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0" y="464652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00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102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96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668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670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72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78160" y="4024080"/>
              <a:ext cx="4572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978440" y="4011480"/>
              <a:ext cx="5335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08440" y="34448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06120" y="34448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36920" y="34290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47240" y="42066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91640" y="419076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427040" y="251460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lla de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7727-99C3-4F05-87F4-F887E3D963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mio por terminar antes 4 por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394640" y="224316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bla de Acortar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209680" y="3094200"/>
            <a:ext cx="5410440" cy="163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8548-BC75-464D-9C56-D28C0D52C3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conviene hac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A en una semana a costo 1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C en una semana a costo 2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generan dos rutas críticas A-B-E, A-C-D-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simultáneamente B y D aun costo 5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vale la pe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52D5-B628-46CA-BBFA-EF83EF149B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724840" y="536724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o y Tiempo para C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15360" y="2057400"/>
            <a:ext cx="5373720" cy="2973960"/>
            <a:chOff x="2115360" y="2057400"/>
            <a:chExt cx="5373720" cy="2973960"/>
          </a:xfrm>
        </p:grpSpPr>
        <p:sp>
          <p:nvSpPr>
            <p:cNvPr id="308" name=""/>
            <p:cNvSpPr/>
            <p:nvPr/>
          </p:nvSpPr>
          <p:spPr>
            <a:xfrm flipV="1">
              <a:off x="2819520" y="23623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9520" y="46483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0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1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62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43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24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05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86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67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48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86400" y="3581280"/>
              <a:ext cx="380880" cy="762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67280" y="4343400"/>
              <a:ext cx="381240" cy="3049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99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5680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189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3804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15360" y="20574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79080" y="4495680"/>
              <a:ext cx="81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200" y="396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3200" y="3581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86880" y="4191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75720" y="38098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88320" y="3429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19520" y="43434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19520" y="35812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6400" y="35812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6728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2363-E069-4758-8018-CE13DFB35E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ific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ursos requer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zos en forma glob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ación de activida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idades específ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zos detall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327A-BFB9-40A9-B6E3-159DCEDB3A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das de contro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E5AD-3DE7-4A16-9204-9EBF785E29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62320" y="2297160"/>
            <a:ext cx="5356080" cy="1589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7080" y="16765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yecto del Cur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7760" y="419112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laciones de Precedencia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362320" y="4815000"/>
            <a:ext cx="2514600" cy="12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8946-4F55-4E02-BF87-D9BC4CBC45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09680" y="2744640"/>
            <a:ext cx="5257800" cy="1675080"/>
            <a:chOff x="2209680" y="2744640"/>
            <a:chExt cx="5257800" cy="1675080"/>
          </a:xfrm>
        </p:grpSpPr>
        <p:sp>
          <p:nvSpPr>
            <p:cNvPr id="113" name=""/>
            <p:cNvSpPr/>
            <p:nvPr/>
          </p:nvSpPr>
          <p:spPr>
            <a:xfrm>
              <a:off x="38098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0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70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8160" y="334008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978440" y="332712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8440" y="27608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6120" y="27608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36920" y="27446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7240" y="35226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91640" y="350676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21040" y="190512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lla de Activ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3800" y="4648320"/>
            <a:ext cx="731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 definen actividades en el tiempo: cuando un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rmina, la(s) actividad(es) que la sucede(n) puede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menz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En la malla los nodos corresponden a eventos y los arco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ctiv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428B-6183-4C3C-A93E-34E14DE17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Cuánto demora el proyec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 proyecto de mora 9 sema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Cuál es la ruta crític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ruta crítica es A-C-D-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esta ruta cualquier actividad es cuello de botel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holguras existe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actividad presenta holgura si se puede retra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el ejemplo la actividad B tiene una holgura de un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FC7F-CD65-4AA8-8BCE-1E0FCCA061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resolver este problema se defin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600200" y="2590920"/>
                <a:ext cx="6781680" cy="25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que demora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comienzo mínimo de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fin mínimo de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predecesor inmediato de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D544-73BD-4A09-B697-68A1D6DDCA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el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00200" y="2755800"/>
                <a:ext cx="7010280" cy="27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6,7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867280" y="2678040"/>
                <a:ext cx="272736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A716-6F6B-4EAC-8B30-7DF1A7DFD2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21:58:16Z</dcterms:created>
  <dc:creator>Antoine Sauré Valenzuela</dc:creator>
  <dc:description/>
  <dc:language>en-US</dc:language>
  <cp:lastModifiedBy>.................</cp:lastModifiedBy>
  <dcterms:modified xsi:type="dcterms:W3CDTF">2007-11-19T19:59:27Z</dcterms:modified>
  <cp:revision>26</cp:revision>
  <dc:subject/>
  <dc:title>Gestión de Operaciones</dc:title>
</cp:coreProperties>
</file>