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1F1D-03BE-416F-9645-71C92504F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D349-241D-4945-A248-ACA473DB1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071C-809C-48C7-BA71-2C4DF08F9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09E78-A1BB-4971-A2D4-7CDBB4E98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201A3-C8C1-43E8-9961-CFCEC88C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90A0E-1103-4C58-B966-8E1BB986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CC10F-47FB-48F8-BDD4-0CFA6004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A5F74-C4C0-41DB-8C0D-CCEB974D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B45F0-A4E0-4775-84C6-26DC31AA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0DBAE-7A98-48E3-9E0A-A6F36AB6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C2EB7-AF71-47ED-8A59-0A27514E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9F400-27F0-48CC-842C-811619B41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A6C3B-AFD0-4D21-9A1F-91DF3B3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9E9F3-654A-4316-BD71-0A6434DF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A900C-B7BF-4A60-817B-93A57D39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D01A9-2AB6-4610-B056-0495D77D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AC568-037F-4071-928F-E0F1FA20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A1A1-A8E0-44CA-B833-8F0833A90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E568-32A0-4A1C-881E-8F2CD4BF6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55F5-4EB8-4C27-B4DF-8D58AF9B0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3F91-03E4-4E77-9500-EF0386B34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BB52-95C6-4BCB-8CFF-CB39882DB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6BD9-D7EB-4210-BB6D-23CCF41C8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19BE-6031-466E-BE81-A97F7CBEA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23560" y="62784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DA95-1AD7-4589-B268-33EF1D0C879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9092-1D3E-4963-A1EA-0E2852627CC2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053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rogramación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determinar la ruta crítica y las holguras además hay que defin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550880" y="2932200"/>
                <a:ext cx="7145280" cy="30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comienzo máximo de la actividad x s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atrasar el proyec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fin máximo de la actividad x sin atras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el proyec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max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sucesor de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A79F-2BE8-4A5B-848F-3DBD792B2D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el 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587600" y="2755800"/>
                <a:ext cx="7035840" cy="27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max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Cmax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,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724280" y="2754360"/>
                <a:ext cx="280512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28AD-D072-4E3D-82E1-A4FEC1201F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esta mane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ruta crítica esta definida por las actividades en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ax(x)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in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-C-D-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holgura de la actividad x estará dada por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Fmax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Fmin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ax(x)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in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lgura de B =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4970-9049-48A6-B7F2-123403784D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pueden hacer los cálculos directamente en la mall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133720" y="3421080"/>
            <a:ext cx="5257800" cy="1608120"/>
            <a:chOff x="2133720" y="3421080"/>
            <a:chExt cx="5257800" cy="1608120"/>
          </a:xfrm>
        </p:grpSpPr>
        <p:sp>
          <p:nvSpPr>
            <p:cNvPr id="151" name=""/>
            <p:cNvSpPr/>
            <p:nvPr/>
          </p:nvSpPr>
          <p:spPr>
            <a:xfrm>
              <a:off x="37339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95680" y="457200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41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343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9092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9112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132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2200" y="394956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902120" y="39366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96080" y="34210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2,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24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,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69400" y="39895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,7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8368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6,7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6160" y="397656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2,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23360" y="4567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4,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4884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,7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3748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2,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32640" y="4567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4,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7128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9,9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32120" y="3772080"/>
              <a:ext cx="5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9800" y="377208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(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8800" y="37558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70920" y="42926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4960" y="4290840"/>
              <a:ext cx="56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(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C211-57E6-4D11-8B1B-5E4544D263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idades artifici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pasa si agregamos una actividad A’ que precede a B pero no a 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necesario definir una actividad artificial con tiempo de duración igual a 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525780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59320" y="46224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0200" y="40561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3800" y="4056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32280" y="404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88600" y="5475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56680" y="48020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525780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809880" y="4635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6280" y="481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24880" y="48150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7A81-78FB-446A-993A-03F77A1CC8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recede a D y 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precede a 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precede a 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57600" y="3429000"/>
            <a:ext cx="2819520" cy="2590920"/>
            <a:chOff x="3657600" y="3429000"/>
            <a:chExt cx="2819520" cy="2590920"/>
          </a:xfrm>
        </p:grpSpPr>
        <p:sp>
          <p:nvSpPr>
            <p:cNvPr id="201" name=""/>
            <p:cNvSpPr/>
            <p:nvPr/>
          </p:nvSpPr>
          <p:spPr>
            <a:xfrm>
              <a:off x="4800600" y="449424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0600" y="55627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9920" y="449424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060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57600" y="449424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114800" y="472284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38480" y="487692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257800" y="4800600"/>
              <a:ext cx="762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4200" y="43959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10920" y="39117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57320" y="5270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01560" y="5272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3480" y="39117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114800" y="380952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81480" y="3809880"/>
              <a:ext cx="838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29200" y="4952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2920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10480" y="504360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99680" y="403848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3A65-30FB-4ADC-83FB-E64C74DE85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a Gant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estra cuánto tiempo se necesita para cada actividad y cuándo tendrá lugar la mis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ver el uso de recursos en el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674000" y="3657240"/>
            <a:ext cx="4208760" cy="2669400"/>
            <a:chOff x="1674000" y="3657240"/>
            <a:chExt cx="4208760" cy="2669400"/>
          </a:xfrm>
        </p:grpSpPr>
        <p:sp>
          <p:nvSpPr>
            <p:cNvPr id="223" name=""/>
            <p:cNvSpPr/>
            <p:nvPr/>
          </p:nvSpPr>
          <p:spPr>
            <a:xfrm flipV="1">
              <a:off x="2072880" y="3657240"/>
              <a:ext cx="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72880" y="594324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5412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3500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1588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9712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7800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5888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4012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2100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0188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94520" y="3885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87680" y="42670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4000" y="4647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86240" y="50288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88760" y="54100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72880" y="5600520"/>
              <a:ext cx="76176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5000" y="4876560"/>
              <a:ext cx="76176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35000" y="5257440"/>
              <a:ext cx="1523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97120" y="4419360"/>
              <a:ext cx="114264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40120" y="4038480"/>
              <a:ext cx="7614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328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0540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6716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2928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1016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7228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972400" y="3641760"/>
            <a:ext cx="21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arta Gantt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l Ejemplo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BF01-9E8F-4FBC-AE76-750AC239AB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pasa si los tiempos de las actividades no son determinístic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la actividad de programación puede demorar entre 3 y 5 semanas, el proyecto podría demorar de 9 a 11 sema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les son las actividades crític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tiempo que demora cada activida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709A-C6FA-443A-9CA2-33D6E0F7F0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pone una distribución beta para el tiempo que demoran las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fin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optimi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pesimi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esperado para cada activ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Va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varianza de cada activ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total de terminación d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E(T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valor esperado para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Var(T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variación de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AAD6-EDF8-4F7F-880A-4DA762D210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supone que los tiempos optimistas y pesimistas cubren seis desviaciones estándar en la distribución be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438280" y="2362320"/>
                <a:ext cx="2514600" cy="20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9CC09-9210-41DD-A0AD-A00779D468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rogramación de proyectos asume que los proyectos están divididos en etapas independientes con claras relaciones de prece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ación de un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ción de una máqui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yecto del 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EB3F-1F27-496C-B442-41D4833311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esta manera, considerando que T es el tiempo total de terminación del proyecto, se pueden calcul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asume independ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362320" y="3200400"/>
                <a:ext cx="274320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t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ític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t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ític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2571-1D93-4E84-A804-9F422E6B67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la probabilidad de que T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solución exacta es compleja en redes no triv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o alternativa se puede utilizar simulación. Si se hacen n experimen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.- Determinar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para la actividad x, al aza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.- Determinar T y ruta crít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 = 1000 y en 800 experimentos 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, se puede decir que la probabilidad que el proyecto demore a lo más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es 0,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actividad x aparece en la ruta crítica 600 veces, se puede decir que la probabilidad que x esté en la ruta crítica es 0,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0A4B4-B101-4A92-BAF6-2BFF564DED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posible incrementar o disminuir el tiempo de las actividades a un mayor co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11960" y="3124080"/>
            <a:ext cx="4586760" cy="3085560"/>
            <a:chOff x="1911960" y="3124080"/>
            <a:chExt cx="4586760" cy="3085560"/>
          </a:xfrm>
        </p:grpSpPr>
        <p:sp>
          <p:nvSpPr>
            <p:cNvPr id="266" name=""/>
            <p:cNvSpPr/>
            <p:nvPr/>
          </p:nvSpPr>
          <p:spPr>
            <a:xfrm flipV="1">
              <a:off x="2743200" y="33526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43200" y="56386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3733920"/>
              <a:ext cx="1600200" cy="1218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47840" y="5689440"/>
              <a:ext cx="81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íni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9320" y="5676840"/>
              <a:ext cx="81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28600" y="358128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ím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11960" y="4648320"/>
              <a:ext cx="81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5320" y="37339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05520" y="4952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9528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742840" y="37339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07320" y="312408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88720" y="5486400"/>
              <a:ext cx="81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799240" y="3276720"/>
            <a:ext cx="27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mpensación C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tre Tiempo y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2767-E36E-4C3A-A7CF-319DA31ED0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09680" y="3429000"/>
            <a:ext cx="5257800" cy="1674360"/>
            <a:chOff x="2209680" y="3429000"/>
            <a:chExt cx="5257800" cy="1674360"/>
          </a:xfrm>
        </p:grpSpPr>
        <p:sp>
          <p:nvSpPr>
            <p:cNvPr id="283" name=""/>
            <p:cNvSpPr/>
            <p:nvPr/>
          </p:nvSpPr>
          <p:spPr>
            <a:xfrm>
              <a:off x="38098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0" y="464652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00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102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96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66880" y="3808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67080" y="3808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7280" y="3808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78160" y="4024080"/>
              <a:ext cx="4572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978440" y="4011480"/>
              <a:ext cx="5335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08440" y="34448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06120" y="344484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36920" y="34290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47240" y="42066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91640" y="419076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427040" y="251460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lla de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8A23-100B-4B22-9A34-9BD1073024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mio por terminar antes 4 por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394640" y="224316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bla de Acortar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209680" y="3094200"/>
            <a:ext cx="5410440" cy="163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C7559-C107-4182-9984-EC244189D4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conviene hac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ortar A en una semana a costo 1 </a:t>
            </a:r>
            <a:r>
              <a:rPr b="0" lang="en-US" sz="2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ortar C en una semana a costo 2 </a:t>
            </a:r>
            <a:r>
              <a:rPr b="0" lang="en-US" sz="2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generan dos rutas críticas A-B-E, A-C-D-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ortar simultáneamente B y D aun costo 5 </a:t>
            </a:r>
            <a:r>
              <a:rPr b="0" lang="en-US" sz="2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vale la pe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599E-4B9C-43C5-A540-CD18E7BB60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724840" y="536724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o y Tiempo para C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15360" y="2057400"/>
            <a:ext cx="5373720" cy="2973960"/>
            <a:chOff x="2115360" y="2057400"/>
            <a:chExt cx="5373720" cy="2973960"/>
          </a:xfrm>
        </p:grpSpPr>
        <p:sp>
          <p:nvSpPr>
            <p:cNvPr id="308" name=""/>
            <p:cNvSpPr/>
            <p:nvPr/>
          </p:nvSpPr>
          <p:spPr>
            <a:xfrm flipV="1">
              <a:off x="2819520" y="23623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9520" y="46483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04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812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625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434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242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055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864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672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485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86400" y="3581280"/>
              <a:ext cx="380880" cy="762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67280" y="4343400"/>
              <a:ext cx="381240" cy="3049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899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5680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189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3804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15360" y="20574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79080" y="4495680"/>
              <a:ext cx="81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434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200" y="3962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3200" y="3581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86880" y="4191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75720" y="38098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88320" y="3429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19520" y="434340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19520" y="35812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6400" y="35812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67280" y="434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86461-53BC-4C47-9765-4A14442510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ific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ursos requer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zos en forma glob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ación de activida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idades específ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zos detall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0F0F-CE86-4E66-ABA9-F49AAF3562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das de contro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0E24-61DC-4CFB-B6CF-1B6ABA8765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62320" y="2297160"/>
            <a:ext cx="5356080" cy="1589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7080" y="167652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yecto del Cur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7760" y="419112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laciones de Precedencia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362320" y="4815000"/>
            <a:ext cx="2514600" cy="12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89E4-3648-417B-AE5F-7161033CD9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09680" y="2744640"/>
            <a:ext cx="5257800" cy="1675080"/>
            <a:chOff x="2209680" y="2744640"/>
            <a:chExt cx="5257800" cy="1675080"/>
          </a:xfrm>
        </p:grpSpPr>
        <p:sp>
          <p:nvSpPr>
            <p:cNvPr id="113" name=""/>
            <p:cNvSpPr/>
            <p:nvPr/>
          </p:nvSpPr>
          <p:spPr>
            <a:xfrm>
              <a:off x="38098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00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6880" y="3124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67080" y="3124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7280" y="3124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8160" y="334008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978440" y="332712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8440" y="27608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6120" y="276084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36920" y="274464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7240" y="35226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91640" y="350676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121040" y="190512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lla de Activ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3800" y="4648320"/>
            <a:ext cx="731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 definen actividades en el tiempo: cuando un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ermina, la(s) actividad(es) que la sucede(n) puede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menz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En la malla los nodos corresponden a eventos y los arco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ctiv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A1D5-CC08-4F58-929B-9C7F15072E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Cuánto demora el proyect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 proyecto de mora 9 sema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Cuál es la ruta crític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ruta crítica es A-C-D-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esta ruta cualquier actividad es cuello de botel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holguras existe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actividad presenta holgura si se puede retras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el ejemplo la actividad B tiene una holgura de un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B66F-A0BD-4C11-96AE-C21B7AA11B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resolver este problema se defin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600200" y="2590920"/>
                <a:ext cx="6781680" cy="25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que demora la actividad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comienzo mínimo de la actividad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fin mínimo de la actividad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min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predecesor inmediato de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159A-4457-43EB-8D57-DB0FDD9811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el 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00200" y="2755800"/>
                <a:ext cx="7010280" cy="27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min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Fmin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6,7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867280" y="2678040"/>
                <a:ext cx="272736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4CEF-68A3-438E-9855-0D5C9C65CE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21:58:16Z</dcterms:created>
  <dc:creator>Antoine Sauré Valenzuela</dc:creator>
  <dc:description/>
  <dc:language>en-US</dc:language>
  <cp:lastModifiedBy>.................</cp:lastModifiedBy>
  <dcterms:modified xsi:type="dcterms:W3CDTF">2007-11-19T19:59:27Z</dcterms:modified>
  <cp:revision>26</cp:revision>
  <dc:subject/>
  <dc:title>Gestión de Operaciones</dc:title>
</cp:coreProperties>
</file>