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E3F0-E19B-4326-A7F4-BDA72C4AD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A086-F200-490C-82FB-F8B01636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9607-9B65-4DC8-8BE5-A49FAAF24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6D2B-4549-41C7-911C-7AD73179C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C3981-34AB-4B70-A50C-4DFB5E1E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F3ABD-C8E8-444A-9B31-2D906AB7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C8E6F-698D-4C13-AE5F-BF480AC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66489-D69B-4C85-8716-FB31DE4F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397C1-3D1C-45B6-B668-49680C4E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B4B0E-5395-4CFB-BBEB-9017F707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58A91-3952-486A-9CEB-B4A2BA9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A2F1-D10F-4FED-9CA3-91E37F083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A0E5-DDCC-4813-96E5-D71BA8C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F12B6-CC9B-4D84-A40E-5BAD3CE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8DF8F-5303-4410-9965-18310C1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BADDF-6B9F-4D3D-AC5B-B9228693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448D4-D3D3-4BE4-855F-74BF3839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EC07-F2A7-48CE-B2A0-728703BE6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5C65-9EC0-4790-A23A-A7BE543A6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F803-8057-4B25-8154-5177A2774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2067-F210-4D85-8D6F-FDEC547EF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A7BC-CE53-443E-ABE3-9662DCA1D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F656-8527-4981-B630-41C85E5C7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08C9-E4DF-45A0-8D04-F9661E7D5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4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C9DE-D5E3-4869-A62C-3B2F0C27F08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E91A-1429-4217-B185-63CE96AE4FB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053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determinar la ruta crítica y las holguras además hay que defin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50880" y="2932200"/>
                <a:ext cx="7145280" cy="30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áximo de la actividad x s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atrasar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áximo de la actividad x sin atras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el proyec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sucesor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B6F9-7065-4730-93C2-6D8C4FC03D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87600" y="2755800"/>
                <a:ext cx="703584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a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max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,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24280" y="2754360"/>
                <a:ext cx="28051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ax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43A1-5C5B-451E-BC43-3F900ECDDD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esta man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uta crítica esta definida por las actividades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holgura de la actividad x estará dada por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ax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F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ax(x)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Cmin(x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lgura de B =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C9A5-CC16-46C8-82E0-6F17B91929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pueden hacer los cálculos directamente en la mal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33720" y="3421080"/>
            <a:ext cx="5257800" cy="1608120"/>
            <a:chOff x="2133720" y="3421080"/>
            <a:chExt cx="5257800" cy="1608120"/>
          </a:xfrm>
        </p:grpSpPr>
        <p:sp>
          <p:nvSpPr>
            <p:cNvPr id="151" name=""/>
            <p:cNvSpPr/>
            <p:nvPr/>
          </p:nvSpPr>
          <p:spPr>
            <a:xfrm>
              <a:off x="37339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95680" y="4572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41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43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35053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11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2200" y="394956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902120" y="39366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96080" y="34210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2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,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69400" y="39895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836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6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6160" y="39765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2336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4884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,7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374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2,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32640" y="4567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4,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71280" y="3424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9,9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32120" y="3772080"/>
              <a:ext cx="5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9800" y="37720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8800" y="37558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0920" y="4292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4960" y="4290840"/>
              <a:ext cx="56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9414-18D5-4F72-9292-EF7325B524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dades artifi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asa si agregamos una actividad A’ que precede a B pero no a 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necesario definir una actividad artificial con tiempo de duración igual a 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419112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59320" y="46224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0200" y="40561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3800" y="4056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32280" y="40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88600" y="5475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56680" y="4802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5257800"/>
            <a:ext cx="457200" cy="4572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4635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5486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6280" y="481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24880" y="48150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7964-7E92-4714-AE9F-47516B8C00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ecede a D y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precede a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precede a 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7600" y="3429000"/>
            <a:ext cx="2819520" cy="2590920"/>
            <a:chOff x="3657600" y="3429000"/>
            <a:chExt cx="2819520" cy="2590920"/>
          </a:xfrm>
        </p:grpSpPr>
        <p:sp>
          <p:nvSpPr>
            <p:cNvPr id="201" name=""/>
            <p:cNvSpPr/>
            <p:nvPr/>
          </p:nvSpPr>
          <p:spPr>
            <a:xfrm>
              <a:off x="4800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55627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060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449424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14800" y="472284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8480" y="48769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257800" y="4800600"/>
              <a:ext cx="762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4200" y="4395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0920" y="39117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57320" y="5270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1560" y="52722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3480" y="39117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114800" y="38095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81480" y="3809880"/>
              <a:ext cx="838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952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292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10480" y="504360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9680" y="40384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821D-B650-4C0B-890D-6A2C84FF6A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estra cuánto tiempo se necesita para cada actividad y cuándo tendrá lugar la mis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ver el uso de recursos en el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74000" y="3657240"/>
            <a:ext cx="4208760" cy="2669400"/>
            <a:chOff x="1674000" y="3657240"/>
            <a:chExt cx="4208760" cy="2669400"/>
          </a:xfrm>
        </p:grpSpPr>
        <p:sp>
          <p:nvSpPr>
            <p:cNvPr id="223" name=""/>
            <p:cNvSpPr/>
            <p:nvPr/>
          </p:nvSpPr>
          <p:spPr>
            <a:xfrm flipV="1">
              <a:off x="2072880" y="3657240"/>
              <a:ext cx="0" cy="22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2880" y="594324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54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15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97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8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8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4012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2100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01880" y="586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4520" y="3885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7680" y="42670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4000" y="4647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86240" y="50288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88760" y="54100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880" y="560052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5000" y="4876560"/>
              <a:ext cx="761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5000" y="5257440"/>
              <a:ext cx="152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97120" y="4419360"/>
              <a:ext cx="114264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40120" y="4038480"/>
              <a:ext cx="7614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3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540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67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9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1016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72280" y="6019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972400" y="364176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rta Gantt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l Ejempl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C48C-6690-4E47-84AB-91E91D57FF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los tiempos de las actividades no son determinístic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la actividad de programación puede demorar entre 3 y 5 semanas, el proyecto podría demorar de 9 a 11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les son las actividades crític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tiempo que demora cada activida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A8F8-DBBB-4C2B-B499-514B03F1D3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pone una distribución beta para el tiempo que demoran las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fin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opt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pesimi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esperado para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nza de cada activ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total de terminación d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E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lor esperad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Var(T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variación de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122F-BAF7-40B0-A65D-53F859AECE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supone que los tiempos optimistas y pesimistas cubren seis desviaciones estándar en la distribución b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2362320"/>
                <a:ext cx="2514600" cy="20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F57A-63BA-49C7-A84A-0D68F8DFE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rogramación de proyectos asume que los proyectos están divididos en etapas independientes con claras relaciones de prece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ación de un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ción de una máqui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yecto del 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C0B1-71FD-4797-A529-0D779ACBBF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esta manera, considerando que T es el tiempo total de terminación del proyecto, se pueden calcul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asume independ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362320" y="3200400"/>
                <a:ext cx="27432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t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ític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6971-C0C7-4BE4-A605-73C01D3FD4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E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la probabilidad de que T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solución exacta es compleja en redes no triv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alternativa se puede utilizar simulación. Si se hacen n experimen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.- Determinar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para la actividad x, al az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.- Determinar T y ruta crít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 = 1000 y en 800 experimentos 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 se puede decir que la probabilidad que el proyecto demore a lo más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 0,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actividad x aparece en la ruta crítica 600 veces, se puede decir que la probabilidad que x esté en la ruta crítica es 0,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A62D-4156-4D7B-B261-60CC5C3FCD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posible incrementar o disminuir el tiempo de las actividades a un mayor 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11960" y="3124080"/>
            <a:ext cx="4586760" cy="3085560"/>
            <a:chOff x="1911960" y="3124080"/>
            <a:chExt cx="4586760" cy="3085560"/>
          </a:xfrm>
        </p:grpSpPr>
        <p:sp>
          <p:nvSpPr>
            <p:cNvPr id="266" name=""/>
            <p:cNvSpPr/>
            <p:nvPr/>
          </p:nvSpPr>
          <p:spPr>
            <a:xfrm flipV="1">
              <a:off x="2743200" y="33526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3200" y="5638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733920"/>
              <a:ext cx="1600200" cy="12189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7840" y="5689440"/>
              <a:ext cx="81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9320" y="567684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28600" y="358128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ím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11960" y="4648320"/>
              <a:ext cx="81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37339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5520" y="4952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9528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742840" y="3733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07320" y="312408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88720" y="548640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799240" y="3276720"/>
            <a:ext cx="27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pensación C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tre Tiempo y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86EF-77DA-44B1-984F-086EA65CA9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09680" y="3429000"/>
            <a:ext cx="5257800" cy="1674360"/>
            <a:chOff x="2209680" y="3429000"/>
            <a:chExt cx="5257800" cy="1674360"/>
          </a:xfrm>
        </p:grpSpPr>
        <p:sp>
          <p:nvSpPr>
            <p:cNvPr id="283" name=""/>
            <p:cNvSpPr/>
            <p:nvPr/>
          </p:nvSpPr>
          <p:spPr>
            <a:xfrm>
              <a:off x="38098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0" y="464652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102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3579480"/>
              <a:ext cx="457200" cy="45684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68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670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3808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78160" y="4024080"/>
              <a:ext cx="4572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978440" y="4011480"/>
              <a:ext cx="5335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08440" y="3444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06120" y="3444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36920" y="34290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47240" y="4206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91640" y="4190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427040" y="251460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B9D2-17F7-460F-9C7A-A0A7B282BB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 por terminar antes 4 por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394640" y="224316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bla de Acortar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09680" y="3094200"/>
            <a:ext cx="541044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1A87-96A8-4D52-8533-88FC153F71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conviene hac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A en una semana a costo 1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C en una semana a costo 2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n dos rutas críticas A-B-E, A-C-D-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ortar simultáneamente B y D aun costo 5 </a:t>
            </a:r>
            <a:r>
              <a:rPr b="0" lang="en-US" sz="20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vale la pe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BD63-E448-4BB5-A0FC-3D0BAE8AA8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C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724840" y="536724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o y Tiempo para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15360" y="2057400"/>
            <a:ext cx="5373720" cy="2973960"/>
            <a:chOff x="2115360" y="2057400"/>
            <a:chExt cx="5373720" cy="2973960"/>
          </a:xfrm>
        </p:grpSpPr>
        <p:sp>
          <p:nvSpPr>
            <p:cNvPr id="308" name=""/>
            <p:cNvSpPr/>
            <p:nvPr/>
          </p:nvSpPr>
          <p:spPr>
            <a:xfrm flipV="1">
              <a:off x="2819520" y="23623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9520" y="46483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1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62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43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24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640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6728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485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86400" y="3581280"/>
              <a:ext cx="380880" cy="7621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343400"/>
              <a:ext cx="381240" cy="3049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9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680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189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3804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15360" y="205740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9080" y="4495680"/>
              <a:ext cx="81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434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3581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86880" y="419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75720" y="38098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832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9520" y="43434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19520" y="35812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6400" y="35812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728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BA1F-F419-408D-ABA4-358E1ACF1B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ific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ursos requer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en forma glob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ación de activida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dades específ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zos detal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50E2-5340-405E-8376-20318A293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das de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D007-64A8-466B-A8A0-D16EE316B7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2297160"/>
            <a:ext cx="5356080" cy="1589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7080" y="16765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yecto del 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7760" y="41911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laciones de Precedencia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62320" y="4815000"/>
            <a:ext cx="2514600" cy="12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EB87-76E9-4049-85EE-0DE0353098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09680" y="2744640"/>
            <a:ext cx="5257800" cy="1675080"/>
            <a:chOff x="2209680" y="2744640"/>
            <a:chExt cx="5257800" cy="1675080"/>
          </a:xfrm>
        </p:grpSpPr>
        <p:sp>
          <p:nvSpPr>
            <p:cNvPr id="113" name=""/>
            <p:cNvSpPr/>
            <p:nvPr/>
          </p:nvSpPr>
          <p:spPr>
            <a:xfrm>
              <a:off x="38098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2895480"/>
              <a:ext cx="457200" cy="457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0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3124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8160" y="33400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978440" y="332712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8440" y="27608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6120" y="276084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6920" y="274464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7240" y="35226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91640" y="35067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21040" y="190512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lla de Activ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3800" y="4648320"/>
            <a:ext cx="731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 definen actividades en el tiempo: cuando un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rmina, la(s) actividad(es) que la sucede(n) puede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men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En la malla los nodos corresponden a eventos y los arco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1357-92CD-4D3E-AFF7-9A6A28E2B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nto demora el proyec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proyecto de mora 9 se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Cuál es la ruta crític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ruta crítica es A-C-D-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sta ruta cualquier actividad es cuello de botel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holguras exist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actividad presenta holgura si se puede retra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el ejemplo la actividad B tiene una holgura de un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34E0-403D-4D48-AB39-A228FC6926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resolver este problema se defi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600200" y="2590920"/>
                <a:ext cx="678168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que demora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comienzo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tiempo de fin mínimo de la actividad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predecesor inmediato de 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D8AC-6C39-408B-B08F-428A8DB8CD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el 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00200" y="2755800"/>
                <a:ext cx="7010280" cy="27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Cmin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Fmin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,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867280" y="2678040"/>
                <a:ext cx="272736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Fmi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: Programación de Proyecto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E3E7-C993-41D9-8FFB-7F8B1471FC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21:58:16Z</dcterms:created>
  <dc:creator>Antoine Sauré Valenzuela</dc:creator>
  <dc:description/>
  <dc:language>en-US</dc:language>
  <cp:lastModifiedBy>.................</cp:lastModifiedBy>
  <dcterms:modified xsi:type="dcterms:W3CDTF">2007-11-19T19:59:27Z</dcterms:modified>
  <cp:revision>26</cp:revision>
  <dc:subject/>
  <dc:title>Gestión de Operaciones</dc:title>
</cp:coreProperties>
</file>