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955B6-2912-47E9-8B50-6E98F115C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218B9-0D55-4051-8A18-4770B1C7B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500DE-A972-469B-BD83-4A6943E79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2068D-CD82-4A73-BDBD-338842969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FD86A-03B4-4703-BA1E-87050C2F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CF3C0-0EED-4946-AE34-A64B8D0F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4DF71-8083-443D-B596-AC1567BC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A96FF-507D-4C90-B067-A0E08F7F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B7833-FC84-4DB0-A256-11221337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A7593-46DA-4714-929F-2DB15FC1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36F52-62A9-4F73-A7FB-3C3DECCF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3510D-0A69-435B-A205-FDF2816D7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A4D57-6382-4FAB-BCCE-C1FB7A24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75F15-7319-4AD0-9E98-C5C82D38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FA32C-97B7-4DA8-8C44-8F47F836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CBD2F-D4E0-43F7-BC03-D0A8368D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3E530-5635-4CC8-A232-5C2BB0F2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5B86-CD7F-496E-950A-ED3C9D09C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9C3EB-2EFF-483E-B040-78599CD6FB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C2973-0E9E-4B35-957F-1D51CB438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854E9-9891-4BD4-8ED6-47740DE02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36AB-4FF8-4C40-9226-E62661213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6CE98-586A-4AE6-8818-7E8C34740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321F6-8B16-4F3C-84F3-3CFF8C914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62222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1FFB-1702-4369-BC34-857F7736CA7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E08B-83DA-4032-AF18-156557F8C617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5053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2: Planeación de Requerimiento de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4114800" cy="177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61800" y="1981080"/>
            <a:ext cx="45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Tiempos Planeados de Esp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15160" y="5457960"/>
            <a:ext cx="718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   Se asume que están disponibles la cubierta de la mesa y el ensamble compl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de la pa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* Se asume que están disponibles las patas, travesaños cortos y travesaños lar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C0131-9FC9-43AE-BB3C-14F859361D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4647960" cy="3627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152440" y="167652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lan de Materiales – Detalle de Par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A52A6-5C73-45F7-922F-1F65496E7A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84440" y="2006640"/>
            <a:ext cx="4654440" cy="363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3EB50-C3CE-4DE8-AF21-EE16B06530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inventario en cada etapa es la diferencia neta entre la producción y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considerar colchones de segur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20D5E-75CD-4CB8-8319-32B7A6E935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rograma Maestr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duce al proceso completo de planeación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hasta de un a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Lista de Materiales (BOM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do detallado de todos los materiales y partes necesarias para la confección de los producto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73F6E-23E5-4DFC-9630-E575CC59AD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Registro de Inv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dentifica, para cada parte, datos bás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estánd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ánto hay de cada p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ué órdenes están pend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histór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Planeación de Capac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termina la validez del programa maes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2648A-6D60-49FB-B1D9-8ADBDAEC05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foq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eación de la capacidad directa (planeación de recurso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lcular horas aproximadas de mano de obra y de máquinas a usar en el programa maest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la capacidad no alcanza se cambia el plan maestro o se cambi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 tener un programa factible se corre el detalle de par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ga de tall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hace detalle completo de partes antes de ver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no es factible se cambia el plan maestro 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A5FAC-3A8C-4A25-A837-574137C217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mpr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función de compras es fuertemente reforzada por el uso de un sistema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ere de confianza con los proveedores al generar fechas más exac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mecanizar las comp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Control de Piso de Tall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 que las órdenes de producción se cump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265D7-94E3-4C0E-83EF-DCAB9E4765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eja las prior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aliza ajuste ante cambios en las condiciones de ope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7890-5E06-4050-AAE1-63BFF34547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Operación del Sist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mejor llevar bien el sistema que tener mucho stock de seguridad para cada par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se necesitan 10 partes para un producto, cada una de las cuales tiene un nivel de servicio del 90%. La probabilidad de tener todas las partes a mano cuando se necesitan es de únicamente 35% (0.9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lo tanto es mucho mejor planear y controlar el tiempo de las 10 partes que cubrir todas las contingencias con stock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ecesidad de respetar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3A751-89D6-47DB-B41E-625001A0E6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utiliza para productos de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onentes intermed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 Sistema Push en que la demanda final gatilla la demanda por partes y componentes intermed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un programa maestro que guía las órdenes de compra de materia prima y la producción de compon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9F95E-AF1C-4AB6-959A-4BC641FC1C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lanear la Puesta en March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vital la prepa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ducación sobre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establecer objetivos, costos y benef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 detallado de 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oporte Computac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atos Exac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202A3-E24F-4AAC-B861-C664887609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poyo Ger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nocimiento del Usuario en Todos los Nive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9965B-0A5F-4A0D-8041-9E176EFC54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Benef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yor rotación de invent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rdenamiento del tiempo de entreg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de capac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ducción de 20-30% en los inven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sto de instalación: 200 mil a 1 millón de dólar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: difícil éx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27094-B0FC-4123-9051-5CEA16D14B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Para contar con 100 refrigeradores en la semana 8, necesito de 100 motores en la semana 6 y 100 componentes en la seman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eneralmente las entregas y compras se hacen por lo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Se requieren 40 unidades en la semana 3, 30 en la semana 4 y 35 en l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ver como ir produciendo, y consider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producción, incluyendo costo fi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: considerar producción de otros produ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s compras ver la relación con el vendedor y el transpo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3BA39-9716-4765-8BB7-53DF6B2F5E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1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 las compras y la producción en el tiempo, pero no considera capac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2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la producción 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considera la capacidad y se utilizan reglas heurísticas para mover la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389FA-F1B2-406F-980E-031216AD31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Planeación de Recursos de Manufac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ea y controla todos los recursos de manufactu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ursos mone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qui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DA793-DBC3-4888-BA1D-98BC348518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406520" y="1371600"/>
            <a:ext cx="4537080" cy="5257800"/>
            <a:chOff x="1406520" y="1371600"/>
            <a:chExt cx="4537080" cy="52578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406520" y="1447920"/>
              <a:ext cx="453708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76720" y="1371600"/>
              <a:ext cx="7617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agreg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55800" y="22096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edidos en fir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 clientes o 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erminad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0640" y="22096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nóst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81480" y="369576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ransaccio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 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6080" y="370836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Cambios 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el diseñ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79840" y="358632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56000" y="37465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Registr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25680" y="37591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Lis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materia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1080" y="3124080"/>
              <a:ext cx="8384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apacidad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rte ru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38560" y="3124080"/>
              <a:ext cx="876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gram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es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51160" y="3809880"/>
              <a:ext cx="83808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tal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par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79840" y="4508640"/>
              <a:ext cx="83808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4508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5079960"/>
              <a:ext cx="76212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la capacid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86200" y="5651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ntrol de pi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l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86200" y="626112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pera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485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62611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6032520"/>
              <a:ext cx="3808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ter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im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81360" y="6248520"/>
              <a:ext cx="64764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veed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54280" y="1757520"/>
            <a:ext cx="209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Sistema MRP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circuito cer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(Tipo 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DC10C-91E8-4F3E-9290-F84D07CBD5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RP vs Punto de Reor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277640" y="226044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uadro Compara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7920" y="2825640"/>
            <a:ext cx="7162560" cy="18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01F0F-1643-4984-8630-CF9FE86FB5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222360" y="518148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de la 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224600" cy="30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E4E55-27AA-4D1D-BF33-E4EB861CB4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394800" y="51814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ista de 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0360" y="5797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Nota: La cantidad de cada componente se indica entre paré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4038480" cy="30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BCCC3-8284-426C-ABB6-7715DCA57B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Francisco Tubino</cp:lastModifiedBy>
  <cp:lastPrinted>2001-08-09T21:48:07Z</cp:lastPrinted>
  <dcterms:modified xsi:type="dcterms:W3CDTF">2006-10-16T19:06:00Z</dcterms:modified>
  <cp:revision>89</cp:revision>
  <dc:subject/>
  <dc:title>Modelamiento Físico de Interfaces</dc:title>
</cp:coreProperties>
</file>