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8649-6181-423F-9DB2-8211B2699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4168-FEF7-4F13-9880-F3C09CF7A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98AA-1682-453D-81A6-83EB5D61A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3D81-E23C-4659-9763-FB5246503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19962-042D-4FF2-8DD0-95FF7932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5E778-5433-4C63-B080-1611EA0C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736A1-2D15-4633-9896-ACD37C76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BDB99-D30D-4119-895C-91432093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9B4C0-4F0E-4B6A-9600-9AE6D068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5AE42-3D41-4EBA-97FB-65583899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963CA-9224-42EC-9F7B-7FC973CB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C14D-D834-4AC5-9F05-465D07717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56534-9E33-47E1-B0C2-0DBACD2C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1D94C-DCE1-47F0-BDED-A2830460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73055-9549-4723-8716-3D333B1D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3BEF9-A4A6-4508-9722-E1009292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4189A-06C5-4944-8633-BF16A8FC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F729-EA11-48E8-B533-A7EC9C6B5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21A0-FD3B-4B07-A229-1EE213735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627DC-81FD-4155-9C0B-34DC09815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2165-5FAF-4E88-977D-D6AED26D4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542C-9B67-4EC9-90D8-1C3E5FF6C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3D1C-DAC6-4658-956D-61F095F54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02E3-67EA-49DD-AF00-99850C079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222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3DEE-4F1F-4747-BCA1-5496A3DB1D1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B941-8E99-4C7F-85F8-6F7A29BC4624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2: Planeación de Requerimiento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14800" cy="177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61800" y="198108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Tiempos Planeados de Esp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5160" y="5457960"/>
            <a:ext cx="718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   Se asume que están disponibles la cubierta de la mesa y el ensamble compl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de la pa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* Se asume que están disponibles las patas, travesaños cortos y travesaños lar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63502-AE44-4C44-A82C-A663B9C1A9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647960" cy="3627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52440" y="16765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lan de Materiales – Detalle de Par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4A71-0956-4CBD-8FA9-8956F5706B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4440" y="2006640"/>
            <a:ext cx="46544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807C-CD7E-4236-BD1D-478D57B022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en cada etapa es la diferencia neta entre la producción y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nsiderar colchones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CC4E-DA6D-4E9F-81EC-DD62A1B178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grama Maest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duce al proceso completo de planeación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hasta de un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Lista de Materiales (BOM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do detallado de todos los materiales y partes necesarias para la confección de los 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39C60-78EB-4BDD-97F0-0EE4B25F03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Registro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dentifica, para cada parte, datos bás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estánd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ánto hay de cada p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é órdenes están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histó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Planeación de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 la validez del programa maes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9CBA-62BE-468E-8190-3C9F81D440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eación de la capacidad directa (planeación de recurso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cular horas aproximadas de mano de obra y de máquinas a usar en el programa maest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capacidad no alcanza se cambia el plan maestro o se cambi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 tener un programa factible se corre el detalle de pa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ga de tall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detalle completo de partes antes de ver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o es factible se cambia el plan maestro 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189D-C959-4D68-AE87-31D6A58559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mp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de compras es fuertemente reforzada por el uso de un sistema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ere de confianza con los proveedores al generar fechas más exac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mecanizar las comp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Control de Piso de Tal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 que las órdenes de producción se cum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0C8A-0E35-4144-BA82-07D21EE377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eja las prior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 ajuste ante cambios en las condiciones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8419-52B9-4B72-B54C-14260F5B87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l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ejor llevar bien el sistema que tener mucho stock de seguridad para cada p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se necesitan 10 partes para un producto, cada una de las cuales tiene un nivel de servicio del 90%. La probabilidad de tener todas las partes a mano cuando se necesitan es de únicamente 35% (0.9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lo tanto es mucho mejor planear y controlar el tiempo de las 10 partes que cubrir todas las contingencias con stock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respetar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D4B0-31A3-4703-9A1E-D0265CDC02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 para productos de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onentes intermed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 Sistema Push en que la demanda final gatilla la demanda por partes y componentes intermed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un programa maestro que guía las órdenes de compra de materia prima y la producción de compon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09F7-39A9-4F68-A226-9D1E93B18E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lanear la Puesta en March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vital la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ucación sobre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establecer objetivos, costos y b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tallado de 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oporte Comput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atos Exac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5121-9AD5-4882-8B7F-3E35CEECDD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poyo Ger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nocimiento del Usuario en Todos los Niv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312C-7BA1-4690-9B21-3055AF7D9A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yor rotación de invent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rdenamiento del tiempo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capac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ción de 20-30% en los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o de instalación: 200 mil a 1 millón de dóla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difícil éx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462D-AC51-48CF-8107-ED4F3BBCCF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Para contar con 100 refrigeradores en la semana 8, necesito de 100 motores en la semana 6 y 100 componentes en la seman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neralmente las entregas y compras se hacen por lo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 requieren 40 unidades en la semana 3, 30 en la semana 4 y 35 en l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como ir produciendo, y 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roducción, incluyendo costo fi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: considerar producción de otr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s compras ver la relación con el vendedor y el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2F09-BF01-4079-9B0B-C940DEEC46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 las compras y la producción en el tiempo, pero no considera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la producción 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onsidera la capacidad y se utilizan reglas heurísticas para move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F9C5-B805-4FC1-A319-328CCF77EA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laneación de Recur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a y controla todos los recursos de manufact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ursos mone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47DC-59A5-4982-835E-502FCA0F40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06520" y="1371600"/>
            <a:ext cx="4537080" cy="5257800"/>
            <a:chOff x="1406520" y="1371600"/>
            <a:chExt cx="4537080" cy="52578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406520" y="1447920"/>
              <a:ext cx="45370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1371600"/>
              <a:ext cx="7617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agreg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55800" y="2209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edidos en fir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 clientes o 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erminad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0640" y="2209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nó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1480" y="369576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 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6080" y="370836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Cambios 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el diseñ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79840" y="35863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56000" y="37465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Regis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5680" y="37591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Li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mater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3124080"/>
              <a:ext cx="8384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apacidad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rte ru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8560" y="3124080"/>
              <a:ext cx="876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gr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es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1160" y="3809880"/>
              <a:ext cx="83808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ta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par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79840" y="4508640"/>
              <a:ext cx="83808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508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079960"/>
              <a:ext cx="76212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la capac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651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ntrol de pi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l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626112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per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485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62611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6032520"/>
              <a:ext cx="380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te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im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81360" y="6248520"/>
              <a:ext cx="6476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vee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54280" y="1757520"/>
            <a:ext cx="209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istema MRP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circuito 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Tipo 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D478-8BE2-4BB8-8B02-1894577FB2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 vs Punto de Reor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77640" y="22604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uadro Compar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2825640"/>
            <a:ext cx="71625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B30B-450A-441C-A7AC-38C0C51CF7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22360" y="518148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l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22460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92A5-9AF2-4D04-A6F0-AA6D9DBB9B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394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ista de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0360" y="5797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Nota: La cantidad de cada componente se indica entre paré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99B44-AACC-4D3C-A7EB-7E71CA7C72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Francisco Tubino</cp:lastModifiedBy>
  <cp:lastPrinted>2001-08-09T21:48:07Z</cp:lastPrinted>
  <dcterms:modified xsi:type="dcterms:W3CDTF">2006-10-16T19:06:00Z</dcterms:modified>
  <cp:revision>89</cp:revision>
  <dc:subject/>
  <dc:title>Modelamiento Físico de Interfaces</dc:title>
</cp:coreProperties>
</file>