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3479-D43C-4057-959F-1A6231BC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7A9C-CDBE-41D5-82BC-F598A8D3B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8AC6-0FDC-494E-9F0F-573FA16FE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A5CD-0A4B-470C-879F-C4C4445BE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66831-D939-4324-9260-5D23E2FB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B3F27-82EF-4057-888A-E7EF2FA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3A1AD-5D48-4386-AF9A-D9735EA3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10ED-C7FC-4BAF-B0D9-6099FC95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D466-4A53-4F7E-9C0B-A3F6E5A8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0AB4-2AB5-4029-A3E1-B7A224BA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F22AF-F917-4AE9-8CA2-B2A6895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2233-8475-488B-B47F-4E67117C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C17B5-41B7-4524-8E68-21042D1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A006-DE4E-46B6-85A8-3F4587E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13D07-918F-4F9A-92C8-05389A46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A850D-2DB7-4349-8DC0-A551BADB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5B3C-047E-4AA1-B6AE-42DE7949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8FC8-EDED-47FE-8F69-D757B9EB2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7B6E-C588-4DAC-955D-61CF387DE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A8E9-8625-48FA-A4C0-4254A25B9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6EFC-20EA-4B00-ADDA-0CFE3BE8D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84E6-8393-4A98-B011-3B5FB7CAB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3D68-82DE-484D-8D05-8AF5006E5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9FD7-7CCE-4F75-A1CB-4B981E9C2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40008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5509-51C7-4E79-9F8C-316D2B2D7B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CE8-4E30-4A45-A61B-DB48BE8BDAF8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3: Manufactura Justo a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un recipiente se vacía en B (área de salida), el recipiente vacío y las tarjetas de retiro van a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, la tarjeta de producción de un recipiente lleno se quita y se sustituye por la tarjeta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arjeta de producción es colocada en el punto de recepción del centro A, autorizando la producción de otro recip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vacío se deja en e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lleno de partes y su tarjeta de retiro van al centro B y se colocan en el área de ent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este recipiente es utilizado se lleva, junto a su tarjeta de retiro, de regreso al centro A, y el ciclo se rep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6157-8308-41FB-A2AE-B32B27ED4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número total de recip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sa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maño del recip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iempo que toma al recipiente completa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una vuel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ó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81080" y="5005440"/>
                <a:ext cx="1447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C7E2-A79D-47F1-B53B-C26106D004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 = 2 parte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 = 25 un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= 10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30320" y="1905120"/>
                <a:ext cx="5232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81080" y="5064120"/>
                <a:ext cx="4343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 recipient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5274-1C6E-49AB-A338-CDDA443DDE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ducir el inventario hay que reducir 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acarr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los tiempos de cambio de dados en las prensas de 6 horas a 18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inventario de 1 millón a 100 mil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1905120"/>
                <a:ext cx="6916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·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  unidad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0FCA-047D-462E-9904-17306CEE8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chas empresas disminuyen los tiempos de preparación en dos 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diendo las preparaciones en externas e internas, dependiendo de si requieren parar la máquina o 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ndo las preparaciones exter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EFCF-E908-47D1-BB63-8E67F844DD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IT causa cambios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a planta y equip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imina bodegas de 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 de producción fluida, rápida y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 pequeños en cad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fun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ón de vari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n ajus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AD02-3417-49F3-ABE1-3FCCD22F69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ción a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oyo mut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l pape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ADFB-7591-42BF-8EAB-418744DE2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6360" y="1571760"/>
            <a:ext cx="702324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2E23-B5B9-4E96-8F5E-0ACAE1F98E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06360" y="1549440"/>
            <a:ext cx="702324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503B-5887-48D4-A36A-BA78F5E5DD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onsid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IT es mejor para producción repeti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RP es mejor para producció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mbinar ambos sistemas para el caso semi-repeti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RP para planear mater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IT para el control de piso del t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general JIT es muy difícil de implementar (como acrobacia sin 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EA2E-2641-463E-ADE2-60DD73CAA4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losof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 eliminar todas las fuentes de desperdicio, cualquier cosa que no agregue valor en las actividade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f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 en Toy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0871-9DB8-4BD2-9ED7-220E0ACE6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iso de la alta ger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aboración de la fuerza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factura flex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niv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der el sistema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19F8-60ED-49BF-82C3-0D8191D601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y ligada a Calidad To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lica mucha flexibilidad y discipl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queña producción diaria de cada parte y producto final requiere de producción flexible (FM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 con un programa maestro estable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lanea en conjunto con los proveedores (cooperació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s hasta 4 veces a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óptimo es la un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7161-3DAE-4559-AB3D-5BD4F31AF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en la distribución de las pla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nores espa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ntarios ba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71BE-42F3-489A-A471-885C6542F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se produce la cuota di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umple antes de las 8 horas se p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no se cumple se utiliza sobre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ción del sistema Kanban (tarjet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 autorización de producción y movimiento de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propósito es indicar cuando se deben fabricar partes adiciona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14CF-0D3F-4495-A764-8388FAAF1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8920" y="57150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8680" y="1724040"/>
            <a:ext cx="8219520" cy="4022640"/>
            <a:chOff x="238680" y="1724040"/>
            <a:chExt cx="8219520" cy="40226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800100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08720" y="172404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680" y="179064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0640" y="5292720"/>
              <a:ext cx="125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5440" y="44038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806560"/>
              <a:ext cx="546120" cy="702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0560" y="2844720"/>
              <a:ext cx="54612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8320" y="329580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7640" y="327024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7520" y="259092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7280" y="283212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9800" y="285768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003C-7EA4-49D4-9147-0D8449741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xisten 8 recipientes entre los centros de trabajo A y B (A provee a B) y que en cada recipiente caben exactamente 20 pa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máximo que puede existir entre estos dos centros de trabajo es 160 unidades (8·20) dado que la producción en el centro de trabajo A se detendrá cuando todos los recipientes estén lle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E4BB-7E78-4F26-B9EA-BAA1AC128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figura los 8 recipientes están distribuidos de la siguiente mane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 recipientes se encuentran en el centro de trabajo A, los cuales a la salida se llenan con 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siendo llenado en el centro de trabajo A por l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lleno se mueve de A 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 recipientes llenos  se sitúan en el área de entrada del centro de trabaj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está siendo utilizado por el centr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A3C8-19E8-4466-A141-B0DB341E3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controlar el movimiento de los recipientes se utilizan dos tipos de tarjetas Kanb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tarjetas pueden ser de papel, plástico o metal, y toman el lugar de los documentos de trabajo que se utilizan en la manufactura repetitiva tradi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forma de utilización es la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6471-BF1E-4DA0-9C4B-B0476AEED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dii</cp:lastModifiedBy>
  <cp:lastPrinted>2001-08-09T22:22:50Z</cp:lastPrinted>
  <dcterms:modified xsi:type="dcterms:W3CDTF">2006-10-16T19:55:29Z</dcterms:modified>
  <cp:revision>97</cp:revision>
  <dc:subject/>
  <dc:title>Modelamiento Físico de Interfaces</dc:title>
</cp:coreProperties>
</file>