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79B1-1148-4983-9BBC-A540922DE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FDFC-C6E6-4B0D-94C7-7371F5AFE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913C-2792-4BE1-9A88-38958A460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D8E9-184D-46F5-81B2-EAFDA131A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A1E37-5439-4D74-B35A-A93C5A49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22694-DE54-4279-842F-5640E16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269D8-01BB-467B-A9A8-50C7D89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759D7-15F0-4070-9B85-2C62203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88D0-3129-4A62-8E2E-ED5EF52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1C42E-0B0B-4CA5-B34E-EDB6D97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F22C-C3B6-42BA-BA03-B024FD4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A0DF-1465-46F0-A512-E53EA3854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2ED91-2EF6-4D02-82B9-6D55584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684AE-4D70-4968-A0BF-2EF4863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6DDD9-AFA5-411D-BE46-D1BB7D5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4AC1A-2DFD-49E1-9070-72E04075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D79B-4BD5-4AE8-99D0-8B4BA6B2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1E8C-21B1-4B93-A39B-4C984DF24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7D65-FDD4-4F54-808D-3438CFCF0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F780-DC32-43FC-90D1-98ED69EC0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2FDA-F77C-45D2-A47C-0DA0082FB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9B0B-F47F-4224-A4A0-C8B5F0A90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0728-2223-4EB8-ACC9-E13AABE06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7AE3-74C8-42B3-8F3D-5626DEDF3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40008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A0F-C02A-4226-B39B-B0317518F68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DF1-E173-46D2-B4AF-9D9B49CB891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3: Manufactura Justo a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un recipiente se vacía en B (área de salida), el recipiente vacío y las tarjetas de retiro van a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, la tarjeta de producción de un recipiente lleno se quita y se sustituye por la tarjeta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arjeta de producción es colocada en el punto de recepción del centro A, autorizando la producción de otro recip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vacío se deja en e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lleno de partes y su tarjeta de retiro van al centro B y se colocan en el área de ent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este recipiente es utilizado se lleva, junto a su tarjeta de retiro, de regreso al centro A, y el ciclo se rep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187E-A279-4C15-83A8-7CF4E1AFA6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número total de recip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sa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maño del recip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iempo que toma al recipiente completa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una vuel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ó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81080" y="5005440"/>
                <a:ext cx="1447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7CA1-BD33-48B8-AAC9-B88706EEC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 = 2 parte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 = 25 un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= 10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30320" y="1905120"/>
                <a:ext cx="5232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81080" y="5064120"/>
                <a:ext cx="4343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 recipient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B856-888E-4A78-83B5-08372E212A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ducir el inventario hay que reducir 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acarr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los tiempos de cambio de dados en las prensas de 6 horas a 18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inventario de 1 millón a 100 mil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1905120"/>
                <a:ext cx="6916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·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  unidad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556C-0017-49EC-B136-37873D38C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chas empresas disminuyen los tiempos de preparación en dos 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diendo las preparaciones en externas e internas, dependiendo de si requieren parar la máquina o 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ndo las preparaciones exter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3CDC-4269-43E9-848C-EDDED47ABA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IT causa cambios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a planta y equip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imina bodegas de 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 de producción fluida, rápida y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 pequeños en cad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fun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ón de vari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n ajus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545A-9236-4E9E-83C5-CBBB215AE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ción a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oyo mut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l pape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686F-F1EA-4EF3-B3C3-5B33FB9749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6360" y="1571760"/>
            <a:ext cx="702324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DB8C-747A-4BE0-8493-3CBB7560C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06360" y="1549440"/>
            <a:ext cx="702324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9653-02AE-441C-A4F9-C0BD7B9C6B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onsid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IT es mejor para producción repeti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RP es mejor para producció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mbinar ambos sistemas para el caso semi-repeti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RP para planear mater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IT para el control de piso del t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general JIT es muy difícil de implementar (como acrobacia sin 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8E7D-3D03-4DF4-875A-D781EEC371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losof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 eliminar todas las fuentes de desperdicio, cualquier cosa que no agregue valor en las actividade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f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 en Toy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ABDB-124F-4926-9D5F-A5AA3E3A9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iso de la alta ger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aboración de la fuerza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factura flex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niv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der el sistema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9D67-3CAE-4FFB-925E-ADE103721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y ligada a Calidad To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lica mucha flexibilidad y discipl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queña producción diaria de cada parte y producto final requiere de producción flexible (FM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 con un programa maestro estable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lanea en conjunto con los proveedores (cooperació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s hasta 4 veces a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óptimo es la un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CCE7-8520-40C3-87AC-3283D9931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en la distribución de las pla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nores espa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ntarios ba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F003-1EF4-485F-9C50-6D6E8D161F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se produce la cuota di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umple antes de las 8 horas se p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no se cumple se utiliza sobre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ción del sistema Kanban (tarjet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 autorización de producción y movimiento de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propósito es indicar cuando se deben fabricar partes adiciona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613C-98B9-445D-832F-842FF5E37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8920" y="57150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8680" y="1724040"/>
            <a:ext cx="8219520" cy="4022640"/>
            <a:chOff x="238680" y="1724040"/>
            <a:chExt cx="8219520" cy="40226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800100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08720" y="172404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680" y="179064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0640" y="5292720"/>
              <a:ext cx="125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5440" y="44038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806560"/>
              <a:ext cx="546120" cy="702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0560" y="2844720"/>
              <a:ext cx="54612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8320" y="329580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7640" y="327024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7520" y="259092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7280" y="283212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9800" y="285768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D169-BDFB-4076-A652-4FC9A2CBA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xisten 8 recipientes entre los centros de trabajo A y B (A provee a B) y que en cada recipiente caben exactamente 20 pa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máximo que puede existir entre estos dos centros de trabajo es 160 unidades (8·20) dado que la producción en el centro de trabajo A se detendrá cuando todos los recipientes estén lle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4992-9467-46A5-8818-25F16A3B8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figura los 8 recipientes están distribuidos de la siguiente mane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 recipientes se encuentran en el centro de trabajo A, los cuales a la salida se llenan con 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siendo llenado en el centro de trabajo A por l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lleno se mueve de A 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 recipientes llenos  se sitúan en el área de entrada del centro de trabaj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está siendo utilizado por el centr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2F45-DACD-44EB-81AB-D21957172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controlar el movimiento de los recipientes se utilizan dos tipos de tarjetas Kanb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tarjetas pueden ser de papel, plástico o metal, y toman el lugar de los documentos de trabajo que se utilizan en la manufactura repetitiva tradi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forma de utilización es la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DA90-8703-485E-B6FD-CD83DE616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dii</cp:lastModifiedBy>
  <cp:lastPrinted>2001-08-09T22:22:50Z</cp:lastPrinted>
  <dcterms:modified xsi:type="dcterms:W3CDTF">2006-10-16T19:55:29Z</dcterms:modified>
  <cp:revision>97</cp:revision>
  <dc:subject/>
  <dc:title>Modelamiento Físico de Interfaces</dc:title>
</cp:coreProperties>
</file>