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CAED-98EF-4D02-8856-09DB32EAC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E85D-C6FA-450D-BEC5-D7A065BC9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518D-260C-4BD4-A689-3A073B119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725F-3A23-4082-9520-876C591A7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FD7EA-A523-4AB7-9AD5-C76B6744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5A4DB-E78D-4923-B5A1-FF2A426F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DF668-84C0-4477-82B3-EF46E71A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C672E-D026-4A23-B435-1D38D746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B2832-F36D-4357-8134-7CA0E4A4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BE7B3-1833-469D-9109-453E819F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D41FF-79B5-4297-B6E6-1C92A832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741F-5C6C-45FA-A081-25AB5FF36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BBE7E-4F72-4EB0-85BF-7609C294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AA217-0776-4A4A-A869-8D26BD19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0E534-7A07-44EC-B533-5E3FDC4B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9B0EE-5B6A-4FFD-93E9-2E03E6FF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2C780-7FCA-45E1-84E8-E4C824B0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C4A7-762C-4C3B-9640-CA5C5571D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94B2-B1B0-4E5E-A35E-A90B7CAF2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DE6F-1E81-4562-A927-9512B7716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FE2E-6FA0-4499-8793-520E306B7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B060-5E4D-4744-A7CE-997F69F80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167B-46A2-420C-B3AE-378202DF6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9532-C4EE-4D3B-8AF4-C1E513D77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40008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5A0A-990E-4B3C-B696-05F7DF30C96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1451-0081-4FD9-8F9D-3B48DDCA4111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053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3: Manufactura Justo a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do un recipiente se vacía en B (área de salida), el recipiente vacío y las tarjetas de retiro van al centro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, la tarjeta de producción de un recipiente lleno se quita y se sustituye por la tarjeta de reti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tarjeta de producción es colocada en el punto de recepción del centro A, autorizando la producción de otro recip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recipiente vacío se deja en el centro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recipiente lleno de partes y su tarjeta de retiro van al centro B y se colocan en el área de ent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do este recipiente es utilizado se lleva, junto a su tarjeta de retiro, de regreso al centro A, y el ciclo se rep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70A0-8CA8-48CF-ABDD-CC9CF13C0C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número total de recip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asa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amaño del recip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tiempo que toma al recipiente completa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una vuel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ó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81080" y="5005440"/>
                <a:ext cx="14479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2BCA-E012-4D59-97E2-21526D5579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 = 2 parte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 = 25 un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 = 100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30320" y="1905120"/>
                <a:ext cx="52326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ntario</m:t>
                    </m:r>
                    <m:r>
                      <m:rPr>
                        <m:lit/>
                        <m:nor/>
                      </m:rPr>
                      <m:t xml:space="preserve">Máxi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981080" y="5064120"/>
                <a:ext cx="43434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 recipiente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7625-3201-4BBB-A8C8-2D85DEC3DD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reducir el inventario hay que reducir 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minuyendo tiempos de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minuyendo tiempos de acarre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General Mo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 los tiempos de cambio de dados en las prensas de 6 horas a 18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 inventario de 1 millón a 100 mil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00200" y="1905120"/>
                <a:ext cx="6916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ntario</m:t>
                    </m:r>
                    <m:r>
                      <m:rPr>
                        <m:lit/>
                        <m:nor/>
                      </m:rPr>
                      <m:t xml:space="preserve">Máximo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·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   unidade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3435-BD14-4377-B9E0-6490C14FCB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chas empresas disminuyen los tiempos de preparación en dos 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vidiendo las preparaciones en externas e internas, dependiendo de si requieren parar la máquina o 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ndo las preparaciones externa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98B8-0AD2-44CC-AFC9-575F1D917A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secu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JIT causa cambios 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la planta y equip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imina bodegas de 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 de producción fluida, rápida y flex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s pequeños en cad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ad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fun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peración de varias máqui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cen ajus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34FA-A841-46F1-9A5F-01D69BEE87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secu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d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gración a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oyo mutu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ucción del papel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9625-2649-4877-8A17-38E04F30D8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06360" y="1571760"/>
            <a:ext cx="702324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C662-420C-4C96-AA28-4775D69DD4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06360" y="1549440"/>
            <a:ext cx="7023240" cy="39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1D56-1207-46E3-87AF-476E0E1B25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JIT vs MR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onsid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IT es mejor para producción repeti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RP es mejor para producción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mbinar ambos sistemas para el caso semi-repeti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RP para planear mater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IT para el control de piso del t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general JIT es muy difícil de implementar (como acrobacia sin r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DD45-33B9-4DCF-AD8C-40B52E8751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losof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sca eliminar todas las fuentes de desperdicio, cualquier cosa que no agregue valor en las actividade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fall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 en Toyo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A962-0F88-4E87-A419-76F412740D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equer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romiso de la alta ger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laboración de la fuerza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nufactura flex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nivel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tender el sistema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9DEC-2C41-4347-BBAD-C97FFF0D03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y ligada a Calidad To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lica mucha flexibilidad y discipli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queña producción diaria de cada parte y producto final requiere de producción flexible (FM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a con un programa maestro estable en el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lanea en conjunto con los proveedores (cooperación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gas hasta 4 veces a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óptimo es la un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20CE-9D33-4E88-BB79-E3E2E1A507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mbios en la distribución de las pla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nores espa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ntarios ba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a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F433-73D5-4496-A007-630B0DE059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se produce la cuota di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umple antes de las 8 horas se pa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no se cumple se utiliza sobre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ción del sistema Kanban (tarjeta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 de autorización de producción y movimiento de mate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 propósito es indicar cuando se deben fabricar partes adicional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B3C7-CFDC-46F5-9E20-70F7E0127F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8920" y="571500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38680" y="1724040"/>
            <a:ext cx="8219520" cy="4022640"/>
            <a:chOff x="238680" y="1724040"/>
            <a:chExt cx="8219520" cy="40226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8001000" cy="39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908720" y="172404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8680" y="179064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0640" y="5292720"/>
              <a:ext cx="12567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55440" y="44038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2480" y="2806560"/>
              <a:ext cx="546120" cy="702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0560" y="2844720"/>
              <a:ext cx="54612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18320" y="3295800"/>
              <a:ext cx="6224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17640" y="3270240"/>
              <a:ext cx="6224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7520" y="259092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97280" y="2832120"/>
              <a:ext cx="5461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59800" y="2857680"/>
              <a:ext cx="5461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9593-7B16-4DB5-98F8-D0AE8CE1E3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xisten 8 recipientes entre los centros de trabajo A y B (A provee a B) y que en cada recipiente caben exactamente 20 par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máximo que puede existir entre estos dos centros de trabajo es 160 unidades (8·20) dado que la producción en el centro de trabajo A se detendrá cuando todos los recipientes estén lle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BBDE-4F54-4A15-9369-C9707CF73C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figura los 8 recipientes están distribuidos de la siguiente mane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 recipientes se encuentran en el centro de trabajo A, los cuales a la salida se llenan con 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siendo llenado en el centro de trabajo A por l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lleno se mueve de A a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 recipientes llenos  se sitúan en el área de entrada del centro de trabajo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 recipiente está siendo utilizado por el centro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A408-7D5F-4234-9088-01DE882B1C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uncion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controlar el movimiento de los recipientes se utilizan dos tipos de tarjetas Kanba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rjeta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rjetas de reti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tarjetas pueden ser de papel, plástico o metal, y toman el lugar de los documentos de trabajo que se utilizan en la manufactura repetitiva tradi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 forma de utilización es la sigu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3: JIT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FF3F-F7AC-45BF-858F-05034E9999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dii</cp:lastModifiedBy>
  <cp:lastPrinted>2001-08-09T22:22:50Z</cp:lastPrinted>
  <dcterms:modified xsi:type="dcterms:W3CDTF">2006-10-16T19:55:29Z</dcterms:modified>
  <cp:revision>97</cp:revision>
  <dc:subject/>
  <dc:title>Modelamiento Físico de Interfaces</dc:title>
</cp:coreProperties>
</file>