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B3F1-2BE0-4DF8-8CD6-CC5EF3379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5F78-F432-4AD6-9B6B-A7C40A61C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1741-9F8A-4CF8-B4CD-0FCFD9D21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A50E-7C71-4052-989C-996CBA28C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3251F-42D5-4016-BE21-A105026B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BF140-0D0A-47D9-97AB-3BAE012B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10A62-BCC0-4CA6-8DC7-3D0CC95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EC5BF-0985-47A6-82F3-564D0B69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61117-64AF-4A9D-9607-A014F6F0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8B376-FE79-40D7-A155-466F6E8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CEF21-1D94-4DA3-A4B3-42A6E95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1C13-8144-4E6F-BF57-9FC8E4BDB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45B5E-5AB2-403A-8C46-8CA7DFA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F610B-8BD7-47CD-95C9-4A97F3F3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6CD49-3B7F-469C-9ADA-0694CDC2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C62CC-5972-46B5-B201-3CA053FF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D66F2-A65D-4839-92D5-462315AA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6043-558F-49E1-A57A-9420CCEB1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7187-A05F-4E44-97D3-65BCF9A48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0EF8-C73F-4273-B415-FEEF9B4EE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D803-3BBF-4279-B4E5-5A4FC6514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29A0-F021-4F8B-911B-6112E18FB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FEE7-C9D0-495C-BDA7-18FE141E8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D998-01CE-47D6-805D-FE81C46BD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FE7E-E3C1-4C7C-BA07-E6E3AD6BAC6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8403-C241-4704-B3D1-64D59C6751C5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2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68CE-C12B-44A3-BCB1-21D237533F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9CA4-346F-47DB-8450-AB21F30D63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4A5D-8331-4517-BD0E-A22EA7C0DA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6EC5-03FF-49D8-B152-0E7CD704D8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0E22-4A77-493C-BC7F-14357EDA95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1423-7662-4058-B3B0-FA22ED302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DBA0-9E93-4EFD-A710-940371A22D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1D27-ACF2-454E-BEFB-E286B55B55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BB65-B133-4F58-BD09-1C284798DC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C9A3-2FC5-467A-9CE9-B8207A30D4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sh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024F-D199-4AB4-9BE9-92236E57CF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2CF7-64F1-4915-B934-264CC0F400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B103-8F13-4801-8112-4E1B8F209D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2F28-6453-4B05-972E-107318B978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D434-E0CF-4051-85C6-741621D6DA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904E-05D5-40C8-A332-69EE4D9DB9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8293-1B2F-452A-8E6C-820439699C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7A97-5A1D-4787-9BE0-700B1B36BF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D151-DEC0-4D2E-ACD9-50209308B6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319C-6BB1-4F4A-B6DB-9360B6AF2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2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2236-623B-4CFE-A2AE-FA2E5D5BC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Francisco Tubino</cp:lastModifiedBy>
  <cp:lastPrinted>2001-08-09T21:48:07Z</cp:lastPrinted>
  <dcterms:modified xsi:type="dcterms:W3CDTF">2006-10-16T19:06:00Z</dcterms:modified>
  <cp:revision>89</cp:revision>
  <dc:subject/>
  <dc:title>Modelamiento Físico de Interfaces</dc:title>
</cp:coreProperties>
</file>