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35E4-5F09-48A9-8BDD-13601379B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D92B-82B3-4C5E-B7D7-D94BC04B9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536E-0A9C-49EE-8B0A-834FB804B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6AE3-5D97-4F78-AAD5-7BD50154E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1CDD9-B169-4C65-A764-AFB8973C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9761F-89F2-43CF-AB01-D268C978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581DF-A596-4CA6-9499-795A93CB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BD39E-226F-4A2D-B224-A944AC60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8D0FE-606B-4551-ADDA-81ED2FD6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AD89D-94E8-4F11-8872-5D172272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2A71A-2180-43E7-970E-EAD6F15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3CF2-6E95-433F-8D8B-9FB746087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6A608-C809-4FDA-9006-24EA4BA3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2C6D1-13B1-4C02-A5C0-0081A00C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6698F-FB0C-4BAF-90B7-19BF30FF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A7410-4F2B-40F5-9E74-EAC5F75D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FA3A5-570D-4C57-8862-89F0AF26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9C07-F0F4-45B7-B160-40E61D20B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1F8E-B4E4-45A4-9702-6519E72A7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2636-25E7-4D15-8DD8-59BAD8399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6D5D-5B64-4A4F-BAA0-F4618892F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462F-8503-4EC9-B007-DB87B0E44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A436-3A16-41FB-868A-8E5292765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569C-7BE9-410B-AE2D-9AFB69151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8F3E-E742-40A5-887F-EA94F8A502C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AD8A-7195-43E7-A2CF-B69AAE09E37D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97DB-8BE6-4B23-98A7-DC72EF930E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0AEA-7CB2-4701-BC08-49B31C9750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BD05-6A29-4488-82F3-F6B4F79FA2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04F8-C78A-4F7C-BDDE-6E9C7F8BF2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9C49-3B19-4AB4-B18B-8CADE2353A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32A2-F238-47C6-9D5D-8901ABA6B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28788-F66E-4869-BBE1-D2258AE09E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08EC-D21C-4096-B12C-00EDE6DA3E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F363-A265-48FC-8629-A93BAF3CE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92E0-75F6-4FF6-A515-D105F4F16A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944A-EACF-4A90-99B3-10C21B5DA0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8876-CBD9-4FF7-B9D6-B762EA5C9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</cp:lastModifiedBy>
  <cp:lastPrinted>2002-04-16T09:14:48Z</cp:lastPrinted>
  <dcterms:modified xsi:type="dcterms:W3CDTF">2006-04-03T22:21:56Z</dcterms:modified>
  <cp:revision>159</cp:revision>
  <dc:subject/>
  <dc:title>Comercio Electrónico</dc:title>
</cp:coreProperties>
</file>