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56B9D-7D78-4481-B32C-072F2D909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01145-A747-4EBE-92D1-B228B717E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EC907-5C57-439F-9B51-182BEFCA1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B872B-584C-48CB-A16A-E4F6CE1E5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D92FE-4FB2-47E4-B0FA-3E2234AA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BCEFA-5F13-46DA-A56D-D56BF425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B8C14-9FBB-417E-BFC9-557AE91C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E73F6-9D5B-4673-85A3-DE41F40A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6D26E-C1EE-4886-AB74-858949CA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B6B7F-E76E-4525-B7FA-19CCB15D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EEC08-277D-4C17-BCA9-E4688B10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271C0-436F-4426-B9DC-E314B2B98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86D21-B262-4077-B99F-8382B21E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823DA-2D90-4CFA-ABD5-AD5C46FD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0F3FA-8A4B-4658-9750-5974EFFD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85C2C-6C1E-488C-B9EE-7CC8D190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83651-A008-461A-B03D-36DA10E0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29EB-12EC-4F4A-9C38-A2FBBBB25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590F9-4582-4F2C-A1ED-8EDE465A6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8AEFD-35DC-4178-92D9-52FDDAC25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312A3-3BA9-43EF-A125-2D964237A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8316-7096-44A3-8DD2-2106ED8B8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C0025-0DCB-49D4-A171-4B20EE698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1FAA3-D65B-43D4-BA0E-EE1A06960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7600">
            <a:off x="5067000" y="6237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418F-599E-4BE8-97C7-44D33F8AC2A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3B82-C8F1-434F-82A8-EF8B48A73F52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505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: Logístic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con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ones con compartimentos para distintos productos: Banc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gazón cliente-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bordos: camión-t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A9121-2B74-492E-8064-B273677B87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roblema de diseño de flota requiere valores medios de uso y considera demandas de pu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tener en cuenta el trade-off que existe entre los costos y la calidad d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posible el uso de sim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transporte está ligado a la localización y a los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21E6-90D8-4DA3-B0D9-B69A8D3FF0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 de Solu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an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ndo mapas, afiches, cartas Gantt, pizarr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por ló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heuríst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tilización de 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os a la solución ópt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ciones con heurís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AD757-BF2F-45E0-8062-34265F4FC3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 en Chi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CAM: productos fores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uquicamata: despacho de mineral y last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ilectra: despacho de vehícul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a El Soldado: transporte de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 Arau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58959-7350-432C-B567-CE0DB5FDE2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ácticas-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flot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uántos vehícul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 qué tip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er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vehículos a ta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t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D94E5-E5F5-45FC-8E90-3AFE9F38A8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 de Vehícu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sajer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es (transporte públi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x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ergencia méd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DF77B-09BC-46C5-837A-6BE75702DA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39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uquicam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squ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ircu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alabe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a y vuelta entre orígenes y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iner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91705-7452-45A1-8787-31EF112B86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o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vehícu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igu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de distinto tipo (costo, capacidad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es Contract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prop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mayor control y seguridad de servi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subcontrata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descentralización administra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vital en este caso el tema de los contratos (costo real versus costo de contra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0D1F4-EEE6-4897-9474-02F696696B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mix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propios y subcontrata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rve para calcular costos y asegurar el servicio a los clientes más importa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 de Cos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fij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invers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operación (sueldos, patente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variables de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39F07-C43D-457C-904A-36C194D1A3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pósi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(una o más plan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stin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madera: puerto, aserraderos, planta de celulosa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erminís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cást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volumen: 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localización: fallas Chilectr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tiempo de viaje: 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1C41B-E71F-4B1B-819E-B1EB59E4A1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cuencia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or día: Chuquicam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 duración de más de un día: Aserraderos Arau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trabaj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y distancias de via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ocidos: min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imados: bosq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eatorios: ciu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65A1-65FF-4195-9224-F99BA6D996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re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de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tiempo de llegada (emerge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la calidad del servicio (clientes atendidos a tiemp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el riesgo de no cumpli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beneficio ne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 adi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nas de 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 permite descargar entre 6-8 AM y 21-23 P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hibición de entrar al centro en determinadas ho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0D3E-E32E-4AA9-B0CF-00D83988B3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</cp:lastModifiedBy>
  <cp:lastPrinted>2002-04-16T09:14:48Z</cp:lastPrinted>
  <dcterms:modified xsi:type="dcterms:W3CDTF">2006-04-03T22:21:56Z</dcterms:modified>
  <cp:revision>159</cp:revision>
  <dc:subject/>
  <dc:title>Comercio Electrónico</dc:title>
</cp:coreProperties>
</file>