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DD8E-01C6-4611-A879-F9F00A9F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D134-F675-4B54-85AD-F45013447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8317-9561-44DB-8936-394090D40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20D7-84FC-42EC-9EF4-EF97AE7D5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AB4F0-886D-4B5B-99E0-5CC3221A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9E22D-DD4B-4249-B998-895F7D81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1D2A-FC73-4892-A8B5-E8FD515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B0273-D133-45C4-AF49-FA65224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2D04-A9B0-4B93-902C-4DD2F432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B1F11-A189-419C-809D-31A1BF5E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19FA4-1D9D-4E75-8468-1AB02E0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E148-9BEF-4789-84C8-843AB4B3E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4D4F-5D5D-4607-A964-F88FD03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E481F-C788-4E70-AA38-9280686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72C9-94C8-455D-831C-1C2EAEED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FA02A-6735-4A54-83F0-7E70FC32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8F5A3-9E25-40D7-95E2-5545D64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5D38-4B41-41D2-BE90-228B8B9BE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3CF9-D705-48B6-A5F0-4E123E31D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F414-9AAD-4111-AFFF-67F39BD36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8778-4871-49F5-B684-E7D15C5BF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8BCB-D666-4F29-B299-D8DF8ECA6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B6C8-7302-4D47-A670-B46DDA2DB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3EEC-3E0A-46B0-BC6D-BF35DEF9D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0E8A-FE4E-48D6-BF12-7C51693A0E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987B-4807-4D2F-954E-C268FD1CBB6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A2AF-8708-4E06-BDED-4D2739BF5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8EE5-F7AD-43AE-97A2-90EFFB359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5808-C13D-459C-9C09-664261F04D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8FB0-E6FF-40E8-8FCA-403B23B296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D4B7-548F-4419-9CFD-8AE834391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EE79-9FD6-441F-B646-64EE1CB0B9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494E-205B-4312-AC3F-F2533330F1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951C-10AB-4E18-842B-8AB009F9D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E67D-5E35-41E7-B78B-B67872CD24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5AD1-9E27-48F6-A890-18A27AC88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2FB9-5AFF-489A-B009-9F12CC29C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75DC-F4C1-4FE7-99B4-8346E6C289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2-04-16T09:14:48Z</cp:lastPrinted>
  <dcterms:modified xsi:type="dcterms:W3CDTF">2006-04-03T22:21:56Z</dcterms:modified>
  <cp:revision>159</cp:revision>
  <dc:subject/>
  <dc:title>Comercio Electrónico</dc:title>
</cp:coreProperties>
</file>