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9FAB3-5248-4360-9914-9BDCB988E9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264F4-7E14-4581-A451-30A01AAE1F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AB798-D231-47F9-B6FD-7EDDE93C40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1094D-D8D7-443C-BFCB-E43A539AAC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34074-599C-4B03-9552-5248B0927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2B1DA-66C0-44AF-90B1-9B75D9C8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9FEF5-4330-4B09-BACC-4C1CDCEE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47B0D-409F-48F4-9C35-E09C12F7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A54CA-0AC3-4196-AE96-E5654B34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6B092-4C3C-43AD-93EC-AB2C608D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8EBC9-66DA-4496-9743-0FC300B1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6EC07-5256-413B-BD11-349CF9578C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4B9F4-14FF-46B4-863E-90A3AA56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25604-0B48-4913-9D89-41CBE136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65675-3C96-4317-BCB3-45788D48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288BC-298B-4E22-860F-D64C96F86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C0BD9-D51F-4E33-A15A-B64AEC9DE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9EBF6-FA7E-4BB1-B106-EC5D84DD7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21592-4232-4A32-99E4-CD4E5B1D5C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D26FD-1EBB-47CC-BF34-A708878E3B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18695-9414-4B16-B73B-14E2619C21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3BBDD-55B3-47D1-AA4E-520BFD93EE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42319-43F6-424B-BFB3-175BA6BECE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46091-184A-43F4-95D2-F142029AA3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72356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71D5-935B-4AA0-89B6-13F8272B94F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9E31-4A35-408B-9D2C-E9E0B69AC4AD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350532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6:Decisiones sobre Instal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hacer un análisis dinámico que considere el crecimiento futuro de la demanda y las posibilidades de expansión de las capac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ede requerir del uso de modelos matemátic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cesiones de caminos (MOP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ectric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eléfo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eropuer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orestales (bosques, plantas y aserradero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91262-F4F6-477E-AAC7-E1D0107C7D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Generación de Alternativ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siste en la elaboración de distintas posibilidades de cuánto, cuándo y dónde construir o coloc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modelos matemáticos, herramientas computacionales y sistemas de información geográficos dan un importante apoyo a la generación de buenas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0C965-B077-41BF-85C2-2C38BA8886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Evaluación de Alternativ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riteri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-benefi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objetiv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so nuevo aeropuerto (México y Pudahuel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objetiv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atisfacer necesidades de vuel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iesgo de acciden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mag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iaje aeropuerto-ciudad (hotel en Pudahuel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lim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78601-92A3-419F-B38E-105DF87D16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- La Decisión sobre Instala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to nive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fecta a toda la empres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parte de la estrategia corporativ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to uso de capit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976BB-D1A1-49D9-B560-7B16E1854B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ípicamente los aumentos de capacidad se definen p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mento de la demanda, (mercad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ecesidad de mejoramiento del servi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conomías de escal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ípicamente las plantas más grandes son más eficientes y aprovechan mejor la curva de experienci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sar a mejor tecnolog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mpresa forestal (aserradero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denas de restaurantes (Mc Donald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lanta de automóv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634D9-2211-4D87-B8AB-C3D738445F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eléfo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tener en cue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mantener un equilibrio al momento de expandir en distintas etap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eropuerto: ampliar terminal aéreo, pistas, estacionamientos, accesos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evaluar bien la dimensión de los incrementos de capacid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Varios chicos o uno grand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E1B18-0487-4E9E-880B-D47B17FDB3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n considerar fuentes externas de capacid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bcontrat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s externas: electric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ianzas: líneas aére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 caso de Incertidumb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n usar árboles de decis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es una variable aleatoria que crece fuertemente con probabilidad 0.55 y débilmente con probabilidad 0.4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FBABB-78B2-408B-BA14-3557A8B4F4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2" marL="1017000" indent="-203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negocio maneja tres alternativ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xpandir la capacidad a un costo de $87.000 el primer o segundo añ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raslado el primer año a un nuevo local más grande a un costo de $210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o hacer nada a costo 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evalúa a cinco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s netas (costos operacionales iguales en cada alternativa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aumento la capacidad y las ventas son altas: $190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aumento la capacidad y las ventas son bajas: $100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raslado con ventas altas: 195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raslado con ventas bajas: 115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o hacer nada con ventas altas: 170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o hacer nada con ventas bajas: 105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AB930-A6E0-4A51-A2E9-1C8C7E93F6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3567960" y="594360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Árbol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87360" y="1584360"/>
            <a:ext cx="6789960" cy="428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0D51D-341B-4FE0-B2C4-F0DE8B5CB8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nálisis utilizando DA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7116840" cy="23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C5A6E-7CEE-4E6F-A387-E853DF80A1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de las decisiones sobre instala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orizonte de 1 a 30 añ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eden ser de nivel táctico, pero generalmente son de nivel estratég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eguntas importantes (generalmente entrelazada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uánta capacidad se necesit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uándo se necesit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Dónde localizarl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CBE07-48BB-43F8-9251-1E8DABA34F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868680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96880" y="1585800"/>
            <a:ext cx="8088480" cy="44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AE8A1-E4A8-4FF6-9AE4-E55834CC88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nálisis utilizando VAN (tasa 16%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6400800" cy="377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C4109-4FF5-4089-A261-C2F9A322F3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06320" y="1531800"/>
            <a:ext cx="8132760" cy="4716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V="1">
            <a:off x="8813880" y="4444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12FB1-9F62-4A58-B9C8-9A4EDEDA0A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Cómo crecer en capacida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Añadir locales o añadir servicio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828800" y="3048120"/>
            <a:ext cx="5486400" cy="230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A1DA6-EDC4-44D0-BE5C-EFF66E02F2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r en que casos hay economías de escala, complicaciones administrativas (deseconomías de escal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 : cadena de jardines infantiles puede ser complic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 producir un problema de salto de complejidad operacional al crecer una empres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cuando se pasa de una empresa familiar a profesion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C4C60-D865-470F-A6D7-C71C20CC656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s de problemas de localiz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a instalación que no interactúa con otr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Sedes de Gobier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calización de fábricas y almacenes múltiples que comparten costos y manejos de producción y distribu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Cadenas de Supermerc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calización de comercios competiti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Tiendas, restaurante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calización de servicios de emerg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Hospit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E6A1E-DE28-43BA-9EC6-28F88B177CC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Localización de una instalación que no interactúa con otr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cto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angibl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l terreno, edificio y equip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transpor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produc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mano de ob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mpuestos y segur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fácilmente cuantificabl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ferta de mano de ob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laciones laborales sindica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06306-C6DC-4CD4-9A99-7E9FC363DA3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ctitudes de la comunidad (ejemplo: estadio UC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glamentos (ejemplo: San Francisc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lidad de vida (ejemplo: Pesquera Quellón, Colegio Arauco..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mpactos y normas ambienta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acción de la competenci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a metodología rudimentaria en estos casos es la asignación de notas a los factores no tangibles, los cuales se ponder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más sofisticados son interacti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FC45C-9618-4C4C-AAAD-742A0EA5306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Múltiples instalaciones (plantas, bodegas o centros de distribución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típ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Dónde localizar una planta o bodega adicional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De qué capacidad debe ser la nueva instalació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de instalación y ope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de transpo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calización de la 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lítica de servicio a los cli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bicaciones potenci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38300-DF0B-480D-B1EA-081E2CD00AE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conocen las localizaciones el problema corresponde a uno de producción y transporte a costo mínim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las ubicaciones no se conoc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n considerar como alternativas: arrendar, construir o comparar loc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abitualmente se hace necesaria la utilización de modelos matemáticos, simulación o métodos heuríst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B38CE-BE62-49B7-96E0-4269E41DFD5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actores a considera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et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rategia de la empres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de servi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lexibi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torno del paí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mano de o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eyes Soci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D83B9-86DA-4D65-800C-06024D5086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riables de decis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057400" y="2438280"/>
                <a:ext cx="4114800" cy="232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roducción  en planta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lujo entre planta i y cliente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venta a cliente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  si se construye planta 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552CC-6C1F-4C34-805A-A21E07338D3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ámetr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609560" y="2481120"/>
                <a:ext cx="7067880" cy="264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to de construcción de la planta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manda mínima del cliente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osto unitario de producción de la planta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recio de venta al cliente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osto unitario de transporte entre la planta i y el cliente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apacidad de la planta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ABD26-3A38-4F03-958F-E4E4AE1E57E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nción objetiv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609560" y="2819520"/>
                <a:ext cx="59994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16A3F-4762-438A-A26C-E56B0E24A4D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tricci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85800" y="2286000"/>
                <a:ext cx="8255160" cy="29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i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 puede producir  hasta capacidad 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si se construye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          </m:t>
                            </m:r>
                            <m:r>
                              <m:t xml:space="preserve">∀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i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o que se produce se despach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          </m:t>
                            </m:r>
                            <m:r>
                              <m:t xml:space="preserve">∀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j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 vende lo que lleg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j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atisfacción de la demanda mínim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4D8D9-50B6-4F6D-B19E-A2C02F74AF5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rmas de solu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ar paquetes de programación lineal con variables binarias (ejemplo: CPLEX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uede demorar mucho para problemas complej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eurístic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dondeos inteligen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úsqueda loc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bajar con escenar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ijar algunas variables y correr el problema que queda haciendo varias iteraciones (el caso extremo es fijar todas las ubicaciones quedando un problema lineal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bar con distintas configuracion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78E1F-A274-4171-BA68-561B19209BD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ria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product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períod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 construyen en un período para la producción futu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376360" y="2617920"/>
                <a:ext cx="557388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roducción del producto  k en la planta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400480" y="4495680"/>
                <a:ext cx="353052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≤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θ</m:t>
                        </m:r>
                        <m:r>
                          <m:t xml:space="preserve">≤</m:t>
                        </m:r>
                        <m:r>
                          <m:t xml:space="preserve">t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θ</m:t>
                            </m:r>
                          </m:sup>
                        </m:sSubSup>
                      </m:e>
                    </m:nary>
                    <m:r>
                      <m:rPr>
                        <m:lit/>
                        <m:nor/>
                      </m:rPr>
                      <m:t xml:space="preserve">                  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7A668-6693-4284-A5A8-49FCEC8E6C7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964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Inventario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stá permitido guardar productos en bodega para venderlos o distribuirlos en otro períod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da clientes asociado a una plan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Localización de bodegas para cadena de supermercad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048120" y="2133720"/>
                <a:ext cx="350496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nventario en i de t a 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i,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743200" y="3735360"/>
                <a:ext cx="3429000" cy="17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ij: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rPr>
                            <m:lit/>
                            <m:nor/>
                          </m:rPr>
                          <m:t xml:space="preserve">si es cliente j  asociado a planta i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/>
                        </m:nary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Demanda   máxima  j </m:t>
                        </m:r>
                        <m:r>
                          <m:t xml:space="preserve">⋅</m:t>
                        </m:r>
                        <m:r>
                          <m:t xml:space="preserve">valignl</m:t>
                        </m:r>
                        <m:sSub>
                          <m:e>
                            <m:eqAr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e>
                            </m:eqArr>
                          </m:e>
                          <m:sub/>
                        </m:sSub>
                      </m:e>
                    </m:eqArr>
                    <m:r>
                      <m:rPr>
                        <m:lit/>
                        <m:nor/>
                      </m:rPr>
                      <m:t xml:space="preserve">vij</m:t>
                    </m:r>
                    <m:r>
                      <m:t xml:space="preserve">=</m:t>
                    </m:r>
                    <m:r>
                      <m:t xml:space="preserve">0,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7D888-8A8E-4854-A7A6-73C0A537616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Localización de Comercios Competitiv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odelos Gravitacion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lacionan los deseos de ir a un lugar (atracción) versus la dificultad para llegar a éste (impedanci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arable a la fórmula de Newt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ivide la ciudad en I sect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674720" y="4386240"/>
                <a:ext cx="6634080" cy="13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úmero de clientes en sector i que viajarán a local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probabilidad que cliente en sector i vaya a local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úmero total de clientes en sector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B44B0-0A89-4E9C-AB28-F1311224069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981080" y="1752480"/>
                <a:ext cx="588024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tractivo del local j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del local, índice, et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iempo de viaje del sector i al local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arámetro para calibrar efecto tiemp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932200" y="3505320"/>
                <a:ext cx="3270240" cy="21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</m:t>
                    </m:r>
                    <m:m>
                      <m:mr>
                        <m:e>
                          <m:m>
                            <m:mr>
                              <m:e/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r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r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</m:e>
                            </m:mr>
                          </m:m>
                        </m:e>
                      </m:mr>
                      <m:mr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Sup>
                                        <m:e>
                                          <m:r>
                                            <m:t xml:space="preserve">T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r</m:t>
                                          </m:r>
                                        </m:sub>
                                        <m:sup>
                                          <m:r>
                                            <m:t xml:space="preserve">A</m:t>
                                          </m:r>
                                        </m:sup>
                                      </m:sSubSup>
                                    </m:den>
                                  </m:f>
                                </m:num>
                                <m:den>
                                  <m:nary>
                                    <m:naryPr>
                                      <m:chr m:val="∑"/>
                                      <m:supHide m:val="1"/>
                                    </m:naryPr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  <m:sup/>
                                    <m:e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j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sSubSup>
                                            <m:e>
                                              <m:r>
                                                <m:t xml:space="preserve">T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ij</m:t>
                                              </m:r>
                                            </m:sub>
                                            <m:sup>
                                              <m:r>
                                                <m:t xml:space="preserve">A</m:t>
                                              </m:r>
                                            </m:sup>
                                          </m:sSubSup>
                                        </m:den>
                                      </m:f>
                                    </m:e>
                                  </m:nary>
                                </m:den>
                              </m:f>
                            </m:e>
                          </m:d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29C20-297E-4DD2-98D0-E1860618880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so atracción-compet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iendas en Parque Arauco - Alto Las Cond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staurantes calle El Bosq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eblerías calle Arturo Prat, Los Leon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so competencia casi pur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s clientes pasan por mi puerta y que porcentaje puedo atrae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nte de Soda en la Alame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FD2D4-87BE-46F4-B1BC-2A7AA6AB8E7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mpliar fábrica texti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rrader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taura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iversidad priva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ospit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íneas telefón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37E62-8E94-4049-88A9-E90B69F288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Localización de Servicios de Emergenc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objetivo primordial es minimizar el tiempo de respues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sos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mple: no llegar a paciente en más de 5 minu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licado: llamados múltiples con flota limit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añías de Bombe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mbulancias, Hel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hilect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bine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2929C-856E-4475-BDFB-1A37E8CBBDA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mplea modelos matemáticos, simulación y heuríst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so: Central que desea minimizar la distancia (tiempo) máxima de llegada a los clientes (Modelo MinMax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523880" y="3570120"/>
                <a:ext cx="7274160" cy="237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iempo de viaje de central en k a cliente en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iempo final en llegar a cliente j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nocida la solució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si se ubica la central en k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CA306-96B5-4EA4-8B3C-58EE2512064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209680" y="1752480"/>
                <a:ext cx="3436920" cy="412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       </m:t>
                            </m:r>
                            <m:r>
                              <m:t xml:space="preserve">∀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∀</m:t>
                        </m:r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EA308-05DA-4022-87F9-2A940D6D6B8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Definir una Unidad de Medi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ómo se va a definir la capacida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Generalmente corresponde a una tasa de producción máxima por unidad de 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lanta de acer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toneladas acero/añ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staurant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clientes atendidos, platos servidos. Si.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   No   Número de mes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ínea aérea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km-pasajero/año.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   No  Número de avion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serraderos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/añ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c Donald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hamburguesas/dí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min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vehículos equivalentes/añ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Universidad privada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flujo de alumn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35F46-99B9-4C65-8E4A-43A5C1B672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ceptos importa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 Real versus Capacidad Teór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 Agregad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Zapatos en fábric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Km-pasajero en línea aére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ospit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nc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 de Punta versus Capacidad Sosteni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Endes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negocio antes de Nav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D3213-FBE0-4A78-B8FD-64B31405EF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mpacto de gest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úmero de tur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oras extraordinari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joras administrativ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CB20C-7FAA-4B6C-B730-832A53723B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Pronósticos de la Deman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a vez definida la unidad de medida se debe predecir la demanda en el horizonte de interé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n utilizar escenarios o probabil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querimientos de energía para los próximos 6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s textiles para los próximos 6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sponibilidad de madera para los aserrade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iversidad priv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ospital region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2B710-FE0A-4716-95C0-BA8D06AD2B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Determinación de las Necesidades de Instala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basa en los pronósticos y en el grado de riesgo que se toma para cumplir con la estim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se acepta una probabilidad de fallar de 0.3, entonces definir una capacidad de 16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819520" y="3886200"/>
          <a:ext cx="2057400" cy="155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886200"/>
                    <a:ext cx="2057400" cy="15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01939-E434-4537-94D0-F5B384C025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.......</cp:lastModifiedBy>
  <cp:lastPrinted>2001-08-09T02:32:34Z</cp:lastPrinted>
  <dcterms:modified xsi:type="dcterms:W3CDTF">2004-03-29T21:48:39Z</dcterms:modified>
  <cp:revision>169</cp:revision>
  <dc:subject/>
  <dc:title>Comercio Electrónico</dc:title>
</cp:coreProperties>
</file>