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wmf" ContentType="image/x-wmf"/>
  <Override PartName="/ppt/media/image6.png" ContentType="image/png"/>
  <Override PartName="/ppt/media/image7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7304088" cy="9590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AA114B-6499-49D5-9563-7EBFADE06A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5D0DEB-5F4F-4098-8F8E-2BCA345E03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EB77B3-D829-4DAF-B55A-E543880F1C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10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43824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182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10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43824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896EB4-B7C4-4770-BDE8-ABD75BB456E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DB144E-1156-4785-91B3-D65656AFD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AC7564-8EE7-409A-9369-F44EA03B0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F26E21-1586-4301-8FA4-FB326551C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4872D1-E07B-47A3-AA26-9BDD6A575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5187D6-5936-46C1-9A6B-92273D92E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17100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7B5063-2C8D-48F6-B3C1-FDD97025A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83DA2C-D104-48F4-AFC0-88CD6526B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043B75-991E-45CB-8D45-D3923EFD28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AF2CC2-ECEF-419D-AF3F-E290EBD7B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11B281-7231-4729-912E-1BB6CA967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F0A393-5E6D-4E8E-9BB7-68965427E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35965C-B448-4C55-9ECF-4AFF3F69F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C876D5-C67B-4C2D-BE68-98151B51E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D7DB8B-7FDF-4033-B83A-1A6B5FEAB6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0E725D-F03C-4A15-AC86-1BE0919743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BBE363-E18C-4AA5-946A-B340E8EDCB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150560" y="17100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8A1D47-5380-4B1B-8687-A8026A9B68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BE9176-9A70-4E0D-BD7E-CFBB595E7B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2062E0-9DE1-4A91-A149-8383A4F4C9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871132-1C40-4811-B0FC-F76E71A6AF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52320"/>
            <a:ext cx="438120" cy="474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52320"/>
            <a:ext cx="32832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07460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07460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00188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54468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33524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1"/>
          </p:nvPr>
        </p:nvSpPr>
        <p:spPr>
          <a:xfrm rot="21562800">
            <a:off x="4723560" y="627804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2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5704F-581D-4808-AEE6-B3CAC1E90499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8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49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2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3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4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5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71579-75B1-4F18-8069-FE0C796014F4}" type="slidenum">
              <a:rPr b="0" lang="es-ES_tradnl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320" y="205704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Gestión de Operacion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3505320"/>
            <a:ext cx="7620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Capítulo 6:Decisiones sobre Instalac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Marco Conceptual para la Planeación de Instalacion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 debe hacer un análisis dinámico que considere el crecimiento futuro de la demanda y las posibilidades de expansión de las capacidad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uede requerir del uso de modelos matemátic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jemplo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ncesiones de caminos (MOP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lectricida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Teléfon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Aeropuert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Forestales (bosques, plantas y aserraderos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6: Decisiones sobre Instalaciones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B0EA81-6B08-4F3F-8836-171F198F49B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Marco Conceptual para la Planeación de Instalacion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4.- Generación de Alternativ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onsiste en la elaboración de distintas posibilidades de cuánto, cuándo y dónde construir o coloca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Los modelos matemáticos, herramientas computacionales y sistemas de información geográficos dan un importante apoyo a la generación de buenas alternativa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6: Decisiones sobre Instalaciones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EE8308-A7D0-4DAB-816A-0E477465DC9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Marco Conceptual para la Planeación de Instalacion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5.- Evaluación de Alternativ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riterio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sto-benefici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BN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últiples objetiv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aso nuevo aeropuerto (México y Pudahuel)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últiples objetivo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55840" indent="-20772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Satisfacer necesidades de vuelo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455840" indent="-20772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osto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455840" indent="-20772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Riesgo de accidente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455840" indent="-20772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Imagen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455840" indent="-20772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Viaje aeropuerto-ciudad (hotel en Pudahuel)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455840" indent="-20772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lima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6: Decisiones sobre Instalaciones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51D524-BD4A-4A3C-8336-E76FB2FEE95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Marco Conceptual para la Planeación de Instalacion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6.- La Decisión sobre Instalacion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aracterística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Alto nive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Afecta a toda la empres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s parte de la estrategia corporativ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Alto uso de capit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6: Decisiones sobre Instalaciones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77A7FB-2AAA-4742-8F28-C9E0053FCAE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Marco Conceptual para la Planeación de Instalacion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Típicamente los aumentos de capacidad se definen p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Aumento de la demanda, (mercad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Necesidad de mejoramiento del servici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conomías de escal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Típicamente las plantas más grandes son más eficientes y aprovechan mejor la curva de experiencia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asar a mejor tecnologí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jemplo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mpresa forestal (aserraderos)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adenas de restaurantes (Mc Donald)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lanta de automóvil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6: Decisiones sobre Instalaciones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070F22-6067-4422-B73C-622EB2A8361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Marco Conceptual para la Planeación de Instalacion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Teléfon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Para tener en cuent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 debe mantener un equilibrio al momento de expandir en distintas etapa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jemplo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Aeropuerto: ampliar terminal aéreo, pistas, estacionamientos, accesos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 debe evaluar bien la dimensión de los incrementos de capacid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¿Varios chicos o uno grande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6: Decisiones sobre Instalaciones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52E322-19A3-48F3-8BBD-11466E1C86F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Marco Conceptual para la Planeación de Instalacion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 deben considerar fuentes externas de capacid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ubcontrata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mpras externas: electricida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Alianzas: líneas aérea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n caso de Incertidumbr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 pueden usar árboles de decisió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jempl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emanda es una variable aleatoria que crece fuertemente con probabilidad 0.55 y débilmente con probabilidad 0.45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6: Decisiones sobre Instalaciones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8AF307-10A6-4BAF-BE68-70411B1F9C3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Marco Conceptual para la Planeación de Instalacion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lvl="2" marL="1017000" indent="-203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l negocio maneja tres alternativa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24160" indent="-2034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xpandir la capacidad a un costo de $87.000 el primer o segundo año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424160" indent="-2034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Traslado el primer año a un nuevo local más grande a un costo de $210.000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424160" indent="-2034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No hacer nada a costo 0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e evalúa a cinco añ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Ventas netas (costos operacionales iguales en cada alternativa)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24160" indent="-2034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Si aumento la capacidad y las ventas son altas: $190.000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424160" indent="-2034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Si aumento la capacidad y las ventas son bajas: $100.000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424160" indent="-2034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Traslado con ventas altas: 195.000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424160" indent="-2034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Traslado con ventas bajas: 115.000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424160" indent="-2034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No hacer nada con ventas altas: 170.000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424160" indent="-2034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No hacer nada con ventas bajas: 105.000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4241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4241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241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6: Decisiones sobre Instalaciones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E1FB32-9191-4258-9368-D9A01A441ED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Marco Conceptual para la Planeación de Instalacion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"/>
          <p:cNvSpPr/>
          <p:nvPr/>
        </p:nvSpPr>
        <p:spPr>
          <a:xfrm>
            <a:off x="3567960" y="5943600"/>
            <a:ext cx="269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Tahoma"/>
              </a:rPr>
              <a:t>Árbol de Deci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287360" y="1584360"/>
            <a:ext cx="6789960" cy="4282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6: Decisiones sobre Instalaciones  #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94AB8A-4A9E-4CDA-868A-6B64BE7B8DC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Marco Conceptual para la Planeación de Instalacion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Análisis utilizando DAT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600200" y="2590920"/>
            <a:ext cx="7116840" cy="234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6: Decisiones sobre Instalaciones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6C178D-C2D2-4A7E-8396-B68F12027D3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Introduc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aracterísticas de las decisiones sobre instalacion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Horizonte de 1 a 30 añ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ueden ser de nivel táctico, pero generalmente son de nivel estratégic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Preguntas importantes (generalmente entrelazadas)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¿Cuánta capacidad se necesita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¿Cuándo se necesita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¿Dónde localizarla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6: Decisiones sobre Instalaciones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723288-BE88-44BA-B1FB-310F0D7AF9B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Marco Conceptual para la Planeación de Instalacion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8686800" y="44193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596880" y="1585800"/>
            <a:ext cx="8088480" cy="44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6: Decisiones sobre Instalaciones  #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3C266D-B21F-4835-8950-64BD4F6557C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Marco Conceptual para la Planeación de Instalacion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Análisis utilizando VAN (tasa 16%)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2057400" y="2286000"/>
            <a:ext cx="6400800" cy="3776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6: Decisiones sobre Instalaciones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5ED8A7-EC9C-4FA4-AB8B-DD47A9DD6DE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Marco Conceptual para la Planeación de Instalacion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706320" y="1531800"/>
            <a:ext cx="8132760" cy="471672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 flipV="1">
            <a:off x="8813880" y="444456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6: Decisiones sobre Instalaciones  #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E58BE3-0F21-42A6-9FFC-5C96911A8E9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Marco Conceptual para la Planeación de Instalacion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¿Cómo crecer en capacidad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¿Añadir locales o añadir servicio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828800" y="3048120"/>
            <a:ext cx="5486400" cy="2307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6: Decisiones sobre Instalaciones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05156D-14CF-4F72-8E1F-1E56DAF3C98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Marco Conceptual para la Planeación de Instalacion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Ver en que casos hay economías de escala, complicaciones administrativas (deseconomías de escala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jemplo : cadena de jardines infantiles puede ser complicad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 puede producir un problema de salto de complejidad operacional al crecer una empres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jemplo: cuando se pasa de una empresa familiar a profesion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6: Decisiones sobre Instalaciones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380347-45F4-4770-B325-4A02B40A72C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Problemas de Localiza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Tipos de problemas de localizació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Una instalación que no interactúa con otra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jemplo: Sedes de Gobiern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Localización de fábricas y almacenes múltiples que comparten costos y manejos de producción y distribució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jemplo: Cadenas de Supermercad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Localización de comercios competitiv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jemplo: Tiendas, restaurantes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Localización de servicios de emergenci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jemplo: Hospit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6: Decisiones sobre Instalaciones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75BDE4-69A5-4CCE-AB00-7BF5ACB7BB6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Problemas de Localiza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1.- Localización de una instalación que no interactúa con otr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Factor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Tangible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osto del terreno, edificio y equipo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osto de transport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osto de producción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osto de mano de obra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Impuestos y seguro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No fácilmente cuantificable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Oferta de mano de obra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Relaciones laborales sindicale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6: Decisiones sobre Instalaciones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B1B31D-137D-4F1E-AFCE-2A60046F5C73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Problemas de Localiza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Actitudes de la comunidad (ejemplo: estadio UC)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Reglamentos (ejemplo: San Francisco)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alidad de vida (ejemplo: Pesquera Quellón, Colegio Arauco...)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Impactos y normas ambientale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Reacción de la competencia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Una metodología rudimentaria en estos casos es la asignación de notas a los factores no tangibles, los cuales se pondera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Métodos más sofisticados son interactiv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6: Decisiones sobre Instalaciones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23DE0B-520C-40C3-9A39-EA4657EC20C1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Problemas de Localiza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2.- Múltiples instalaciones (plantas, bodegas o centros de distribución)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ecisiones típica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¿Dónde localizar una planta o bodega adicional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¿De qué capacidad debe ser la nueva instalación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ato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stos de instalación y operació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stos de transpor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Localización de la demand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olítica de servicio a los client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Ubicaciones potencial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6: Decisiones sobre Instalaciones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F64D07-DDE2-47C7-9A7C-9D6C97A9144B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Problemas de Localiza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i se conocen las localizaciones el problema corresponde a uno de producción y transporte a costo mínim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i las ubicaciones no se conoce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e deben considerar como alternativas: arrendar, construir o comparar local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Habitualmente se hace necesaria la utilización de modelos matemáticos, simulación o métodos heurístic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6: Decisiones sobre Instalaciones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AC72CA-4E2E-44D2-A0C8-CAE0A387B4CB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Introduc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Factores a considera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emand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ost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ompetenci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strategia de la empres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alidad de servici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Flexibilida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ntorno del paí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sto de mano de obr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Leyes Social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6: Decisiones sobre Instalaciones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9E77FA-D5FC-4372-AA4F-A7DB8F40489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Problemas de Localiza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Variables de decisió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2057400" y="2438280"/>
                <a:ext cx="4114800" cy="232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producción  en planta i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flujo entre planta i y cliente j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venta a cliente j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=</m:t>
                        </m:r>
                        <m:eqArr>
                          <m:e>
                            <m:d>
                              <m:dPr>
                                <m:begChr m:val="{"/>
                                <m:endChr m:val="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   si se construye planta i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</m:e>
                              <m:e/>
                            </m:d>
                          </m:e>
                        </m:eqAr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6: Decisiones sobre Instalaciones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BF4D17-4407-460D-999A-414BD6648142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Problemas de Localiza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arámetro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1609560" y="2481120"/>
                <a:ext cx="7067880" cy="264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to de construcción de la planta i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demanda mínima del cliente j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costo unitario de producción de la planta i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precio de venta al cliente j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t xml:space="preserve">f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costo unitario de transporte entre la planta i y el cliente j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capacidad de la planta i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6: Decisiones sobre Instalaciones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9E8FB6-E911-42BB-94DA-8950714A0FC3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Problemas de Localiza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Función objetiv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1609560" y="2819520"/>
                <a:ext cx="5999400" cy="80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in</m:t>
                    </m:r>
                    <m:r>
                      <m:t xml:space="preserve">z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+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+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</m:e>
                        </m:nary>
                        <m:r>
                          <m:t xml:space="preserve">−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6: Decisiones sobre Instalaciones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29643A-D912-4A18-BF87-D7B9359C2A2E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Problemas de Localiza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Restriccion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685800" y="2286000"/>
                <a:ext cx="8255160" cy="297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≤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             </m:t>
                        </m:r>
                        <m:r>
                          <m:t xml:space="preserve">∀</m:t>
                        </m:r>
                        <m:r>
                          <m:rPr>
                            <m:lit/>
                            <m:nor/>
                          </m:rPr>
                          <m:t xml:space="preserve">i  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se puede producir  hasta capacidad  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si se construye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            </m:t>
                            </m:r>
                            <m:r>
                              <m:t xml:space="preserve">∀</m:t>
                            </m:r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i  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lo que se produce se despach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            </m:t>
                            </m:r>
                            <m:r>
                              <m:t xml:space="preserve">∀</m:t>
                            </m:r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j 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se vende lo que lleg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≥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               </m:t>
                        </m:r>
                        <m:r>
                          <m:t xml:space="preserve">∀</m:t>
                        </m:r>
                        <m:r>
                          <m:rPr>
                            <m:lit/>
                            <m:nor/>
                          </m:rPr>
                          <m:t xml:space="preserve">j  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satisfacción de la demanda mínim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≥</m:t>
                        </m:r>
                        <m:r>
                          <m:t xml:space="preserve">0</m:t>
                        </m:r>
                      </m:e>
                      <m:e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∈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0,1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6: Decisiones sobre Instalaciones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8D519B-E6A5-4662-80D0-C062D62BB69E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Problemas de Localiza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Formas de solució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Usar paquetes de programación lineal con variables binarias (ejemplo: CPLEX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uede demorar mucho para problemas complejo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Heurística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Redondeos inteligente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Búsqueda local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Trabajar con escenario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ijar algunas variables y correr el problema que queda haciendo varias iteraciones (el caso extremo es fijar todas las ubicaciones quedando un problema lineal)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robar con distintas configuracione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6: Decisiones sobre Instalaciones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76F028-58EB-4747-9070-168DE95D9B0E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Problemas de Localiza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Varian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últiples producto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últiples período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Se construyen en un período para la producción futura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2376360" y="2617920"/>
                <a:ext cx="5573880" cy="115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k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producción del producto  k en la planta i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k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k</m:t>
                                </m:r>
                              </m:sub>
                            </m:sSub>
                          </m:e>
                        </m:nary>
                        <m:r>
                          <m:t xml:space="preserve">≤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2400480" y="4495680"/>
                <a:ext cx="3530520" cy="71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t</m:t>
                        </m:r>
                      </m:sup>
                    </m:sSubSup>
                    <m:r>
                      <m:t xml:space="preserve">≤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θ</m:t>
                        </m:r>
                        <m:r>
                          <m:t xml:space="preserve">≤</m:t>
                        </m:r>
                        <m:r>
                          <m:t xml:space="preserve">t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θ</m:t>
                            </m:r>
                          </m:sup>
                        </m:sSubSup>
                      </m:e>
                    </m:nary>
                    <m:r>
                      <m:rPr>
                        <m:lit/>
                        <m:nor/>
                      </m:rPr>
                      <m:t xml:space="preserve">                   </m:t>
                    </m:r>
                    <m:r>
                      <m:t xml:space="preserve">∀</m:t>
                    </m:r>
                    <m:r>
                      <m:t xml:space="preserve">i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6: Decisiones sobre Instalaciones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75EB3E-A050-40A0-9B11-C81875BD6017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Problemas de Localiza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914400" y="1371600"/>
            <a:ext cx="79646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Inventario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Está permitido guardar productos en bodega para venderlos o distribuirlos en otro período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Cada clientes asociado a una plant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Ejemplos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Localización de bodegas para cadena de supermercados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3048120" y="2133720"/>
                <a:ext cx="3504960" cy="121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inventario en i de t a 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sSubSup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t xml:space="preserve">t</m:t>
                                </m:r>
                              </m:sup>
                            </m:sSubSup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t</m:t>
                                </m:r>
                              </m:sup>
                            </m:sSubSup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               </m:t>
                        </m:r>
                        <m:r>
                          <m:t xml:space="preserve">∀</m:t>
                        </m:r>
                        <m:r>
                          <m:rPr>
                            <m:lit/>
                            <m:nor/>
                          </m:rPr>
                          <m:t xml:space="preserve">i,t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2743200" y="3735360"/>
                <a:ext cx="3429000" cy="17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vij: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rPr>
                            <m:lit/>
                            <m:nor/>
                          </m:rPr>
                          <m:t xml:space="preserve">si es cliente j  asociado a planta i</m:t>
                        </m:r>
                      </m:e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/>
                        </m:nary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≤</m:t>
                        </m:r>
                        <m:r>
                          <m:rPr>
                            <m:lit/>
                            <m:nor/>
                          </m:rPr>
                          <m:t xml:space="preserve">Demanda   máxima  j </m:t>
                        </m:r>
                        <m:r>
                          <m:t xml:space="preserve">⋅</m:t>
                        </m:r>
                        <m:r>
                          <m:t xml:space="preserve">valignl</m:t>
                        </m:r>
                        <m:sSub>
                          <m:e>
                            <m:eqAr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e>
                            </m:eqArr>
                          </m:e>
                          <m:sub/>
                        </m:sSub>
                      </m:e>
                    </m:eqArr>
                    <m:r>
                      <m:rPr>
                        <m:lit/>
                        <m:nor/>
                      </m:rPr>
                      <m:t xml:space="preserve">vij</m:t>
                    </m:r>
                    <m:r>
                      <m:t xml:space="preserve">=</m:t>
                    </m:r>
                    <m:r>
                      <m:t xml:space="preserve">0,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6: Decisiones sobre Instalaciones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13A485-6725-416C-BB77-DEFFDF93BF77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Problemas de Localiza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3.- Localización de Comercios Competitivo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Modelos Gravitaciona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Relacionan los deseos de ir a un lugar (atracción) versus la dificultad para llegar a éste (impedancia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mparable a la fórmula de Newt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e divide la ciudad en I sector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1674720" y="4386240"/>
                <a:ext cx="6634080" cy="13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número de clientes en sector i que viajarán a local j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 probabilidad que cliente en sector i vaya a local j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número total de clientes en sector i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6: Decisiones sobre Instalaciones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9CDEC6-F43A-46FB-861E-0E730B1B75B1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Problemas de Localiza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1981080" y="1752480"/>
                <a:ext cx="588024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atractivo del local j 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m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del local, índice, etc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tiempo de viaje del sector i al local j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parámetro para calibrar efecto tiempo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2932200" y="3505320"/>
                <a:ext cx="3270240" cy="210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    </m:t>
                    </m:r>
                    <m:m>
                      <m:mr>
                        <m:e>
                          <m:m>
                            <m:mr>
                              <m:e/>
                            </m:mr>
                            <m:mr>
                              <m:e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r</m:t>
                                    </m:r>
                                  </m:sub>
                                </m:sSub>
                                <m:r>
                                  <m:t xml:space="preserve">=</m:t>
                                </m:r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r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=</m:t>
                                </m:r>
                              </m:e>
                            </m:mr>
                          </m:m>
                        </m:e>
                      </m:mr>
                      <m:mr>
                        <m:e>
                          <m:d>
                            <m:dPr>
                              <m:begChr m:val="["/>
                              <m:endChr m:val="]"/>
                            </m:dPr>
                            <m:e>
                              <m:f>
                                <m:num>
                                  <m:f>
                                    <m:num>
                                      <m:sSub>
                                        <m:e>
                                          <m:r>
                                            <m:t xml:space="preserve">S</m:t>
                                          </m:r>
                                        </m:e>
                                        <m:sub>
                                          <m:r>
                                            <m:t xml:space="preserve">r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sSubSup>
                                        <m:e>
                                          <m:r>
                                            <m:t xml:space="preserve">T</m:t>
                                          </m:r>
                                        </m:e>
                                        <m:sub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ir</m:t>
                                          </m:r>
                                        </m:sub>
                                        <m:sup>
                                          <m:r>
                                            <m:t xml:space="preserve">A</m:t>
                                          </m:r>
                                        </m:sup>
                                      </m:sSubSup>
                                    </m:den>
                                  </m:f>
                                </m:num>
                                <m:den>
                                  <m:nary>
                                    <m:naryPr>
                                      <m:chr m:val="∑"/>
                                      <m:supHide m:val="1"/>
                                    </m:naryPr>
                                    <m:sub>
                                      <m:r>
                                        <m:t xml:space="preserve">j</m:t>
                                      </m:r>
                                    </m:sub>
                                    <m:sup/>
                                    <m:e>
                                      <m:f>
                                        <m:num>
                                          <m:sSub>
                                            <m:e>
                                              <m:r>
                                                <m:t xml:space="preserve">S</m:t>
                                              </m:r>
                                            </m:e>
                                            <m:sub>
                                              <m:r>
                                                <m:t xml:space="preserve">j</m:t>
                                              </m:r>
                                            </m:sub>
                                          </m:sSub>
                                        </m:num>
                                        <m:den>
                                          <m:sSubSup>
                                            <m:e>
                                              <m:r>
                                                <m:t xml:space="preserve">T</m:t>
                                              </m:r>
                                            </m:e>
                                            <m:sub>
                                              <m:r>
                                                <m:rPr>
                                                  <m:lit/>
                                                  <m:nor/>
                                                </m:rPr>
                                                <m:t xml:space="preserve">ij</m:t>
                                              </m:r>
                                            </m:sub>
                                            <m:sup>
                                              <m:r>
                                                <m:t xml:space="preserve">A</m:t>
                                              </m:r>
                                            </m:sup>
                                          </m:sSubSup>
                                        </m:den>
                                      </m:f>
                                    </m:e>
                                  </m:nary>
                                </m:den>
                              </m:f>
                            </m:e>
                          </m:d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6: Decisiones sobre Instalaciones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9DD575-ADBA-43C6-8E99-FEABB7B70B43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Problemas de Localiza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aso atracción-competenci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jemplo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Tiendas en Parque Arauco - Alto Las Conde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Restaurantes calle El Bosqu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ueblerías calle Arturo Prat, Los Leone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aso competencia casi pur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¿Cuántos clientes pasan por mi puerta y que porcentaje puedo atraer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uente de Soda en la Alameda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6: Decisiones sobre Instalaciones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984A8C-88D1-4E62-B865-0896D297DFD0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Introduc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jemplo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Ampliar fábrica texti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Aserrader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Restaura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Universidad privad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Hospita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Líneas telefónica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6: Decisiones sobre Instalaciones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18646A-BEBF-46D0-A09E-2CBFAA6833C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Problemas de Localiza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4.- Localización de Servicios de Emergenci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l objetivo primordial es minimizar el tiempo de respuest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asos: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imple: no llegar a paciente en más de 5 minut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mplicado: llamados múltiples con flota limitad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jemplo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mpañías de Bomber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Ambulancias, Hel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hilectr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arabiner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6: Decisiones sobre Instalaciones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36CA2A-BD56-43EC-B7D3-8E92BDD39CCF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Problemas de Localiza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mplea modelos matemáticos, simulación y heurística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aso: Central que desea minimizar la distancia (tiempo) máxima de llegada a los clientes (Modelo MinMax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1523880" y="3570120"/>
                <a:ext cx="7274160" cy="237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j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tiempo de viaje de central en k a cliente en j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tiempo final en llegar a cliente j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conocida la solución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</m:e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eqArr>
                          <m:e>
                            <m:d>
                              <m:dPr>
                                <m:begChr m:val="{"/>
                                <m:endChr m:val="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  si se ubica la central en k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</m:e>
                              <m:e/>
                            </m:d>
                          </m:e>
                        </m:eqAr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6: Decisiones sobre Instalaciones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68B0B4-BE7A-40D2-9ECF-138EF3CED8E0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Problemas de Localiza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2209680" y="1752480"/>
                <a:ext cx="3436920" cy="412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  <m:r>
                          <m:t xml:space="preserve">S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a</m:t>
                        </m:r>
                      </m:e>
                      <m:e>
                        <m:r>
                          <m:t xml:space="preserve">S</m:t>
                        </m:r>
                        <m:r>
                          <m:t xml:space="preserve">≥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                </m:t>
                        </m:r>
                        <m:r>
                          <m:t xml:space="preserve">∀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k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kj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         </m:t>
                            </m:r>
                            <m:r>
                              <m:t xml:space="preserve">∀</m:t>
                            </m:r>
                            <m:r>
                              <m:t xml:space="preserve">j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e>
                        </m:nary>
                      </m:e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k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>
                        <m:r>
                          <m:t xml:space="preserve">S</m:t>
                        </m:r>
                        <m:r>
                          <m:t xml:space="preserve">≥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∈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0,1</m:t>
                            </m:r>
                          </m:e>
                        </m:d>
                        <m:r>
                          <m:t xml:space="preserve">∀</m:t>
                        </m:r>
                        <m:r>
                          <m:t xml:space="preserve">k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6: Decisiones sobre Instalaciones  #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F17BEA-22CC-4F7E-9C2E-C30BFC64162C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Marco Conceptual para la Planeación de Instalacion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1.- Definir una Unidad de Medid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¿Cómo se va a definir la capacidad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Generalmente corresponde a una tasa de producción máxima por unidad de tiemp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jemplo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lnSpc>
                <a:spcPct val="9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lanta de acero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 toneladas acero/año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lnSpc>
                <a:spcPct val="9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Restaurant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 clientes atendidos, platos servidos. Si.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    No   Número de mesa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lnSpc>
                <a:spcPct val="9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Línea aérea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 km-pasajero/año.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    No  Número de avione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lnSpc>
                <a:spcPct val="9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Aserraderos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 m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Tahoma"/>
              </a:rPr>
              <a:t>3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/año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lnSpc>
                <a:spcPct val="9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c Donald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 hamburguesas/día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lnSpc>
                <a:spcPct val="9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amino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 vehículos equivalentes/año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lnSpc>
                <a:spcPct val="9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Universidad privada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 flujo de alumno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6: Decisiones sobre Instalaciones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80B2F4-DB72-4EEE-B7A3-DBA4EA9F646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Marco Conceptual para la Planeación de Instalacion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3" marL="16002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onceptos importan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apacidad Real versus Capacidad Teóric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apacidad Agregada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Zapatos en fábrica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Km-pasajero en línea aérea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Hospit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Banco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apacidad de Punta versus Capacidad Sostenid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aso Endesa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aso negocio antes de Navidad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6: Decisiones sobre Instalaciones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E7CACE-605F-4045-8F31-25B6F62EB00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Marco Conceptual para la Planeación de Instalacion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Impacto de gestió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Número de turn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Horas extraordinaria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ejoras administrativa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6: Decisiones sobre Instalaciones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4BC4CA-E6B8-4C7A-952B-199CF42FFF4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Marco Conceptual para la Planeación de Instalacion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2.- Pronósticos de la Demand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Una vez definida la unidad de medida se debe predecir la demanda en el horizonte de interé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 pueden utilizar escenarios o probabilidad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jemplo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Requerimientos de energía para los próximos 6 añ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emandas textiles para los próximos 6 añ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isponibilidad de madera para los aserrader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Universidad privad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Hospital region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6: Decisiones sobre Instalaciones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734AA6-BD4B-4FF0-B018-703EFB8D0F9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Marco Conceptual para la Planeación de Instalacion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3.- Determinación de las Necesidades de Instalacion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 basa en los pronósticos y en el grado de riesgo que se toma para cumplir con la estimació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jemplo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3612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536120" indent="-21924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Si se acepta una probabilidad de fallar de 0.3, entonces definir una capacidad de 16.000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2819520" y="3886200"/>
          <a:ext cx="2057400" cy="1558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19520" y="3886200"/>
                    <a:ext cx="2057400" cy="155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6: Decisiones sobre Instalaciones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2A3B52-4BFB-48B2-BECA-53E2A00BDEF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6T14:21:15Z</dcterms:created>
  <dc:creator>Dpto. Ingeniería Industrial</dc:creator>
  <dc:description/>
  <dc:language>en-US</dc:language>
  <cp:lastModifiedBy>.......</cp:lastModifiedBy>
  <cp:lastPrinted>2001-08-09T02:32:34Z</cp:lastPrinted>
  <dcterms:modified xsi:type="dcterms:W3CDTF">2004-03-29T21:48:39Z</dcterms:modified>
  <cp:revision>169</cp:revision>
  <dc:subject/>
  <dc:title>Comercio Electrónico</dc:title>
</cp:coreProperties>
</file>