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B33D-4414-412E-93C7-0DC73AE806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5ABD-BA7D-491B-9330-0D9E6B36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21B0-73A4-46F8-9E24-F883931C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6992-3266-45F2-B11E-B6302A917E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1CF50-BFE2-48B7-AEC8-FF15EC7F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05AB4-3D76-43AE-B651-E3B7563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EB5C1-6A07-4F68-98B6-91BD5D1C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85CE2-E30E-474C-AAAB-64AFB207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1A449-EEB1-4CD3-92D9-25470103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E4034-5A34-4866-9FBE-7469B587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13251-6515-472C-B25C-DF4A5CAE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10D2-D709-47F8-91E2-6F040047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82EA1-69FD-432B-A9CF-ADD5C233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E23C5-D105-4EFB-B2EB-868511FE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54431-1DD5-40AF-BEE4-4855010E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C2DA7-2EAE-49E5-B9E4-D9D88ADB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D4FDA-3068-4D59-8D93-3CFA2483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94CD-0C98-451F-A85F-44183BBD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00AA-FF3B-41A5-B95A-00B7D35D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7D19-53E7-4380-ADF5-7D2CFCAF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A4DA-5D9F-4FD7-86F3-1ED06D05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FEF6-12FE-4E18-BE0D-02BB042C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E64C-A3A6-4A22-B7C2-0CF991CC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BF3A-9D42-477A-B071-FF6EEAD7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08E3-0120-440A-973D-BA56EC41F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4567320" y="1752480"/>
            <a:ext cx="4576680" cy="41356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0" y="5943600"/>
            <a:ext cx="9144000" cy="380880"/>
          </a:xfrm>
          <a:prstGeom prst="rect">
            <a:avLst/>
          </a:prstGeom>
          <a:gradFill rotWithShape="0">
            <a:gsLst>
              <a:gs pos="0">
                <a:srgbClr val="46465e"/>
              </a:gs>
              <a:gs pos="100000">
                <a:srgbClr val="99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67320" y="1752480"/>
            <a:ext cx="4576680" cy="413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1690560"/>
            <a:ext cx="7467480" cy="2652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83E1-A179-4CEF-A599-1F619B8A2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0640"/>
            <a:ext cx="2971800" cy="370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5837760" y="3026160"/>
            <a:ext cx="431640" cy="6164280"/>
          </a:xfrm>
          <a:prstGeom prst="rect">
            <a:avLst/>
          </a:prstGeom>
          <a:gradFill rotWithShape="0">
            <a:gsLst>
              <a:gs pos="0">
                <a:srgbClr val="9e9ece"/>
              </a:gs>
              <a:gs pos="100000">
                <a:srgbClr val="99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5445000"/>
            <a:ext cx="6192720" cy="71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2492280"/>
          <a:ext cx="7416720" cy="3095640"/>
        </p:xfrm>
        <a:graphic>
          <a:graphicData uri="http://schemas.openxmlformats.org/drawingml/2006/table">
            <a:tbl>
              <a:tblPr/>
              <a:tblGrid>
                <a:gridCol w="639720"/>
                <a:gridCol w="4832280"/>
                <a:gridCol w="19447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t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egu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te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clu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egu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611280" y="1773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tructura típica de una pres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98900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n otras palabr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r, lo que tu vas a dec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rl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uego decir justo lo que intentaste dec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989000"/>
            <a:ext cx="6985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aludar a la aud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troducir los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una mirada general a la estructura de la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instrucción sobre l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773360"/>
            <a:ext cx="79200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 la presentación en sí, es importante mostrar dominio y confianza en lo que se d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uidar los tiempos, ni rápido, ni l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onservar la 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er enfático y entusi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antener contacto visual con toda la aud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odular la v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emarcar los hitos de la pres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Lucir amistoso y político si se abordan temas confli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Conclu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98900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sumir lo di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recomendaciones, si es aprop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gradecer a la audi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vitar a realizar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Pregu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916280"/>
            <a:ext cx="79200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Buena oportunidad para interactuar con tu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eparar las respuestas a posibles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scuchar atentamente a quién pregunta, mostrar inter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veces es posible reformular la preg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veces puedes responder con otra pregunta o abrir la respuesta a la asambl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– otras recomend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773360"/>
            <a:ext cx="7920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nsayar la presentación. (6 ve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ctitud de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prenderse muy bien los primeros dos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Usar frases prec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l humor es bienvenido, mantiene el interés de la aud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i se usa material audiovisual es muy importante chequear con anticipación el funcionamiento de los equi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aber cuando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arar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de hablar, manejar muy bien el tiempo. Cuidar no ser re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8:26:19Z</dcterms:created>
  <dc:creator>Sebastian Depolo</dc:creator>
  <dc:description/>
  <dc:language>en-US</dc:language>
  <cp:lastModifiedBy>cobregon</cp:lastModifiedBy>
  <dcterms:modified xsi:type="dcterms:W3CDTF">2007-08-21T12:29:14Z</dcterms:modified>
  <cp:revision>334</cp:revision>
  <dc:subject/>
  <dc:title>Plantilla i+d</dc:title>
</cp:coreProperties>
</file>