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161A7-BBEB-4C00-9212-0DFD3DE098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09E3-23B9-4E65-B022-0E44F495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45446-2AD1-42D1-BB44-E7F09E97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11E23-A0B2-4BA8-816F-074CD81B78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6920E-1D6A-4444-B1BF-B6AEC136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E9302-F47F-4024-9E73-1FCE793D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0C939-0E4F-4665-921C-449CE5CF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94C0F-F3F5-499B-AFBC-E90B019F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522AC-0A9F-4D89-9B4D-DA099916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5B058-B8DF-4B70-B230-3D2DDF57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354EC-AD95-4D25-AD12-2A4DFBBD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23FA-9C8F-45E4-AA9C-EB25382B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3942F-BC07-4556-BF87-23C5C432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B6E02-9AA1-4A62-A6CD-9DFBB54D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A052B-ABB7-4D77-8ADA-C2713B11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17A7E-0907-4A3C-A1A6-707FDB04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1198F-0EAB-4085-8144-8E094FDB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92E9-3E3D-4A03-AD17-257DB039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9835D-6279-4D15-809A-C87E8FA6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F6BD-B083-48BA-933B-3896F64B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CE78-FF22-4846-80A4-E98E9064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DD406-5991-4518-BB3A-8C7A9E15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9240-EFA8-4371-998B-F3D3518E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88D7-275B-493B-87B2-3F708194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FBB4-98F4-4464-8977-29058DAE5B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4567320" y="1752480"/>
            <a:ext cx="4576680" cy="413568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0" y="5943600"/>
            <a:ext cx="9144000" cy="380880"/>
          </a:xfrm>
          <a:prstGeom prst="rect">
            <a:avLst/>
          </a:prstGeom>
          <a:gradFill rotWithShape="0">
            <a:gsLst>
              <a:gs pos="0">
                <a:srgbClr val="46465e"/>
              </a:gs>
              <a:gs pos="100000">
                <a:srgbClr val="99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67320" y="1752480"/>
            <a:ext cx="4576680" cy="4135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1690560"/>
            <a:ext cx="7467480" cy="26528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AC95-62E2-407D-B0FA-2D7839C591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20640"/>
            <a:ext cx="2971800" cy="3700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5837760" y="3026160"/>
            <a:ext cx="431640" cy="6164280"/>
          </a:xfrm>
          <a:prstGeom prst="rect">
            <a:avLst/>
          </a:prstGeom>
          <a:gradFill rotWithShape="0">
            <a:gsLst>
              <a:gs pos="0">
                <a:srgbClr val="9e9ece"/>
              </a:gs>
              <a:gs pos="100000">
                <a:srgbClr val="99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87640" y="5445000"/>
            <a:ext cx="6192720" cy="716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4360" y="2492280"/>
          <a:ext cx="7416720" cy="3095640"/>
        </p:xfrm>
        <a:graphic>
          <a:graphicData uri="http://schemas.openxmlformats.org/drawingml/2006/table">
            <a:tbl>
              <a:tblPr/>
              <a:tblGrid>
                <a:gridCol w="639720"/>
                <a:gridCol w="4832280"/>
                <a:gridCol w="194472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trod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egun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nteni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nclus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egun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611280" y="1773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structura típica de una presen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989000"/>
            <a:ext cx="6985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n otras palabr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r, lo que tu vas a deci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rl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luego decir justo lo que intentaste dec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- 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1989000"/>
            <a:ext cx="6985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aludar a la audi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ntroducir los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ar una mirada general a la estructura de la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ar instrucción sobre las pre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- Conten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773360"/>
            <a:ext cx="79200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s la presentación en sí, es importante mostrar dominio y confianza en lo que se d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Cuidar los tiempos, ni rápido, ni l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Conservar la 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Ser enfático y entusia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Mantener contacto visual con toda la audi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Modular la vo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Remarcar los hitos de la presen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Lucir amistoso y político si se abordan temas conflic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- Conclu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1989000"/>
            <a:ext cx="6985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Resumir lo di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ar recomendaciones, si es apropi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gradecer a la audi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nvitar a realizar pre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- Pregu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916280"/>
            <a:ext cx="792000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Buena oportunidad para interactuar con tu audi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eparar las respuestas a posibles pregu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Escuchar atentamente a quién pregunta, mostrar inter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 veces es posible reformular la pregu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 veces puedes responder con otra pregunta o abrir la respuesta a la asambl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– otras recomend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773360"/>
            <a:ext cx="7920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Ensayar la presentación. (6 ve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Actitud de servi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Aprenderse muy bien los primeros dos minu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Usar frases preci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El humor es bienvenido, mantiene el interés de la audi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Si se usa material audiovisual es muy importante chequear con anticipación el funcionamiento de los equi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Saber cuando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arar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de hablar, manejar muy bien el tiempo. Cuidar no ser repeti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08:26:19Z</dcterms:created>
  <dc:creator>Sebastian Depolo</dc:creator>
  <dc:description/>
  <dc:language>en-US</dc:language>
  <cp:lastModifiedBy>cobregon</cp:lastModifiedBy>
  <dcterms:modified xsi:type="dcterms:W3CDTF">2007-08-21T12:29:14Z</dcterms:modified>
  <cp:revision>334</cp:revision>
  <dc:subject/>
  <dc:title>Plantilla i+d</dc:title>
</cp:coreProperties>
</file>