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CCE-38C0-417D-B42A-A4F3E88C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D98-7D9B-417F-A40C-AEFFE83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991-DB1A-4060-890A-94767D22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5F8-DB1A-4CCC-B170-0ECC81B4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C95-6535-42EA-97A7-2E9ED9AF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D03-69B3-41C9-949E-9AFFDF64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6C8-EA5A-45ED-ABAA-DE73B013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1FA-75E5-441D-B225-09D85584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DF1-20D7-4113-BDD4-612B2F0C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BEF-5948-442E-81A0-29D43DE8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8C0-CC31-479E-BEB6-A68516A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3DC-B6BC-4E97-8808-EC729037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CE9C-94CD-4F63-BE2A-81CBACDF7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Contabilidad Gerenc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FINANCI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ADMINISTR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usuarios externos a la empresa:  accionistas, Estado, acreedores, comun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la toma de decisiones internas.  Es usada básicamente por la administ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Registra hechos pas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Centra su punto de atención en la prospección, en el análisis de hechos futu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prepararse teniendo en cuenta Principios de Contabilidad Generalmente Aceptados (PCG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cuenta con principios que reglamenten su preparación y prese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Es obligatoria su prepa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es obligatorio preparar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Uno de sus objetivos es determinar la utilidad ob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objetivo final no es el cálculo de util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abarcar toda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Puede prepararse para segmentos de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preparación no se apoya mucho en otras discipl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e apoya en disciplinas tales como la estadística, economía, investigación de operaciones, finanzas,  entre otr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proporciona información para prepar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externos para inversioni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de rutina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no rutinarios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es un medio de ayuda a la gerencia pa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r y coordinar las actividades o áreas funcionales de las que son respons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4160" y="404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s de Contabilidad: propósitos princi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ama de la contabilidad que analiza cómo se distribuyen los costos que genera una empresa ent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versos productos que fabrica/comercializa o los servicios que ofr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los diferentes departamento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su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lo, se quiere determinar cuál es el costo de cada producto, departamento, o cliente y la rentabilidad que se obtiene de c/u d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 (2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tabilidad de costos perm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en que costos incurre la empresa en cada fase de elaboración de sus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ar las existencias de productos en curso, en proceso y   función de los costos en los que hasta el momento se hayan gen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ctar posibles actividades, productos o clientes en los que la empresa pierde din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ijar los precios de venta conociendo que margen se obtiene de cada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Ga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a reducción del patrimonio, derivada del uso de activos o del incremento de pasivos como parte del proceso de venta de bienes o prestación de servicios a los cl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desembolso que realiza la empresa y que afecta directamente al resultado disminuyendo la uti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j: Remuneraciones de Personal, arrie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crificio de recursos que se hace con la esperanza de obtener algún benefici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general, se mide como el importe monetario que se debe pagar para adquirir bienes y serv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. Uso de 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umo de recursos en el cual el beneficio se obtendrá a lo largo de varios perio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te del gasto no consumido actualmente, pero que lo será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Activo inmovilizado, comput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lida de dinero desde la Caja (Tesorer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Pago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pósito o actividad para la cual se miden en forma separada los cos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n ser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stos se eligen en función de la decisión que se desea tom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 de coste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idera dos etapas básicas: acumulación y asig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cumulación del cos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es la recopilación de información de costos de una forma organizada, mediante un sistema de cont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signación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término general que abar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dentificación de los costos acumulados con un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rrateo de los costos acumulados a un objeto de co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se clasifican en función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lación directa o indirecta con el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veles de actividad o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tario y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tros para la toma de dec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lación directa o indirecta con el 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se relacionan directa o indirectamente con el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aquellos que se relacionan con un objeto de costo en particular y se identifican de una forma económicamente viable (eficaz en cuanto a costos).  Ej. El costo de la lata de una beb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lacionan con el objeto del costo en particular, pero no se identifican con el de una forma económicamente viable (eficaz en cuanto a cost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El costo del personal de control calidad que verifica múlt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os en la embotelladora es un costo indirecto en una 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el términ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rrate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costo se describe la asign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s indirectos al objetivo del costo en partic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Objetivos del curs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lorizar los recursos empleados en la empresa, y las decisiones que pueden ser adoptadas con est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parar planes de negocios, y proyectar la posición financier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r la gestión a nivel organizacional y por centros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Según el comportamiento o nivel de activida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varían con el nivel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variable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cambia en proporción al nivel de actividad o produc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consumo de electricidad en una planta indust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fij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permanece sin cambios (en un cierto rango de actividad relevante) aunque se registren cambios en el grado de actividad o volu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arriendo de un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stos unitario o tota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mporte total de un co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100.000 cuad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uni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calcula al dividir el importe total de un costo por la cantidad de unidades en cu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un cuaderno será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 de fabricación mensual de 100.000 cuadernos / 100.000 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para el Control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puede ser modificado por el responsable de un departamento o se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n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no puede ser modificado por el respon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Otros cos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relev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futuro que será afectado por una decisión a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und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inamovible porque ya se produjo o porque una decisión ya tomada lo hace irremed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incremental – de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yor (menor) costo derivado de la producción de un conjunto adicional de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ir una unidad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istó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que ya se produ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estándar o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preestablecido 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Arial"/>
              </a:rPr>
              <a:t>Costos en la empres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Comercial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pran y venden productos tangibles, sin cambiar su forma bá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tiendas por departamento, distribución, venta por mayo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Servic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porcionan servicios intang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bufetes de abogados, oficinas de contabilidad, compañías de seguros, bancos, empresa de transporte, agencias de publicidad, empresas basadas en Interne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Productivas (Manufactura y Procesos)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dquieren materiales y componentes y los convierten en bienes terminados difer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fábricas de alimentos, textiles, automóv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(insumo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 los costos de adquisición de todos los insumos que se convierten en parte d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no de Ob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cluye la remuneración de la mano de obra que se pueda identificar con 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todos los costos de producción que se consideran parte del objetivo del costo, pero que no se pueden identificar con el objeto de costo en forma económicamente v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invent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de un producto que se consideran un activo cuando se incurre en ellos y después se convierten en un costo de las mercaderías vendidas, al vende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productivas, todos los costos de producción son costos inventariables. Los costos de materias primas directas, de mano de obra directa y los indirectos crean nuevos activos, primero como productos en proceso y después como productos terminad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consiguiente, los costos de producción se incluyen en el trabajo en proceso y en el inventario de bienes terminados (son inventariados) para acumular los costos de crear eso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ando se venden los productos terminados, el costo de las mercaderías vendidas se considera un gasto que se compara con los ingresos provenientes de la ve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del peri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en el estado de resultados menos el costo de las mercaderías vendi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costos se tratan como </a:t>
            </a: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gastos del period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n el que se efectuaron, porque se supone que no beneficiaran a periodos futuros (o no hay evidencia suficiente para concluir que existe benefici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 llevar de inmediato a gastos estos costos, se compara mejor los gastos con los ingre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del sector manufactura, los costos del periodo incluyen todos los que no son de fabricación (costos de I&amp;D, de distribu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Prim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l Material directo más el costo de la mano de obra directa.  Es la suma de los dos principales costos del producto o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 =  MD + M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Convers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 la Mano de Obra Directa más  los costos indirectos de fabricación.  Representan el costo necesario para transformar la materia pr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C =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suma de los tres elementos del costo, es el costo que se carga a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= MD +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 de cos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ción de 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conve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stos y Decisione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álisis Costo – Volumen - Ut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Variables y Margen de Con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Relevantes y Problema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para la Planificación y el Control de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Estándar y Análisis de Desvi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 sumatoria del costo de producción más todos los gastos necesarios para fabrica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T = MD + MOD + CIF + GA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Unitari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final de cada unidad producida, resulta de dividir el costo de producción por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/ UNIDADES PRODUC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o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352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= Materia Prim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ij = Mano de Obra Direct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 = Costo Directo del producto i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MOi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F  = Costos Indirectos de Fabricación (ó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ción de la Empresa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+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l Producto i = CDi +   ai *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lujo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terias Prim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en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Termi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Ini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Consu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C.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P          C. Prod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Pr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Fi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no de Obr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eldos  Distrib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stos Indir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istri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637000"/>
            <a:ext cx="228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284640"/>
            <a:ext cx="205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63700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933720"/>
            <a:ext cx="0" cy="6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22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9337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133720"/>
            <a:ext cx="43200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4149720"/>
            <a:ext cx="5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78100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781360"/>
            <a:ext cx="455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445000"/>
            <a:ext cx="51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3141720"/>
            <a:ext cx="0" cy="23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1417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21337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916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429000"/>
            <a:ext cx="28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1080" y="2133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42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Inventari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s de Materiales direc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materiales directos en existencia, listos para entrar al proceso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en proces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parcialmente elaborados, pero no terminados por comple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terminados por completo pero no vend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4280" y="690480"/>
            <a:ext cx="8218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el año recién terminado se obtuvieron los siguientes da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3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prec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sa de 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ra el caso expuesto se p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terminar el costo de producción y de ventas para el año recién ter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strar los flujos de existencias en las cuenta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feccionar el Estado de Resultados para el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 Costo de Producción y Costo de Ven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materias primas direct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dispon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3.5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iniciales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ductos terminados disponibles para la v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9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8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rgen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antes de impues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agente económico autónomo en sus decisiones, que utiliza insumos o factores productivos para transformarlos en bienes y servicios o en otros insu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incipales factores que ingresan a la empresa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bajo (Mano de Ob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ffff"/>
                </a:solidFill>
                <a:latin typeface="Arial"/>
              </a:rPr>
              <a:t>Las decisiones gerenciales en 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funciones principales de la gerencia se pueden resumir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Planific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isualizar el futuro, decidir los objetivos y trazar programas de acción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Organiz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tegrar dinámica y racionalmente los recursos de una organización, para alcanzar resultados previ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Dirigi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conducir y motivar grupos humanos hacia el logro de objetivos y resultados, con determinados recu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ntro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erificar que los resultados están de acuerdo a lo establec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querimien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una de las funciones requiere, en todo momento, de una adecuada toma de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oma de decisiones debe considerar y basarse, en dos aspectos fundam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cuantitativa y cuali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Rol de la Contabilid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provee </a:t>
            </a: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información cuantita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la que junto con información cualitativa, ayudará a formar un juicio sobre el o los cursos de acción a segu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juega su rol más importante en los campos de la Planificación y 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-119160"/>
          <a:ext cx="9144000" cy="69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9160"/>
                    <a:ext cx="914400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Contabilidad Financiera, Administrativa y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Financier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presentar informes a terc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registra las operaciones de la empresa y proporciona estados financieros basados en los Principios Contables Generalmente Aceptados (PC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Administrativ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o G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la presentación de informes internos e insiste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, que ayuda a los gerentes a tomar decisiones para cumplir las meta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 que se relaciona con el costo de adquirir o consumir recursos por parte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 información a la Contabilidad Administrativa y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1:35:26Z</dcterms:created>
  <dc:creator>IVAN ALVAREZ VALDES</dc:creator>
  <dc:description/>
  <dc:language>en-US</dc:language>
  <cp:lastModifiedBy>Ivan Alvarez</cp:lastModifiedBy>
  <dcterms:modified xsi:type="dcterms:W3CDTF">2007-09-29T23:03:37Z</dcterms:modified>
  <cp:revision>66</cp:revision>
  <dc:subject/>
  <dc:title>Diapositiva 1</dc:title>
</cp:coreProperties>
</file>