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0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s-ES_trad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36520" y="696960"/>
            <a:ext cx="4586400" cy="344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73280"/>
            <a:ext cx="5029200" cy="414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s-ES_trad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s-ES_trad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0FD18-1CA8-49EC-A570-F31308C9B0D7}" type="slidenum"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388584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4307F-396A-4920-AFEE-DD9EDE678DA8}" type="slidenum"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-36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36520" y="696960"/>
            <a:ext cx="4586400" cy="344016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73280"/>
            <a:ext cx="502920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388584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6461B-9441-4F2A-BCFB-6FF5F5A3A6FE}" type="slidenum"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-36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36520" y="696960"/>
            <a:ext cx="4586400" cy="344016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73280"/>
            <a:ext cx="502920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388584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52C60-4CFC-41E6-8040-C879A4AEA2B3}" type="slidenum"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-36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36520" y="696960"/>
            <a:ext cx="4586400" cy="344016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73280"/>
            <a:ext cx="502920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388584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BF8FF-CD09-4F94-A078-CD3EF5A9786E}" type="slidenum"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-36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36520" y="696960"/>
            <a:ext cx="4586400" cy="344016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73280"/>
            <a:ext cx="502920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5C9C-DFE9-496F-AE76-9C9CDA320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4014-7EAE-4D14-83F8-ACE1B3752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09F8-4F22-4C97-A747-51D747921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6090-0218-4F27-B4A7-3BF6616CE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D37E-CE44-4E49-84C8-2F7DF3364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5A0C-456E-4D0D-92E0-7B66481FF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E5BD-423E-4226-861C-FE97E5D7C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9415-C91D-459D-BEF5-4557B2BF4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BCC3-6424-4711-91AD-3224DAB63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3296-626D-4534-A9AB-F8340C7C9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AD68-1F32-42C8-AEDA-A01DCEA32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25CE-7E36-4AFB-B6AD-54E73A092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a3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EF4FE-3C88-498C-9179-D7C11EAB7EA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ahoma"/>
              </a:rPr>
              <a:t>Primera Parte:</a:t>
            </a:r>
            <a:br>
              <a:rPr sz="3600"/>
            </a:br>
            <a:r>
              <a:rPr b="0" lang="es-ES_tradnl" sz="3600" spc="-1" strike="noStrike">
                <a:solidFill>
                  <a:srgbClr val="000000"/>
                </a:solidFill>
                <a:latin typeface="Tahoma"/>
              </a:rPr>
              <a:t>Contabilidad Financiera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Capítulo 10: Análisis Financier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84978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8a3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ormalmente se consideran las siguientes familias de rati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iquidez: Ayudan a evaluar la capacidad de la empresa para pagar oportunamente sus obligaciones de corto plaz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ndeudamiento: Ayudan a evaluar la importancia de la deuda y su estructura como proporción de los recursos totales empleados por la empres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ctividad: Ayudan a evaluar el uso de los activos y las políticas de pago y cob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entabilidad: Miden la ganancia en relación a la invers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8a3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menzaremos viendo los tres primeros grup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534960" y="189000"/>
            <a:ext cx="8136000" cy="90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) Análisis a través de Rati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ios de Liquide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755640" y="1484280"/>
                <a:ext cx="5761080" cy="8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elación de Liquidez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ctivo Circulante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Pasivo Circulante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755640" y="3068640"/>
                <a:ext cx="6624720" cy="90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ueba ácida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ctivo Circulante - Existencia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Pasivo Circulante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684360" y="4508640"/>
                <a:ext cx="830556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bertura de Gastos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día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ctivo Circulante x 36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to de explot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G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de Adm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y Vta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ios de Endeudamiento o solvenc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900000" y="1557360"/>
                <a:ext cx="496908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azón de endeudamiento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asivo Tota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ctivo Tota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900000" y="2997360"/>
                <a:ext cx="496908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azón Deuda/Patrimonio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asivo Tota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Patrimonio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900000" y="4365720"/>
                <a:ext cx="5832720" cy="79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azón Estructura Deuda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asivo Largo Plazo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Pasivo Tota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971640" y="5589720"/>
                <a:ext cx="777708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azón Cobertura de Intereses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esultado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Gastos Financiero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Gastos Financiero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74760" y="333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ios de Activid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755640" y="1341360"/>
                <a:ext cx="6192720" cy="82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otación de existencias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osto de Explotación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Existencia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755640" y="2349360"/>
                <a:ext cx="568944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ías de Existencias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xistencias x 36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to de Explotació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84360" y="3429000"/>
                <a:ext cx="6624360" cy="87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eríodo medio de cobro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uentas por cobrar x 36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Ingreso de la explotació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684360" y="5516640"/>
                <a:ext cx="640872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otación de activos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Ingresos de la explotación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ctivo Tota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684360" y="4437000"/>
                <a:ext cx="755460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eríodo medio de pago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uentas por pagar x 36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to explotación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G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Adm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y Vta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533520" y="1628640"/>
            <a:ext cx="8286480" cy="460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 entiende por rentabilidad la ganancias que produce un activo en relación al monto inverti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a rentabilidad sobre el patrimonio mide las ganancias que reciben los dueños del patrimonio de la empresa en relación a su propia inversión, es deci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p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sultado del Ejerci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atrimon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476280"/>
            <a:ext cx="83516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ción y Análisis de la Renta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68000" y="1483920"/>
            <a:ext cx="8227800" cy="446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a rentabilidad sobre activos, en cambio, mide las ganancias que reciben todos los que tienen intereses en la empresa (pasivo y patrimonio) en relación a los montos invertidos, es deci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a = 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sultado del Ejercicio + Gastos Financie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ctivos Tot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414360"/>
            <a:ext cx="83516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ción y Análisis de la Renta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7805520" cy="60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ción entre Riesgo y Rentabilid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6320" y="1557000"/>
            <a:ext cx="906624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8a3b"/>
              </a:buClr>
              <a:buFont typeface="Times New Roman"/>
              <a:buChar char="•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i hay dos empresas con igual rentabilidad esperada, pero una es más riesgosa que la otra, entonces un inversionista averso al riesgo preferiría la menos riesgo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cenario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Empresa A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Empresa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nt.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Pbb.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nt.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Pbb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0%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0.50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10%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0.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5%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0.25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10%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0.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15%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0.25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30%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0.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(R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0%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sv. Estándar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3.53%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4.1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68360" y="1699920"/>
            <a:ext cx="8424720" cy="453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8a3b"/>
              </a:buClr>
              <a:buFont typeface="Times New Roman"/>
              <a:buChar char="•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 riesgo de un activo se mide por la desviación estándar de los retornos que gener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3b"/>
              </a:buClr>
              <a:buFont typeface="Times New Roman"/>
              <a:buChar char="•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 supuesto básico de las finanzas es que los inversionistas tienen aversión al riesgo. Es decir, si tuvieran que elegir entre las empresas A y B elegirían la A, pues para una misma rentabilidad esperada tiene menos riesg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3b"/>
              </a:buClr>
              <a:buFont typeface="Times New Roman"/>
              <a:buChar char="•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r ello es que los activos más riesgosos tiene mayores rentabilidades esperadas (por ejemplo, acciones versus pagarés del Banco Centr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468360" y="620640"/>
            <a:ext cx="7805520" cy="60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ción entre Riesgo y Rentabilid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364680" y="1701720"/>
            <a:ext cx="8528040" cy="49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entras mayor es el endeudamiento de una empresa, mayor es la rentabilidad del patrimonio y mayor es el riesgo que asumen los accionistas. Esto es lo que se conoce como “Apalancamiento Financiero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ongamos que una empresa tiene activos por 10.000 y su resultado operacional puede ser -1.000, +1.000 o +3.000 con iguales probabilidades. Veamos cómo cambia la rentabilidad del patrimonio y su desviación estándar en función del nivel de endeudamiento. Supondremos que la empresa se endeuda al 5%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49360"/>
            <a:ext cx="8280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ción entre Deuda, Riesgo y Renta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685440" y="2060640"/>
            <a:ext cx="8134200" cy="100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o 1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trimonio = 1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uda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08000" y="3314880"/>
            <a:ext cx="8893080" cy="23461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95280" y="549360"/>
            <a:ext cx="8280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ción entre Deuda, Riesgo y Renta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8046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8a3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l analizar los estados financieros de una empresa se busca evaluar tanto el desempeño económica como el desempeño financier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3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l análisis de los estados financieros es de interés tanto para la administración de una empresa como para agentes externos a ell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dministración: En qué medida se están cumpliendo los objetivos traz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gentes Externos: Bancos y acreedores (evaluar la capacidad de pago); y accionistas (rentabilidad versus riesg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685440" y="1980720"/>
            <a:ext cx="7846920" cy="101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o 2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trimonio = 9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uda = 1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08000" y="3141720"/>
            <a:ext cx="9036000" cy="23828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395280" y="549360"/>
            <a:ext cx="8280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ción entre Deuda, Riesgo y Renta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685800" y="2125440"/>
            <a:ext cx="8207280" cy="94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o 3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trimonio = 5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uda = 5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71280" y="3500280"/>
            <a:ext cx="8893440" cy="23450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95280" y="549360"/>
            <a:ext cx="8280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ción entre Deuda, Riesgo y Renta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8207280" cy="9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o 4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trimonio = 1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uda = 9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79280" y="3549600"/>
            <a:ext cx="8821800" cy="23274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95280" y="549360"/>
            <a:ext cx="8280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ción entre Deuda, Riesgo y Renta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364680" y="1773000"/>
            <a:ext cx="8528040" cy="440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a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 = Patrimonio; D = Deuda; U = Utilidad del ejercicio; Rd = tasa de interés de la deu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a = (Utilidad + Intereses)/(Activo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a = (Rp*P + Rd*D)/(D+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a = Rp*P/(D+P) + Rd*D/(P+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p = Ra + (Ra -Rd)*D/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 decir, a mayor deuda mayor rentabilidad del patrimonio, siempre que Ra &gt; 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95280" y="549360"/>
            <a:ext cx="8280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ción entre Deuda, Riesgo y Renta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395280" y="1841040"/>
            <a:ext cx="8353440" cy="468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clusion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3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rentabilidad del patrimonio está influenciada por la política de financiamiento de la empre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3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rentabilidad de los activos es una medida de eficiencia, y es independiente de cómo se financian los activ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3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ando una empresa se endeuda aumenta la rentabilidad esperada de los accionistas, pero también aumenta el riesg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95280" y="549360"/>
            <a:ext cx="8280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ción entre Deuda, Riesgo y Renta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ios de Rentabilid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324000" y="1268280"/>
                <a:ext cx="734364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entab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sobre Activos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ROA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AI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ctivos Totale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395280" y="3419640"/>
                <a:ext cx="7775640" cy="87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entab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sobre Activos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ROA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AI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Ventas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Venta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ctivos Totale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374760" y="2540160"/>
            <a:ext cx="76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(RAII: Resultado antes de impuestos e interes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468360" y="4992840"/>
                <a:ext cx="813600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entab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sobre Activos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RO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argen Explotación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Rotación Activo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 flipH="1">
            <a:off x="4858920" y="4292640"/>
            <a:ext cx="289080" cy="6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093080" y="4365720"/>
            <a:ext cx="35856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ios de Rentabilid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539640" y="1484280"/>
                <a:ext cx="7128000" cy="98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entab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sobre Patrimonio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ROE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esultado 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Patrimonio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1187280" y="2852640"/>
                <a:ext cx="6446880" cy="97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OE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esultado 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Ventas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Venta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ctivos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ctivo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Patrimonio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539640" y="4734000"/>
                <a:ext cx="799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OE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argen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Rotación Activos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Apalancamiento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0" name=""/>
          <p:cNvSpPr/>
          <p:nvPr/>
        </p:nvSpPr>
        <p:spPr>
          <a:xfrm flipH="1">
            <a:off x="2339640" y="3933720"/>
            <a:ext cx="86364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4643280" y="3860640"/>
            <a:ext cx="14472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32720" y="3860640"/>
            <a:ext cx="287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BITD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53416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8a3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BITDA (Earnings Before Interest, taxes, depreciation and amortization) = 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Resultado Operacional + Depreciación del Ejerci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8a3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s una estimación de la caja generada por las actividades operacionales (del gir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8a3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e suele construir razones usando el EBITD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BITDA / Ac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BITDA / Ven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BITDA / Gastos Financie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7630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mitaciones del uso de razones financiera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9640" y="2122560"/>
            <a:ext cx="84153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5120" indent="-195120">
              <a:lnSpc>
                <a:spcPct val="90000"/>
              </a:lnSpc>
              <a:spcBef>
                <a:spcPts val="700"/>
              </a:spcBef>
              <a:buClr>
                <a:srgbClr val="ff8a3b"/>
              </a:buClr>
              <a:buFont typeface="Times New Roman"/>
              <a:buChar char="•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ólo usa información con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5120" indent="-195120">
              <a:lnSpc>
                <a:spcPct val="90000"/>
              </a:lnSpc>
              <a:spcBef>
                <a:spcPts val="700"/>
              </a:spcBef>
              <a:buClr>
                <a:srgbClr val="ff8a3b"/>
              </a:buClr>
              <a:buFont typeface="Times New Roman"/>
              <a:buChar char="•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siempre los valores contables reflejan valores de mercado. Es bueno complementar el análisis con información com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282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% de cuentas por cobrar que es recuper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282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ál es el estado de las existenc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282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ál es el valor de mercado de los activos fij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5120" indent="-195120">
              <a:lnSpc>
                <a:spcPct val="90000"/>
              </a:lnSpc>
              <a:spcBef>
                <a:spcPts val="700"/>
              </a:spcBef>
              <a:buClr>
                <a:srgbClr val="ff8a3b"/>
              </a:buClr>
              <a:buFont typeface="Times New Roman"/>
              <a:buChar char="•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iliza datos históricos. Es bueno complementarlo con información que permita proyect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álisis Patrimon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1484280"/>
            <a:ext cx="8439120" cy="518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8a3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rresponde al análisis de los valores que muestra el Balance Gener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8a3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 busca evaluar aspectos tales com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tuación de liquidez o capacidad de pa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idad y cantidad del endeuda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pitaliz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stión de los activ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8a3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s técnicas de análisis más comunes son el análisis estático, el análisis dinámico y el análisis de rati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99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) Análisis Patrimonial Estátic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414440"/>
            <a:ext cx="8439120" cy="518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8a3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un año determinado, se calcula qué porcentaje representa cada grupo patrimonial del total del activ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8a3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analizan sólo las grandes agrupaciones de los activos y pasiv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8a3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mite una visión general de la composición de activos y la estructura de financiamien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maño del activo circulante en relación al pasivo circula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ación entre capital propio y deu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ación entre activos fijos y financiamiento de largo plaz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24000" y="1197000"/>
            <a:ext cx="8640720" cy="25034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57200" y="189000"/>
            <a:ext cx="82296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) Análisis Patrimonial Está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4000" y="3963960"/>
            <a:ext cx="8640720" cy="25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99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) Análisis Patrimonial Dinámic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4000" y="1628280"/>
            <a:ext cx="7848360" cy="424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8a3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analiza la evolución de los principales grupos patrimoniales a través de los añ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3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mite una visión general los cambios de tendencias en cuanto a la composición de activos y la estructura de financiamien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3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mente se analiza la evolución en unidades monetarias, en porcentaje respecto al total de activos y en crecimien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68360" y="260280"/>
            <a:ext cx="8229600" cy="9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) Análisis Patrimonial Dinám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908000" y="1413000"/>
            <a:ext cx="5977080" cy="49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68360" y="260280"/>
            <a:ext cx="8229600" cy="9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) Análisis Patrimonial Dinám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692360" y="1395360"/>
            <a:ext cx="604836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99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) Análisis a través de Rati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294760" cy="525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8a3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onsiste en la comparación de ratios o razones calculadas a partir de los valores de los estados financier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3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upongamos que una empresa tiene una rentabilidad de 10%. ¿Es esto bueno o mal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3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ara poder responder esa pregunta se debe usar Patrones de Comparaci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bjetivos o estándares de la empre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volución histó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romedios sectori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atios de los competidores dir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Soporte Técnico</dc:creator>
  <dc:description/>
  <dc:language>en-US</dc:language>
  <cp:lastModifiedBy>Michel</cp:lastModifiedBy>
  <cp:lastPrinted>1999-03-18T21:04:13Z</cp:lastPrinted>
  <dcterms:modified xsi:type="dcterms:W3CDTF">2007-09-10T23:46:59Z</dcterms:modified>
  <cp:revision>14</cp:revision>
  <dc:subject/>
  <dc:title>Análisis Financiero</dc:title>
</cp:coreProperties>
</file>