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62C-1B3C-4F86-996E-76FEB942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215-885B-4BB5-BA91-EFADFAA8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387B-EC00-4B46-AB99-9B52DE65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D41-814D-4F88-A7CC-B3464ECE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E69D-E235-4DBC-8647-AEC76FBA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55F2-1F9E-4B12-BBA3-15F7B6F0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BB55-3834-4939-B085-A9B3D2EB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E2F5-771F-42B6-B0A5-CC1830E0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06EC-7844-4036-816A-09DE1095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404F-DEB7-4969-B239-CF4E7255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9847-D09F-4BCD-B65F-819A912C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679-D2C0-4F30-88F1-1EFC928E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020E-BF4B-4ED5-BF7B-AB464123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210F-8AF2-4D81-A10F-C4E92B10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A65C-324F-4A21-82D0-C37FBC01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4BFC-9D50-4AB5-8590-F695B792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B005-F519-401D-865F-6D5D46C0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0A32-D859-44FA-A17E-568324C6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DF3-B002-4D77-8773-CAF1AC17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65B-E2D0-49B1-8ADC-52AB3B2C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E79-D226-4394-87B5-EA015346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30A-A877-426E-A51B-FDDD0C58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6FA-AB92-4B1E-AB46-EFE0D55D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F9F3-0426-4657-B291-00DA60AD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0822-41D9-4DBF-922A-C57924953598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C439-5067-4DB8-ABE0-4140793649E8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12544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mera Part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bilidad Financie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38541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ítulo 8: Corrección Monet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960" y="2266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Inicial Actualizado = 1000*1.1  =   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Final Actualizado   = 1000*1.1 + 10 = 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  =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22590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225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225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8684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259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33256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43164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549360"/>
            <a:ext cx="77932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jemplo 2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 ahora el activo está formado por un terr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53840" y="2205000"/>
            <a:ext cx="65358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lance Final Corregido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332856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rimonio Inici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3405240"/>
            <a:ext cx="792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44719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53452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4216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Ejemplo 3: ahora hay una deuda reajustable (en UF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320" y="2033280"/>
            <a:ext cx="8991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Inicial Actualizado = 1000*1.1          =   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Final Actualizado   = 1510 - 500*1,1 =     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=   (14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203364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203364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302436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1880" y="203364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355752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508176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188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03364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960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3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canismo de la Corrección Monetar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alorizar el Patrimonio Ini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alorizar el Patrimonio Final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Revalorizables (No Monetari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sivos Revalorizables (No Monetari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vos no monetario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6880" y="17892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án auto protegidos de la Inflació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u valor real permanece constante en el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pósitos a Plazo Reajust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Intangibles, Ac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tas.por Cobrar Reajus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asivos no monetario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7920" y="1941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án auto protegidos de la Inflació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u valor real permanece constante en el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en U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pactadas en moneda extranjer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alquier deuda pactada con cláusula de reajustabil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amortiza en pesos y luego se hace C.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227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vos y Pasivos monetario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69720" y="212256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on aquellos pasivos y activos cuyo valor nominal permanece constante, pero no el re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spon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no reajus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5240" y="761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ses de la Corrección Monet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el Capital Inicial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P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Aportes y Retiros de Capit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Activos No Mone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Pasivos No Mone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es de correc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974600"/>
            <a:ext cx="870408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IPC,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se usa para corregi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Intang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Costo de Reposición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el valor de las exist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define como el valor de la última unidad compr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fines tributarios se considera el precio más alto pagado en el ejerci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01400" y="585360"/>
            <a:ext cx="70866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es de correc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280" y="2252160"/>
            <a:ext cx="8763120" cy="398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Variación Tipo de Cambi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las deudas o depósitos pactados en moneda extranje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Cláusulas de Reajustabilidad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 Según como se haya establecido o pact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deudas o depósitos pactados con las respectivas cláusula (la más usual es la Unidad de Fomento (UF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¿Qué es la Corrección Monetaria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2205000"/>
            <a:ext cx="807876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un mecanismo para reflejar en los estados financieros la pérdida de poder adquisitivo de la mone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34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243180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empresa tiene los siguientes estados financieros a fines del ejercicio de 200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IVO Y PATRIMON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lig. en M.Extran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ores por V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tas.por Pag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y Reserv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tal A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3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tal Pas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3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99640" y="41400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3240" y="1893600"/>
            <a:ext cx="7772400" cy="46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greso por Vent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5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de Adm.y Vtas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3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tilidad de Ejercic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560" y="217188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emás, se tiene la siguiente inform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C a Noviembre de 2001 =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C a Noviembre de 2002 = 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ción tipo de cambi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3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2152800"/>
            <a:ext cx="8686800" cy="43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Capital Inicial (como IPC de diciembre se conoce en Enero, se usa el de noviembr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PC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2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  1= 2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 Revaloriz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000*1.25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00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41400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210456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alorización Activos No Monet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Revalorizad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500*1.25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 Revaloriz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96*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280" y="556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202896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alorización Pasivos No Mone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M.E. Revaloriz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600* 1.3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M.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imonio Final Revalorizado : (Activo- Pasiv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+ 900 + 960 + 625- 780 - 400 = 140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el Patrimonio Inicial Revalorizado es 1250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5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1973160"/>
            <a:ext cx="845172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ientos de Corrección Moneta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uda M.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41400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2228760"/>
            <a:ext cx="5305320" cy="4368960"/>
          </a:xfrm>
          <a:prstGeom prst="rect">
            <a:avLst/>
          </a:prstGeom>
          <a:noFill/>
          <a:ln w="507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 Corregi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Adm. y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0000" y="41400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22669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alance Corregid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IVO Y PATRIMON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lig. en M.E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ores por Vta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tas. por Pag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6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y Reserv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625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155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58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58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ongamos una economía donde existe un único bien (manzanas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o período 0 :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0$/un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o período 1 :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1$/un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onces, inflación = 10%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una persona dispone de $1000, y tiene la alternativa de depositar al 20%, la utilidad que obtendrá será la siguien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6920" y="2168640"/>
            <a:ext cx="8839080" cy="4356000"/>
          </a:xfrm>
          <a:prstGeom prst="rect">
            <a:avLst/>
          </a:prstGeom>
          <a:noFill/>
          <a:ln w="127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MANZ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09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9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NOM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0 - 1000 =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 $ de cada añ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,09*11 = 1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 $ del año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62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calcular la utilidad real obtenida en un depósito, lo que hacemos es comparar el dinero obtenido a la fecha del vencimiento con el capital depositado originalmente, pero actualizado según la variación del Índice de Precios al Consumidor (IPC), es deci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tilidad real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= 1200 – 1000*(1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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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1200 – 1000*1,1 =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840" y="33300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2 Inflación y Estados Financie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5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as de la inflació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orsiona Valor de Activos y Pas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orsiona Relación entre Ingresos y Gas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ción Monet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pagar impuestos sobre utilidades re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comparar estados financieros de distintos perío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206028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determinar la utilidad real en una empresa, es decir, con corrección monetaria, se aplica un procedimiento conceptualmente similar a cuando se obtiene la utilidad real de un depósito bancario (ejemplo anterio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tonces, se debe comparar el patrimonio inicial actualizado con el patrimonio final, también actualiz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969840" y="33300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2 Inflación y Estados Financie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7920" y="195228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puesto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flación 1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utilidad es producto de una prestación de servicios que se paga al con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8488440" y="25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644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63600" y="2529000"/>
            <a:ext cx="63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63600" y="25034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63600" y="2960640"/>
            <a:ext cx="63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06800" y="25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3600" y="3537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163600" y="454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636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068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150560" y="366480"/>
            <a:ext cx="7792920" cy="11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jemplo 1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 empresa cuyo único activo es caja y no tiene pasiv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2075040"/>
            <a:ext cx="8839440" cy="42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Utilidad Nominal  =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onio Inicial Actualizado = 1000*1.1=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onio Final Actualizado (Act. - Pas.) = 1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  = (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Balance Final Correg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érdida del ej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(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181480"/>
            <a:ext cx="71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62485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cp:keywords/>
  <dc:language>en-US</dc:language>
  <cp:lastModifiedBy>Michel</cp:lastModifiedBy>
  <cp:lastPrinted>1999-03-18T21:02:27Z</cp:lastPrinted>
  <dcterms:modified xsi:type="dcterms:W3CDTF">2007-08-28T02:00:45Z</dcterms:modified>
  <cp:revision>23</cp:revision>
  <dc:subject/>
  <dc:title>Primera Parte: Contabilidad Financiera</dc:title>
</cp:coreProperties>
</file>