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4B5F-9171-4D6E-B704-7F9BB021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71F-7243-4FF9-9C85-A379FC9A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32C-A079-4DA1-82EC-961C2D9F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81C-4965-47BE-BA39-C8C2BCF0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A84-A1A9-439F-B6F0-988B182E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F44-F9D1-4157-B070-B0651ED0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0FA-11D2-4A4F-89FF-145AC6C9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D88-586D-44BD-B2F9-A7A0D03A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F29-3DC2-4D29-A2A9-0A6CF431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11A-02D3-4921-AA25-4E3FD424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20A-D5C9-4246-BCC1-4F7E6E2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5EE-FD3C-4385-B5B0-0671B59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E62B-6BF6-469A-8F71-DBB55763DD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393372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6: Patrimon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1557000"/>
            <a:ext cx="881676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Juan Pérez y Oscar González crean un sociedad de responsabilidad ltda., cada uno se compromete a aportar $1.000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Pér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. Gonzál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682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es Anónim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istingue entre capital Autorizado, Suscrito y Pa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ado: Aquel que figura en el estatuto y que se estima suficiente para el desenvolvimiento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crito: Parte del capital autorizado que los accionistas se comprometen a a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do: Monto de las suscripciones efectivamente pag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onstituye una  S.A. por un capital de mm$10, el que se divide en 100.000 acciones a $100 c/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accionistas suscriben 80.000 ac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504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773360"/>
            <a:ext cx="829476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agan las acciones suscrit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m$ 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557000"/>
            <a:ext cx="891540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miembro tiene una cuenta particular, que se carga con los retiros a cuenta de la utilidad del ejercicio y se abona con las utilidades distribu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r. Pérez retira $10.000 a cuenta de la utilidad del ejerc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Pérez Cta. 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2640"/>
            <a:ext cx="8839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 final del Ejercicio se tienen utilidades $300.000 y se decide capitalizar el 50%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Pér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.Gonzál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s (Patrimoni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Cuenta Particular tiene saldo deudor, representa un activo de la empresa. En caso contrario, refleja un pas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3073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Anó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revalorización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breprecio en venta de accione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mayor valor retasación técnica act.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Rete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futuros divide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 (pérdida) del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os provisorios (me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844640"/>
            <a:ext cx="881244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videndos por Pagar (P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Acumulada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773000"/>
            <a:ext cx="8915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ciden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es Negoc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760" y="1844640"/>
            <a:ext cx="88869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n 500.000 acciones de pagos a un valor libro de $1.2 por acción. Se colocan obteniendo $650.000. El costo de la colocación fue de $15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3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 Financie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Pagad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bre Precio Vta. Acciones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1704960" y="226044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4960" y="614664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40040" y="2647800"/>
            <a:ext cx="2958840" cy="10540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goci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1120" y="3943440"/>
            <a:ext cx="2577960" cy="9014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c.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35720" y="5086440"/>
            <a:ext cx="1892160" cy="825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480" y="1865160"/>
            <a:ext cx="14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66800" y="62848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gocio Individ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in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solo propietario, persona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uno juríd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entidades diferentes contabl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de Perso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formada voluntariamente por  dos o más personas, naturales o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ciedad es una entidad individual diferente de las actividades de cada socio. Es una persona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socio es responsable de las deudas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nforman para actividades comerciales, oficinas de profesionales y empresas medi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8207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Creada por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ietarios se identifican como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orma por la reunión de un fondo común o aporte de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 tienen responsabilidad limitada al monto de sus apo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dministra por un directorio que delega parte de sus funciones en el Gerente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s un contrato en que dos o más personas estipulan poner algo en común con la mira de repartir entre sí los beneficios que de ello provengan. (Código Civi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4581360"/>
            <a:ext cx="7488000" cy="945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 una persona jurídica distinta de los socios individualmente consid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 Juríd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sona ficticia, que puede adquirir derechos y contraer obligaciones, y es susceptible de ser representada y de actuar por sí en la vida de los negocios como una persona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19440" y="2041560"/>
            <a:ext cx="29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A JUR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14360" y="3108240"/>
            <a:ext cx="206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70160" y="3108240"/>
            <a:ext cx="21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7200" y="4403880"/>
            <a:ext cx="167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 F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5800" y="4403880"/>
            <a:ext cx="222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 FI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920" y="5851440"/>
            <a:ext cx="27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46000" y="5851440"/>
            <a:ext cx="231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7844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73320" y="289548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7332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724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09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97200" y="41148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720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8340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4492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6120" y="5562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61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546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sociedades con fines de luc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individual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col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Anó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en comand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cp:keywords/>
  <dc:language>en-US</dc:language>
  <cp:lastModifiedBy>Michael Jorratt De Luis</cp:lastModifiedBy>
  <cp:lastPrinted>1999-03-18T21:00:01Z</cp:lastPrinted>
  <dcterms:modified xsi:type="dcterms:W3CDTF">2007-03-19T03:47:50Z</dcterms:modified>
  <cp:revision>10</cp:revision>
  <dc:subject/>
  <dc:title>Patrimonio CONTABILIDAD Y CONTROL DE GESTION</dc:title>
</cp:coreProperties>
</file>