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968D-BF8E-464B-B800-A382C5F44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0217-291C-4415-9402-6EBBAA85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7161-701C-4822-BC12-2EF3BE302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787C-ADCF-499B-A29C-3E780EBB4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3241-76EA-4BB1-B958-352D30FD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922E-BD01-4B1F-AC28-ED6BA845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DB0F-2952-4CE6-9BD0-413156AE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CDFB-06E4-44D1-A474-8A55B6F7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5B1A-DA9E-49FF-8F61-D7C9C152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C0E6-08BB-4931-A084-85A4AECD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61D9-A05C-49FC-8205-C1C69040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0092-0E6C-4838-BCC0-B22C9741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3632-E7B6-4728-A095-C15C3A4E777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5400" y="195228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tabilidad Financier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4005360"/>
            <a:ext cx="8229600" cy="103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ítulo 5: Pas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5.3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as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628280"/>
            <a:ext cx="8515080" cy="47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: Es un contrato de arrendamiento con opción de comp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empresa solicita a otra (la empresa de leasing) que adquiera un determinado bien para dárselo simultáneamente en arrend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contrato establece el pago de una cuota de arrendamiento por un cierto lap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 final de ese lapso el arrendatario tiene 3 op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volver el b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guir arrendándo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gar la opción y quedarse con el b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5.3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as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77336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zación Financie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ctiv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as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 en leasing 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ones en Leas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eses Diferid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Presente de las cuotas de arrend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atoria de las cuo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és que generará el contrato durante su vigencia, es decir (2) -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941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compra una camioneta vía leasing. El contrato establece el pago de 6 cuotas iguales de m$ 1.000, las que incluyen un interés mensual del 1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P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.01)    (1.0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.0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(1.0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1.0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1.0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P = 5.795,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és Diferido = 6.000 - 5.795,5 = 204,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Registro Inici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Debe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Hab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ctivo Fijo en leasing (A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.795,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rés Diferido (CP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204,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bligaciones por Leasing (P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6.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Al primer m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bligaciones por leas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57,9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rés Diferid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57,9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81880" cy="470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Qué parte de la cuota mensual corresponde a interés y cuánto a capit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pital por amortiza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eré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795,4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57,9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42,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853,4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48,5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51,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901,9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39,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60,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940,9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29,4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70,5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970,4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19,7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80,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990,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9,9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90,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0,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5.3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as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76276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zación Tributa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cuota del leasing es un gasto. Sólo se registra como activo la última cuota (opción), la cual se depre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b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ota contrato de leas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gasto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9800" y="5565600"/>
            <a:ext cx="7719840" cy="94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onces, la ventaja fundamental del leasing es tribut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AS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60120" y="1600200"/>
            <a:ext cx="749916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8a63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ales rubros del pas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63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ligaciones con el públ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63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5.1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incipales Rubros del Pasiv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58920" y="1485720"/>
            <a:ext cx="853416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ones con bancos e instituciones financie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ones con el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ndos por pa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entas por pagar, Documentos por pagar y Acreedores v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s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e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uesto a la r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gresos percibidos por adelan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uestos difer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8483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ligaciones con el Público: Bon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65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de emisión: Monto que se pagará al tenedor del 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a de emisión: Tasa de interés que se deveng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Par: Capital no amortizado más intereses devengados y no pag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de mercado: Precio al que se transa el bono (en función de la tasa de interés de merc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pón: Pago parcial del bono, que puede incluir amortización del capital y/o intere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4728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155680"/>
            <a:ext cx="8610480" cy="386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emite una serie de bonos a 5 años plazo con valor de emisión de mm$700 y tasa de emisión de 6,5%. Anualmente se amortizará la quinta parte del valor de emisión y se pagarán los intereses devengados.  Como la tasa de interés de mercado es de 7,2%, el bono se transó en mm $687,46. Los gastos de colocación alcanzaron a mm$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4728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660400"/>
            <a:ext cx="8610480" cy="328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 (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82,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financieros (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5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és diferido (C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12,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ón con el público (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90400"/>
            <a:ext cx="8229600" cy="7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54240"/>
            <a:ext cx="8610480" cy="41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er cupón (pago de capital e interese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ón con el público (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0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financieros (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45,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financieros (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2,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 (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5,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és diferido (C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2,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23440"/>
            <a:ext cx="748368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136000" cy="40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mite una serie de bonos a 5 años plazo con valor de emisión de mm$ 700 y tasa de emisión de 7,5%. Anualmente se amortizará la quinta parte del valor de emisión y se pagarán los intereses devengados. Como la tasa de interés de mercado era de 6,8%, el bono se transó en mm$712,65. Los gastos de colocación alcanzaron a mm$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665280"/>
            <a:ext cx="7483680" cy="71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2491920"/>
            <a:ext cx="8839440" cy="299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 (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07,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financieros (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5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greso Financiero (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12,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ón con el público (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00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1:18:56Z</dcterms:created>
  <dc:creator>Michael Jorratt</dc:creator>
  <dc:description/>
  <cp:keywords/>
  <dc:language>en-US</dc:language>
  <cp:lastModifiedBy>Michael Jorratt De Luis</cp:lastModifiedBy>
  <cp:lastPrinted>1999-03-18T20:56:04Z</cp:lastPrinted>
  <dcterms:modified xsi:type="dcterms:W3CDTF">2007-03-19T03:28:43Z</dcterms:modified>
  <cp:revision>10</cp:revision>
  <dc:subject/>
  <dc:title>Primera Parte: Contabilidad Financiera</dc:title>
</cp:coreProperties>
</file>