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0393-0D5C-4F69-BBA1-22B5BEE19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E379-74E7-4502-9684-E821EF4ED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4DD1-85B5-4FB7-B23E-1296E9D73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CAD1-BB71-461A-8404-00980FAA9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E49F-3C96-41A3-9EB0-E6043ABFC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F215-A76C-421B-BE1A-46292FF37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2EA2-437C-4CD2-8102-A34006C40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AB91-C87D-4A78-A25A-38A7F1694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833B-1159-459F-B82E-89E82540E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9391-0593-407B-8BD5-8A4A8FC8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096D-73C3-477E-A07C-76AD5BC0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1DBD-CEE9-4483-8F76-4467B440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5BD03-E087-4BCF-9D26-683440A083B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560" y="2060280"/>
            <a:ext cx="7086600" cy="147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rimera Parte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ontabilidad Financier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7560" y="3716280"/>
            <a:ext cx="6994440" cy="101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ítulo 4: Activ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04560" y="188748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uenta complementaria del activo (CA): Cuenta que se comporta como un pasivo pero que se presenta en el balance general como un activo negativo, rebajando al activo que complemen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Cuentas por Cobra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822240" y="4041720"/>
            <a:ext cx="79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Deudores por ventas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4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Provisiones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Book Antiqua"/>
              </a:rPr>
              <a:t>(2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Deudores por ventas (neto)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4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04560" y="205560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upóngase que se logran recuperar $1.000 de la deuda previamente castig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Cuentas por Cobra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304632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Debe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Ha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Disponible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Ingresos fuera de la explotación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1360" y="5003640"/>
            <a:ext cx="816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Book Antiqua"/>
              </a:rPr>
              <a:t>Las normas tributarias permiten rebajar como gasto los castigos, pero no las provis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1280" y="342720"/>
            <a:ext cx="7999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aloración de Existencia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741760"/>
            <a:ext cx="8207280" cy="349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A PERIODICO: Se cierra el negocio cada cierto tiempo, se cuentan las unidades físicas y se valoriz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A PERPETUO: La cuenta existencias se mantiene permanentemente al dí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1628640"/>
            <a:ext cx="8001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stemas de Inventar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istema Periódic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"/>
          <p:cNvSpPr/>
          <p:nvPr/>
        </p:nvSpPr>
        <p:spPr>
          <a:xfrm>
            <a:off x="974880" y="1989000"/>
            <a:ext cx="6910200" cy="20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ventario inicia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Compras del Período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30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rcadería Disponibl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400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Inventario Final         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800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sto de Explotació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32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1280" y="4408560"/>
            <a:ext cx="80978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utiliza una cuenta transitoria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Mercaderí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que se carga con el inventario inicial y las compras (al costo) y se abona con la ventas (a precio de ven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 se detectan robos ni mermas de mercader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istema Perpetu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 vender mercadería se reduce la cuenta mercadería y se aumenta la cuenta costo de ven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reconoce el Costo de Venta cada vez que ocurre una ven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ere poder asociar cada venta con la mercaderí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98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étodos de Contabilización de Inventari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ongamos que una empresa ha realizado las siguientes compras de mercaderí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1.0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unidades a $10 cada 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8.0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 unidades a $11 cada 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el 10.04 vende dos unidades ¿Cuál es el costo de venta? ¿$20, $22, el promedio ponderado, 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744480" y="1941120"/>
            <a:ext cx="80755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étodo de l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dades Específic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istro Permanente que permite Identificar cuál es el Costo de Adquisición de Cada Unidad Vendi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usa con volúmenes de venta pequeñ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usa para activos de alto valor unitar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95440" y="404640"/>
            <a:ext cx="8440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898560" indent="-89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étodos de Contabilización de Inventar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99520" y="1483920"/>
            <a:ext cx="866484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étodo de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sto Promedio Ponderad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valor del Inventario se calcula aplicando a cada artículo en existencias el costo de adquisición promedio ponderado, incluyendo el costo de adquisición de las existencias inici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da vez que ocurre una compra se calcula un nuevo promed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P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*10  +5*11)/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0,6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de ven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*10,62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1,2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istenci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*10,62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3,75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590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98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étodos de Contabilización de Inventar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94920" y="1699920"/>
            <a:ext cx="80629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 Método FIFO (o PEP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uesto: La mercadería que primero entra al inventario es la que primero se ven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mercadería vendida se valora al costo más antiguo, y el inventario queda valorado al costo de adquisición más rec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de Vent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*1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istenci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 + 5*1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6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90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98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étodos de Contabilización de Inventar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5800" y="1628280"/>
            <a:ext cx="7772400" cy="38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étodo LIFO (o UEP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uesto: La mercadería que ingresó al último es la primera que se ven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mercadería vendida se valora al costo de adquisición más reciente, y las existencias se valoran al costo más antigu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de Ven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*1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istenci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*11 + 3*10 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805360"/>
            <a:ext cx="8064360" cy="82404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BUTARIAMENTE SE ACEPTA FIFO Y CP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590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98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étodos de Contabilización de Inventar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CTIV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oración de Ac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entas por Cobr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étodos de Valoración de Exist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os Fij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os Financie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85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351640" cy="136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tiene un Inventario Inicial de 300 unidades a $0,95 c/u. Las compras y ventas del período son las siguie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476360" y="2457360"/>
            <a:ext cx="6408720" cy="42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Inventario Fís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95280" y="2362320"/>
            <a:ext cx="828036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 Sistema Periódico y FIF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= 250*1,12+80*1,1 = 36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 = 300*0,95=28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ras = 1.0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onible para la venta (DV) = II + Compras = 285 + 1.015 = 1.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de Venta = DV – IF = 1300 - 368 = 9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24000" y="1730520"/>
            <a:ext cx="7772400" cy="249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= 300*0,95+30*1,0 = 3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V = II + Compras = 1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de ventas = DV – IF = 1300- 315 = 98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 Sistema Periódico y LIF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468360" y="3933720"/>
            <a:ext cx="8136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o los precios suben, el costo de ventas con LIFO es mayor que con FIFO. A su vez, el valor de las existencias con LIFO es menor que con FIF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04920" y="219384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PP =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300*0,95+10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,04 $/un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0+9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or IF = 330*1,04 = 343,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V = II + Compras = 1.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de Venta = DV – IF = 1300 – 343,2 =  956,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 Sistema Periódico y CPP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 Sistema Perpetuo y FIF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5280" y="2319480"/>
            <a:ext cx="8497800" cy="309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 Sistema Perpetuo y LIF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50920" y="2395440"/>
            <a:ext cx="8569080" cy="312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 Sistema Perpetuo y CPP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44360" y="2414520"/>
            <a:ext cx="8820360" cy="30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ME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o de Vent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stem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F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P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iódic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3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8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5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petu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3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4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3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ntario Fin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stem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F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P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iódic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4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petu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5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96840" y="2924280"/>
            <a:ext cx="739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01880" y="5589720"/>
            <a:ext cx="731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5840" y="3933720"/>
            <a:ext cx="754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01880" y="6597720"/>
            <a:ext cx="731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2360" y="475920"/>
            <a:ext cx="80647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ctivos Fijos o de Largo Plaz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f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Todo bien o derecho obtenido con el propósito de emplearlo en la explotación, representativo de un potencial de servicio utilizable durante un período, que en general trasciende un ejercicio con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Activos Físicos (o tangibles):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errenos, construcciones y obras de ingeniería, maquinarias y equipo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Activos Intangibles: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tentes, marcas comerciales, derechos de llave, licencias o franquicia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3427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aloración de Activ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699920"/>
            <a:ext cx="85881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isten 3 métodos para valorar activ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oración al Co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ntaja: Información objetiva y verific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ventaja: No necesariamente coincide con valor de merc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or de Mercado (o de Reemplaz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ntaja: Es el Valor Real del Ac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ventaja: No siempre es objetivo, no es único y no todos los activos se transan en el merc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7680" y="404640"/>
            <a:ext cx="792468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4.1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ctivos Físic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449280" y="1700280"/>
            <a:ext cx="8299440" cy="45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aloración: Al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costo de adquisición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, que comprende el precio del activo más los gastos conex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astos Conexos: Transporte, instalaciones, comisiones, gastos notariale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lgunos activos de bajo valor relativo se registran directamente como gastos (ej: repuestos, materiales de oficina, libros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93480"/>
            <a:ext cx="8229600" cy="75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joras y Repara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joras: Cambios Estructurales del activo (ampliación a adición de elementos). S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pitalizab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es decir, incrementan en activo fij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araciones y mantenimiento: Dejan al activo en condiciones normales de funcionamiento. No son  capitalizables, es decir, se consideran u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as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752480"/>
            <a:ext cx="91425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 Compra de Activo Fij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93400" y="1628280"/>
            <a:ext cx="8599320" cy="472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adquiere una propiedad que costó $50.000.000. Una tasación técnica indica lo siguien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M$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ida Ut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erren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strucción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35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stalacion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15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demás se incurrió en los siguientes gas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onorarios del abogad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m$ 0,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de Transferenci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m$ 0,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notarial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m$ 0,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 Compra de Activo Fij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2233080"/>
            <a:ext cx="8915400" cy="436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o Total = mm$50 + mm$0.15 = $50.15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siento Con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b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ren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.15*0.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ucció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.15*0.58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alacion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.15*0.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poni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.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99640" y="274320"/>
            <a:ext cx="75582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 Venta de Activo Fij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424720" cy="209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vende una máquina en $60.000, cuyo valor contable neto es el siguien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 Bru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5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reciación Acumulada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(10.0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o Fijo ne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4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9000" y="3860640"/>
            <a:ext cx="8775720" cy="265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oni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reciación Acumulad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o Fijo Bru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greso Fuera de Explotació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reciació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38188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f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 Distribución del costo del activo como gasto en los períodos en que presta sus servici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depreciación es consecuencia del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deterior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u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obsolescenci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del act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depreciación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no es un flujo de efec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xisten varios métodos de depreciación. Nosotros estudiaremos tr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reciación line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reciación acele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reciación tributaria acele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3460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reciación Linea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8160" y="1839600"/>
            <a:ext cx="46782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A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 : Costo de Adquis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r: Valor Resid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 : Años de Vida Ut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5040" y="4141800"/>
            <a:ext cx="3936960" cy="1879560"/>
          </a:xfrm>
          <a:prstGeom prst="rect">
            <a:avLst/>
          </a:prstGeom>
          <a:noFill/>
          <a:ln w="1015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preciación Anual =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-V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43600" y="283068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943600" y="5649840"/>
            <a:ext cx="3048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746200" y="5786280"/>
            <a:ext cx="2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43600" y="496404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943600" y="3440160"/>
            <a:ext cx="2286000" cy="1523880"/>
          </a:xfrm>
          <a:prstGeom prst="line">
            <a:avLst/>
          </a:prstGeom>
          <a:ln w="50760">
            <a:solidFill>
              <a:srgbClr val="ff8a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546880" y="31971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17920" y="472140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985160" y="57862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229600" y="49640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699160" y="2435400"/>
            <a:ext cx="153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or A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244000" y="4941720"/>
            <a:ext cx="649080" cy="0"/>
          </a:xfrm>
          <a:prstGeom prst="line">
            <a:avLst/>
          </a:prstGeom>
          <a:ln w="50760">
            <a:solidFill>
              <a:srgbClr val="ff8a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90120" y="479520"/>
            <a:ext cx="7637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Método de los saldos decrecien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0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 = Tasa anual de depreci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n = años de vida út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R = valor resid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A = Depreciación acumul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95400" y="4502160"/>
            <a:ext cx="6384960" cy="1879560"/>
          </a:xfrm>
          <a:prstGeom prst="rect">
            <a:avLst/>
          </a:prstGeom>
          <a:noFill/>
          <a:ln w="1015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reciación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P –DA)*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reciación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saldo no depreciado - V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reciación Tributaria Acelera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ste en depreciar el activo linealmente, considerando una vida útil igual a [1/3] de la vida útil norm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 un método aceptado por el SI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ene como objetivo incentivar la inversión en activo fijo, a través de la postergación del impuesto a la ren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90480" y="285840"/>
            <a:ext cx="748368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14360" y="2782800"/>
          <a:ext cx="8577360" cy="38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360" y="2782800"/>
                    <a:ext cx="85773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1203480" y="1203480"/>
            <a:ext cx="616104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0720" y="1254240"/>
            <a:ext cx="79376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tiene un AF por $100.000, vida útil 5 años y Vr = 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88360" y="2189160"/>
            <a:ext cx="3171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preciación Line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8280" y="388800"/>
            <a:ext cx="7983720" cy="7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aloración de Activ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or Presente : Valor del activo es función de los flujos futur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ntaja: Es una buena estimación del precio de merc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ventaja: Se debe estimar flujos futuros, tasa de descuento y período de madurez del ac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6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641520" y="2349360"/>
          <a:ext cx="8288280" cy="395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1520" y="2349360"/>
                    <a:ext cx="8288280" cy="39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1278000" y="1397160"/>
            <a:ext cx="6761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preciación Acelerada (saldos decrecientes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45760" y="325080"/>
            <a:ext cx="8140680" cy="61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1887480" y="2492280"/>
            <a:ext cx="210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´= [5/3] 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0440" y="3238560"/>
            <a:ext cx="8913960" cy="2362320"/>
          </a:xfrm>
          <a:prstGeom prst="rect">
            <a:avLst/>
          </a:prstGeom>
          <a:noFill/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ñ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preciació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prec.Acumulad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.F.N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100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99640" y="1484280"/>
            <a:ext cx="5212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preciación Tributaria Acelerad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75438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¿ Qué Ocurre con la Utilida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 usar depreciación line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07960" y="3100320"/>
            <a:ext cx="8508960" cy="2489400"/>
          </a:xfrm>
          <a:prstGeom prst="rect">
            <a:avLst/>
          </a:prstGeom>
          <a:noFill/>
          <a:ln w="1015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Ñ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reciac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20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ues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17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17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17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17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17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8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8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8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8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8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8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3915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¿ Qué Ocurre con la Utilida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732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 usar depreciación tributaria acele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84280" y="3098880"/>
            <a:ext cx="7899480" cy="2793960"/>
          </a:xfrm>
          <a:prstGeom prst="rect">
            <a:avLst/>
          </a:prstGeom>
          <a:noFill/>
          <a:ln w="1015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ñ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reciac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0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2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ues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3,4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0,4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0,4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0,4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0,4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6,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9,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9,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9,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9,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os Intangib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on activos no físicos que presentan un potencial de servic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registran contablemente sólo cuando son adquiridos de terceros (al costo de adquisició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Amortiza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Proceso a través del cual el valor de adquisición del intangible se convierte parcial y periódicamente en gas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étodo: Línea recta con VR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ida Util: Mín {Plazo del Contrato; Plazo estimado razonable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os Intangib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4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Patent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Concesión del gobierno en favor de un inventor, mediante la cual le otorga el derecho exclusivo para producir y explotar su invent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4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Marcas Comercial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Privilegio obtenido para el uso exclusivo de identificaciones distintivas de un producto o servici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4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Derecho de llav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Exceso de costo de un activo o empresa por sobre el valor comercial de las partes que lo compone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4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Licencia o franquici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Privilegio obtenido por una firma para la comercialización de un producto bajo condiciones específic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5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ctivos Financier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344080" cy="443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rsión en un instrumento constitutivo de una obligación y emitido por un banco, empresa, o institución financie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l como : Bonos, Depósitos a Plazo, Pagarés, accione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. Financieros de corto plazo: Su objetivo es obtener rentabilidad de los excedentes de caj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. Financieros de largo plazo: Inversiones permanentes en otras socie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5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ctivos Financier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137160" y="3411360"/>
            <a:ext cx="226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CI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2514600" y="2360520"/>
            <a:ext cx="1447920" cy="1371600"/>
          </a:xfrm>
          <a:prstGeom prst="line">
            <a:avLst/>
          </a:prstGeom>
          <a:ln w="50760">
            <a:solidFill>
              <a:srgbClr val="ff8a3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14600" y="3732120"/>
            <a:ext cx="1523880" cy="1524240"/>
          </a:xfrm>
          <a:prstGeom prst="line">
            <a:avLst/>
          </a:prstGeom>
          <a:ln w="50760">
            <a:solidFill>
              <a:srgbClr val="ff8a3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096440" y="2039760"/>
            <a:ext cx="48484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to Plazo (Activo Circulante)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ispon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epósitos a pla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Valores Negociables (accion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ectos de comercio, bonos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253040" y="4935600"/>
            <a:ext cx="46731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rgo Plazo (Otros Activo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 Inv. en Empresas Relacion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 Inv. en Otras Socie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44120" y="48528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.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ósito a Plaz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versión de fondos en bancos e instituciones financieras, a plazo fijo, que devengan intereses a una tasa conocida pagable al vencimiento de la inversió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valorizan a su costo más los intereses y reajustes respectivos devengados a la fecha de cierre de los estados financieros correspond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jempl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" y="1341000"/>
            <a:ext cx="866448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empresa hace un depósito a plazo a 90 días por m$400 al 1.2% mensual. El cierre es a 60 días de hecho el depósi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b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ósito a Plazo (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00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onible (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os 60 día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ósito a Plazo (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400*(1.012)^2-4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gresos Financieros (I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00*(1.012)^2-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28600" y="1219320"/>
            <a:ext cx="87631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ncepto de Valor Presente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i una persona invierte una cantidad P a una tasa r durante un período ¿qué cantidad tendrá al término del perío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1 = P (1+r) , que se conoce como el valor futu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Una persona recibirá una cantidad F1 al cabo de un año ¿qué cantidad hoy sería equivalente a F1 dentro de 1 añ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1 = X (1+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X = Valor Presente = VP1 = F1/(1+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8280" y="388800"/>
            <a:ext cx="7983720" cy="7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aloración de Activ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7696440" cy="10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alores Negociab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1700280"/>
            <a:ext cx="8686800" cy="472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registran bajo este concepto las inversiones en acciones, bonos, efectos de comercio, fondos mutuos y otros títulos de oferta públ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cció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ítulo que otorga a su poseedor la participación en la propiedad de una sociedad anóni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on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ítulo de deuda, emitido por una empresa o por el gobierno, que promete a su poseedor el pago de una cantidad cierta de dinero, en un plazo determinado. Duración mayor a 1 añ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228600" y="2303280"/>
            <a:ext cx="8686800" cy="39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fectos de Comerci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Idéntico al bono, pero su duración es inferior a 1 añ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uotas de Fondos Mutu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rticipación, a través de la adquisición de cuotas, en las inversiones efectuadas en activos financieros, administradas por una entidad especializada y de giro exclus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9640" y="404640"/>
            <a:ext cx="7696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alores Negoc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0120" y="442800"/>
            <a:ext cx="785952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.3 Inversión en Ac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51200"/>
            <a:ext cx="8153280" cy="457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debe distinguir si el objetivo de la inversión es de corto o largo plaz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inversión en acciones será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Valor Negoci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“Activo Circulante”) s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acción se cotiza en bol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monto invertido representa menos del 10% del capital de la empresa emiso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monto invertido representa menos del 5% de los activos del inversionis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480600"/>
            <a:ext cx="79185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.3 Inversión en Ac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95280" y="20113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inversión en acciones será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versión en Empresa Relacionad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“Otros Activos”) s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monto invertido representa más del 10 % del capital de la empresa emiso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interesa si la acción tiene o no cotización bursát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inversión en acciones será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versión en Otras Sociedade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“Otros Activos”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 se cotiza en bolsa, representa menos del 10% del capital de la emisora y más del 5% de los activos de la empre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bien, si no se cotiza en bolsa y representa menos del 10 % del capital de la Empresa Emiso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0720" y="404280"/>
            <a:ext cx="8369280" cy="10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.3 Inversión en Ac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298440" y="1916280"/>
            <a:ext cx="8699400" cy="4376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0520" indent="-290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¿Cómo se valoran contablemen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or Negociable: Mín. {Costo Adquisición.; Valor de Mercado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rsión Empresas Relacionadas: Valor Patrimonial Propor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rsión en Otras Sociedade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se cotiza en bolsa: Mín. {Costo Adquisición; Valor de Mercado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no se cotiza en bolsa: Costo de Adquisi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39440" y="299880"/>
            <a:ext cx="7792920" cy="111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aloración de Activ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 general, la Contabilidad Financiera usa la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valoración al costo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ppio. contabl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lgunas veces se usa el valor de mercado (acciones en calidad de valores negociab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 otras se usa el valor presente (activos en leasing o inversiones en bon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8640" y="275760"/>
            <a:ext cx="82123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Cuentas por Cobra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rech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a exigir de un tercero un pago, o la entrega de bienes y servicios, por un cierto monto, a una fecha futu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Tienen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su origen en la venta de bienes o prestación de servicios a crédito, o en la cesión de un bien del activo a un tercero bajo compromiso de pago a futu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n el balance general normalmente se presentan rebajadas por las estimaciones (provisiones) de deudores incobrables y por los intereses no deveng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52280" y="1676520"/>
            <a:ext cx="8839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 clasifican en las siguientes partid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udores por ventas: Provenientes de las operaciones comerciales de la empre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ocumentos por cobrar: Provenientes de las operaciones comerciales y documentadas a través de letras, pagares u ot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udores varios: Las que no provienen de las operaciones comerciales de la empre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ocumentos y cuentas por cobrar a empresas relacion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udores a largo plazo: Vencimiento superior a un añ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Cuentas por Cobra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4560" y="1484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na empresa tiene cuentas por cobrar de $50.000. Por quiebra de un cliente no será posible recaudar $6.0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Cuentas por Cobra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669960" y="2637000"/>
            <a:ext cx="794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b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Ha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stigo incobrables (G)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6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udores por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6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03848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l momento de preparar los estados financieros, se estima que $2.000 podrían no recuperar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22240" y="5105520"/>
            <a:ext cx="79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b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Ha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visión incobrables (G)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visiones (CA)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02T21:47:36Z</dcterms:created>
  <dc:creator>DPTO. INFORMATICA</dc:creator>
  <dc:description/>
  <cp:keywords/>
  <dc:language>en-US</dc:language>
  <cp:lastModifiedBy>Michael Jorratt De Luis</cp:lastModifiedBy>
  <cp:lastPrinted>1999-03-18T20:54:39Z</cp:lastPrinted>
  <dcterms:modified xsi:type="dcterms:W3CDTF">2007-03-19T03:16:18Z</dcterms:modified>
  <cp:revision>23</cp:revision>
  <dc:subject/>
  <dc:title>Primera Parte: Contabilidad Financiera</dc:title>
</cp:coreProperties>
</file>