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4D9-F286-46AF-A6D7-0B94E671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B4C-D772-4391-BFAB-294816B9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AA4-2150-4298-BE11-13D01C92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9FF-7479-4234-A013-332E4CA1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7EF-E9DD-46EA-8EDD-28BB9700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BCE-7CFD-4C1E-B3FC-9DF07956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31D-1B19-42A6-9F6E-5F4DA95D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025-4599-451A-A157-59B02913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246-B333-40A3-97FA-F5EA0F72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B31-FD12-497E-9DA9-E6D2B4D1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036-A1BC-418E-84BB-8C2393B8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696-773D-4CF0-8BF3-CAF309ED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465F-3DAE-47B1-BA7F-CD5C7CA43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ítulo 3: Sistemas Con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libro que agrupa todas las cuentas que utiliza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imer registro corresponde al saldo del ejercicio anterior, salvo en las cuentas de resultado, cuyo saldo inicial es siempre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25600" y="3147840"/>
          <a:ext cx="8367480" cy="29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147840"/>
                    <a:ext cx="836748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574000" y="2117880"/>
            <a:ext cx="361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ta: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4272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65240"/>
            <a:ext cx="798984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Libro Diario es un registro cronológico de las transacciones efectuadas por una organización. Se especifica el carácter y circunstancia de cada una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gistro de una transacción en el Libro Diario recibe el nombre de “Asiento Contab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34272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un Libro Di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00" y="3048120"/>
          <a:ext cx="908820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48120"/>
                    <a:ext cx="9088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4840" y="2097000"/>
            <a:ext cx="8345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stado de todas las cuentas del mayor con los débitos y créditos del período y sus respectivos saldos deudores o acr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3819600"/>
            <a:ext cx="8902800" cy="977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iclo Co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inicial de las transacciones en el libro d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spaso al libro may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ientos de ajustes y cierre de cuentas (hoja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paración de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104292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200240"/>
            <a:ext cx="8655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2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4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5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6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 pid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52280" y="1127160"/>
          <a:ext cx="883944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27160"/>
                    <a:ext cx="883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istros 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lance de Comprob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28600" y="1257480"/>
          <a:ext cx="8686800" cy="485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7480"/>
                    <a:ext cx="8686800" cy="48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1424160"/>
          <a:ext cx="845820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24160"/>
                    <a:ext cx="84582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90880" y="304920"/>
            <a:ext cx="31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se al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520" y="471600"/>
          <a:ext cx="8229600" cy="60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1600"/>
                    <a:ext cx="8229600" cy="60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981000"/>
          <a:ext cx="830592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81000"/>
                    <a:ext cx="830592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143000" y="1600200"/>
          <a:ext cx="7162920" cy="30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804960" y="30492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50840" y="5172120"/>
            <a:ext cx="74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aso siguiente sería traspasar estos asientos al libro ma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57200" y="2612880"/>
          <a:ext cx="8305920" cy="353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2880"/>
                    <a:ext cx="830592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06668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spaso de las cuentas de gastos de administración y ventas a una cuenta resumen, denominada gastos de administración y v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80880" y="1927080"/>
          <a:ext cx="838224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27080"/>
                    <a:ext cx="83822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17680" y="72720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re de cuentas: Se efectúan los asientos contrarios en la cuenta Utilidad del Ejerc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701720"/>
          <a:ext cx="82296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1720"/>
                    <a:ext cx="82296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24880" y="92880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GENE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720" y="3333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14400" y="1120680"/>
          <a:ext cx="74674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0680"/>
                    <a:ext cx="74674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98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381400"/>
            <a:ext cx="864072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3100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Debe se llama: Adeudar, cargar o deb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Haber se llama: Abonar o acre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sándonos en la igualdad del inventario existi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tri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esponde al conjunto d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ent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utilizadas en un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mínimo son las del Balance General y las d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mpresa elegirá el nivel de desagregación en función de sus requerimientos de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7-08-02T06:06:19Z</dcterms:modified>
  <cp:revision>10</cp:revision>
  <dc:subject/>
  <dc:title>Contabilidad y Control</dc:title>
</cp:coreProperties>
</file>