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D5E-62C2-4DA6-B928-78DAC07E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A7B-A81F-4ED8-B7DC-3E5BA144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3DF5-40F4-4DDA-93CF-97B8304B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2F5D-9BB1-4481-BB4E-713EAB35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8A8-22F6-4028-A0DD-8138D2D7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740-CBE2-4225-B539-AE514780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2C9-DAB9-498D-BBD2-DF27467B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BDDF-3416-41A3-BA28-E0951073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4B72-DE4B-4451-8BAF-DF9EC4F4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9B2-887B-406D-A4CE-C693F2DF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B9D-D03F-45ED-A9A1-776B2F53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465-4CDA-4EC6-B75B-0F63FAD2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D554-EC54-475B-AD63-3F11856D7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mera Parte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bilidad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ítulo 3: Sistemas Con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libro que agrupa todas las cuentas que utiliza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imer registro corresponde al saldo del ejercicio anterior, salvo en las cuentas de resultado, cuyo saldo inicial es siempre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25600" y="3147840"/>
          <a:ext cx="8367480" cy="29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3147840"/>
                    <a:ext cx="836748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574000" y="2117880"/>
            <a:ext cx="361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enta: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42720"/>
            <a:ext cx="8386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65240"/>
            <a:ext cx="7989840" cy="39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Libro Diario es un registro cronológico de las transacciones efectuadas por una organización. Se especifica el carácter y circunstancia de cada una d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registro de una transacción en el Libro Diario recibe el nombre de “Asiento Contabl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34272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9000"/>
          </a:bodyPr>
          <a:p>
            <a:pPr marL="16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ma de un Libro Di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400" y="3048120"/>
          <a:ext cx="908820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3048120"/>
                    <a:ext cx="90882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4840" y="2097000"/>
            <a:ext cx="83451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stado de todas las cuentas del mayor con los débitos y créditos del período y sus respectivos saldos deudores o acr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8760" y="3819600"/>
            <a:ext cx="8902800" cy="9777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RIFICA QUE EL PASO DEL LIBRO DIARIO AL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A CORR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Ciclo Con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15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gistro inicial de las transacciones en el libro d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aspaso al libro may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ientos de ajustes y cierre de cuentas (hoja de tra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paración de los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1042920"/>
            <a:ext cx="817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rta empresa muestra el siguiente balance al comenzar el ejercicio (en M$)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04920" y="220968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os dos meses siguientes realiza las siguientes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200240"/>
            <a:ext cx="86551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2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4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5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6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deuda se contrajo a un tasa del 2% mensual (lineal) y se debe pagar al cabo de 1 año junto con los inter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 activo fijo le resta una vida útil de 20 años y su valor residual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seguro tiene una duración de 1 año y fue contratado hace 2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 pide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ju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52280" y="1127160"/>
          <a:ext cx="8839440" cy="53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27160"/>
                    <a:ext cx="883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STEMA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istros Cont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lance de Comprob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clo Co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228600" y="1257480"/>
          <a:ext cx="8686800" cy="485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7480"/>
                    <a:ext cx="8686800" cy="48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80880" y="1424160"/>
          <a:ext cx="8458200" cy="42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24160"/>
                    <a:ext cx="845820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90880" y="304920"/>
            <a:ext cx="31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se al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33520" y="471600"/>
          <a:ext cx="8229600" cy="60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1600"/>
                    <a:ext cx="8229600" cy="60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981000"/>
          <a:ext cx="830592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81000"/>
                    <a:ext cx="830592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61880" y="30492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143000" y="1600200"/>
          <a:ext cx="7162920" cy="304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6292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804960" y="30492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Aju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50840" y="5172120"/>
            <a:ext cx="748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paso siguiente sería traspasar estos asientos al libro may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57200" y="2612880"/>
          <a:ext cx="8305920" cy="353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2880"/>
                    <a:ext cx="830592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81960" y="38088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066680"/>
            <a:ext cx="81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spaso de las cuentas de gastos de administración y ventas a una cuenta resumen, denominada gastos de administración y ve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80880" y="1927080"/>
          <a:ext cx="8382240" cy="45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27080"/>
                    <a:ext cx="838224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17680" y="72720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ierre de cuentas: Se efectúan los asientos contrarios en la cuenta Utilidad del Ejerc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701720"/>
          <a:ext cx="822960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1720"/>
                    <a:ext cx="822960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24880" y="92880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GENERAL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720" y="33336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914400" y="1120680"/>
          <a:ext cx="7467480" cy="471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20680"/>
                    <a:ext cx="746748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empresas pueden tener cientos o miles de transacciones diarias, por lo cual no es posible registrar las transacciones directamente en el balance, como lo hemos hecho hasta ah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“Cuenta” es un registro asociado a un ítem o rubro del balance, en el cual se registran todas las variaciones que afectan a dicho rub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398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2381400"/>
            <a:ext cx="864072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3100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Debe se llama: Adeudar, cargar o deb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Haber se llama: Abonar o acred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sándonos en la igualdad del inventario existir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trimo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56944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responde al conjunto de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ent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utilizadas en un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mpre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mínimo son las del Balance General y las del estado de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mpresa elegirá el nivel de desagregación en función de sus requerimientos de inform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78400" y="1557360"/>
            <a:ext cx="4414680" cy="4068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7440" y="1557360"/>
            <a:ext cx="396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79720" y="1270080"/>
            <a:ext cx="44845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3:04:30Z</dcterms:created>
  <dc:creator>Soporte Técnico</dc:creator>
  <dc:description/>
  <dc:language>en-US</dc:language>
  <cp:lastModifiedBy>Michel</cp:lastModifiedBy>
  <dcterms:modified xsi:type="dcterms:W3CDTF">2007-08-02T06:06:19Z</dcterms:modified>
  <cp:revision>10</cp:revision>
  <dc:subject/>
  <dc:title>Contabilidad y Control</dc:title>
</cp:coreProperties>
</file>