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823E6-AC80-411D-8F7A-66ED881CA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FD319-B1A6-4F25-882D-6FFA01568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39E89-9206-434A-A781-EBBC9A0DD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04813-5E49-4A41-A481-68733FB9A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00355-B2D1-4690-9A7A-77881010E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CD1A9-44C2-40D3-959E-C01947B45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8AE01-EEC4-41BD-9DCD-94572C624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CD612-708D-4451-AF18-A697AEDE5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AF7D6-A607-4DAA-BDAC-D84B164E7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1CA94-BB9C-4EA4-A159-70A1BBADB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8F9E2-8FC9-4697-AD68-01F7E79EC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FA208-0A5D-4200-853E-95E2E51F7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959E7-4E65-4377-8FFD-6C591A2CE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F1B2D-17F2-4E0E-92F6-127EDF9F5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E6501-3D02-4C1F-8260-ACE9557B4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FC31D-665D-4EA0-9E08-218D77291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1C854-F472-4513-A58E-C5316F649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DCB45-57C6-4773-8DCF-445CF4A4A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9303A-E43D-44CA-B342-F4286114E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A1E51-1C8A-490D-8A7C-6E6226C1E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D2139-6154-4130-A56F-8F743E472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82277-8353-4A8D-BF8B-905DDFBD3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8664-3017-4867-A99B-BC6F3EFC4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E8CD2-CE84-48A0-9142-8BEEC6E09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A027-4957-4A29-94A8-A0EC0E8C1CD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5096-086C-438B-8151-28288978081A}"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99"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6"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4.000)</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0"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todas las rentas percibidas en el año.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4"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36"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40"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42"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43"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44"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45"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47"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48"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49"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50"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55"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59"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63"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64"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68"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ario</a:t>
            </a:r>
            <a:endParaRPr b="0" lang="en-US" sz="4400" spc="-1" strike="noStrike">
              <a:solidFill>
                <a:srgbClr val="333399"/>
              </a:solidFill>
              <a:latin typeface="Tahoma"/>
            </a:endParaRPr>
          </a:p>
        </p:txBody>
      </p:sp>
      <p:sp>
        <p:nvSpPr>
          <p:cNvPr id="101"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72"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74"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76"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77"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79"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8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8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8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03"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07"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13"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14"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18"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20"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4"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cp:keywords/>
  <dc:language>en-US</dc:language>
  <cp:lastModifiedBy>Michel</cp:lastModifiedBy>
  <cp:lastPrinted>1999-03-18T21:02:27Z</cp:lastPrinted>
  <dcterms:modified xsi:type="dcterms:W3CDTF">2007-08-28T01:57:21Z</dcterms:modified>
  <cp:revision>24</cp:revision>
  <dc:subject/>
  <dc:title>Primera Parte: Contabilidad Financiera</dc:title>
</cp:coreProperties>
</file>