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D50-FCC9-4BD7-85E0-2F770E21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ACA-0F95-43A1-9D49-BA1A1F0B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C38-7D73-4C27-899E-0773DB04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8AA-37D9-469A-AFB4-FB623EC3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3DA7-E2F1-4BF0-BD94-0D7EE477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79C9-CA9E-46B4-97D2-09754934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9F33-4440-4B77-A796-349161F7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2ECB-6B9B-4BC2-BF31-A4460543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5461-EDB2-44D5-911B-CA927189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FF53-6329-4BF8-9EFC-34CA6175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58DE-5D80-48F5-A616-62F3D02C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963-C443-43B4-9E1F-CFCAA4E2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F429-8344-464A-9437-7CB87AE4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2272-998B-4F96-B110-151D27A3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2EE1-FD97-44B2-A769-FD08FA4B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00FB-9AA7-40CC-A345-8466CF09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832C-C8CC-40C1-AA66-5DB50A15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AE4-AE38-49E8-8C62-B56FB887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B90-C84C-4571-BCBB-31BD722A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060-F82A-489E-8975-0C85C0D3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743-BC7F-42C0-AC4B-1B04DA14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9EA-9CE9-4A0F-88AA-2C304AC8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620-143B-46B9-AE96-D858966A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4D9-D70D-407C-A2B3-BC28B3FF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5285-CF9E-46FD-BFC3-71ACCF79CC6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1F5-80A1-4068-8011-BE29CCA069D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trol Presupuestario y 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nálisis de Desvi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n costos preestablecidos, se calculan antes de comenzar las op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989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500x800 – 550x800) x 6 = -2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viació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 x 800 x 40 – 26,25 x 800 x 45 = 800.000 – 945.000 = -14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25x800 – 26,25x800) x 40 = -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40 - 45) x 26,25 x 800 = - 10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tro 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er archivo Excel: “Presupuesto Flexible” adju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26000" y="121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sumen del Análisis de Variaciones </a:t>
            </a:r>
            <a:br>
              <a:rPr sz="28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Ver archivo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“Presupuesto Flexible”)</a:t>
            </a: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95280" y="1706400"/>
            <a:ext cx="8365320" cy="3958560"/>
            <a:chOff x="395280" y="1706400"/>
            <a:chExt cx="8365320" cy="3958560"/>
          </a:xfrm>
        </p:grpSpPr>
        <p:cxnSp>
          <p:nvCxnSpPr>
            <p:cNvPr id="195" name="_s68616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4238640" y="346284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68617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2561400" y="346320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_s68618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760360" y="1534320"/>
              <a:ext cx="222840" cy="259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68619"/>
            <p:cNvCxnSpPr>
              <a:stCxn id="197" idx="0"/>
              <a:endCxn id="202" idx="2"/>
            </p:cNvCxnSpPr>
            <p:nvPr/>
          </p:nvCxnSpPr>
          <p:spPr>
            <a:xfrm flipH="1" flipV="1" rot="5400000">
              <a:off x="3932280" y="2297880"/>
              <a:ext cx="222840" cy="106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2" name="_s68620"/>
            <p:cNvSpPr/>
            <p:nvPr/>
          </p:nvSpPr>
          <p:spPr>
            <a:xfrm>
              <a:off x="2846520" y="1706400"/>
              <a:ext cx="3460320" cy="10134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Está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98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92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_s68621"/>
            <p:cNvSpPr/>
            <p:nvPr/>
          </p:nvSpPr>
          <p:spPr>
            <a:xfrm>
              <a:off x="191916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Flexi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21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59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_s68622"/>
            <p:cNvSpPr/>
            <p:nvPr/>
          </p:nvSpPr>
          <p:spPr>
            <a:xfrm>
              <a:off x="557604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Volumen de Vent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120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15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_s68623"/>
            <p:cNvSpPr/>
            <p:nvPr/>
          </p:nvSpPr>
          <p:spPr>
            <a:xfrm>
              <a:off x="395280" y="4413960"/>
              <a:ext cx="288072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Pre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44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1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26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_s68624"/>
            <p:cNvSpPr/>
            <p:nvPr/>
          </p:nvSpPr>
          <p:spPr>
            <a:xfrm>
              <a:off x="3747960" y="4413960"/>
              <a:ext cx="288000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Eficienc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6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20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8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134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uestra si los responsables están cumpliendo o no con los objetivos especifi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tituye un proceso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11-14T01:36:19Z</dcterms:modified>
  <cp:revision>35</cp:revision>
  <dc:subject/>
  <dc:title>Sin título de diapositiva</dc:title>
</cp:coreProperties>
</file>