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C339-AE6E-461C-AB75-079C8436F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448-4860-468B-B2F1-ED15981D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1012-7391-4F92-9051-BB3CCDDEB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3B51-A3CF-46CF-B0E7-2A0ADDFF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B6DEC-3CFE-4E9F-80B3-DBD10BB9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8A72A-86BD-4F94-AF14-F76EBC95B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7EF0-C13F-4F51-9789-696E1C780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3989-6F37-411E-BBAD-6C5020893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8B442-A78E-4794-B634-F24A23CA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28C9D-E694-4033-BB49-4C42F698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F0251-1E48-4174-8B56-7606A7E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3494-35A2-4229-9286-DC89D1E3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EEE2C-12CF-40E3-8F72-45C28A6B9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D49C7-062F-4593-BA20-AA4159FC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DE88-968F-4695-AFAB-CED2BC05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6CA10-8480-43C4-9E78-DAD610A1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BB0A7-A671-411C-952C-6C12653F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F32-9E40-4A31-BF9A-DFF4FE2C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B8B0-1F60-4C47-A9DD-7013BFBD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90A-AFD9-48C2-8EFD-05A75AF7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51D1-75EE-4A88-B4AF-C5F59CDA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36F5-C0A9-4211-A7F6-64EE6390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B02E-7C97-47C9-8101-FC47CD9DD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C450-924B-43A9-B700-AD32510D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5039A-7524-4F26-B3A7-9EDE55433E32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E6ABE-4BF8-40C0-9729-8456AA0A4DB1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Control Presupuestario y </a:t>
            </a:r>
            <a:br>
              <a:rPr sz="3600"/>
            </a:br>
            <a:r>
              <a:rPr b="1" lang="es-ES_tradnl" sz="3600" spc="-1" strike="noStrike">
                <a:solidFill>
                  <a:srgbClr val="ffffff"/>
                </a:solidFill>
                <a:latin typeface="Arial"/>
              </a:rPr>
              <a:t>Análisis de Desviacion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Son costos preestablecidos, se calculan antes de comenzar las operacion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l igual que con los costos históricos, se pueden con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360" y="304560"/>
            <a:ext cx="7989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40080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6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500x800 – 550x800) x 6 = -2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ontrol Presupuestari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sviación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5 x 800 x 40 – 26,25 x 800 x 45 = 800.000 – 945.000 = -14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25x800 – 26,25x800) x 40 = -40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ffffff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 = (40 - 45) x 26,25 x 800 = - 105.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Otro 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er archivo Excel: “Presupuesto Flexible” adju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26000" y="12160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Resumen del Análisis de Variaciones </a:t>
            </a:r>
            <a:br>
              <a:rPr sz="2800"/>
            </a:b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Ver archivo: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“Presupuesto Flexible”)</a:t>
            </a:r>
            <a:r>
              <a:rPr b="0" lang="es-CL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95280" y="1706400"/>
            <a:ext cx="8365320" cy="3958560"/>
            <a:chOff x="395280" y="1706400"/>
            <a:chExt cx="8365320" cy="3958560"/>
          </a:xfrm>
        </p:grpSpPr>
        <p:cxnSp>
          <p:nvCxnSpPr>
            <p:cNvPr id="195" name="_s68616"/>
            <p:cNvCxnSpPr>
              <a:stCxn id="196" idx="0"/>
              <a:endCxn id="197" idx="2"/>
            </p:cNvCxnSpPr>
            <p:nvPr/>
          </p:nvCxnSpPr>
          <p:spPr>
            <a:xfrm flipV="1" rot="16200000">
              <a:off x="4238640" y="346284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98" name="_s68617"/>
            <p:cNvCxnSpPr>
              <a:stCxn id="199" idx="0"/>
              <a:endCxn id="197" idx="2"/>
            </p:cNvCxnSpPr>
            <p:nvPr/>
          </p:nvCxnSpPr>
          <p:spPr>
            <a:xfrm flipH="1" flipV="1" rot="5400000">
              <a:off x="2561400" y="3463200"/>
              <a:ext cx="222840" cy="16783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0" name="_s68618"/>
            <p:cNvCxnSpPr>
              <a:stCxn id="201" idx="0"/>
              <a:endCxn id="202" idx="2"/>
            </p:cNvCxnSpPr>
            <p:nvPr/>
          </p:nvCxnSpPr>
          <p:spPr>
            <a:xfrm flipV="1" rot="16200000">
              <a:off x="5760360" y="1534320"/>
              <a:ext cx="222840" cy="2592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203" name="_s68619"/>
            <p:cNvCxnSpPr>
              <a:stCxn id="197" idx="0"/>
              <a:endCxn id="202" idx="2"/>
            </p:cNvCxnSpPr>
            <p:nvPr/>
          </p:nvCxnSpPr>
          <p:spPr>
            <a:xfrm flipH="1" flipV="1" rot="5400000">
              <a:off x="3932280" y="2297880"/>
              <a:ext cx="222840" cy="10652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202" name="_s68620"/>
            <p:cNvSpPr/>
            <p:nvPr/>
          </p:nvSpPr>
          <p:spPr>
            <a:xfrm>
              <a:off x="2846520" y="1706400"/>
              <a:ext cx="3460320" cy="10134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Estátic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98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92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_s68621"/>
            <p:cNvSpPr/>
            <p:nvPr/>
          </p:nvSpPr>
          <p:spPr>
            <a:xfrm>
              <a:off x="191916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Presupuesto Flexi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21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59,6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_s68622"/>
            <p:cNvSpPr/>
            <p:nvPr/>
          </p:nvSpPr>
          <p:spPr>
            <a:xfrm>
              <a:off x="5576040" y="2941920"/>
              <a:ext cx="3184560" cy="12492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del Volumen de Ventas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120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3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152,0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_s68623"/>
            <p:cNvSpPr/>
            <p:nvPr/>
          </p:nvSpPr>
          <p:spPr>
            <a:xfrm>
              <a:off x="395280" y="4413960"/>
              <a:ext cx="288072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Pre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44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18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26,400 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_s68624"/>
            <p:cNvSpPr/>
            <p:nvPr/>
          </p:nvSpPr>
          <p:spPr>
            <a:xfrm>
              <a:off x="3747960" y="4413960"/>
              <a:ext cx="2880000" cy="125100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1560" rIns="6156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Variación en Eficiencia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teriales Directos $ 6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Mano de Obra Directa 20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Arial"/>
                </a:rPr>
                <a:t>Total Costos Directos 86,000 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13420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uestra si los responsables están cumpliendo o no con los objetivos especific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nstituye un proceso de aprendizaj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811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Estático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resupuesto Flexibl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 se desarrolla considerando los precios y costos variables presupuestados y el nivel de producción re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2-10T16:31:30Z</dcterms:created>
  <dc:creator>mmv</dc:creator>
  <dc:description/>
  <cp:keywords/>
  <dc:language>en-US</dc:language>
  <cp:lastModifiedBy>Ivan Alvarez</cp:lastModifiedBy>
  <cp:lastPrinted>1999-04-29T23:00:42Z</cp:lastPrinted>
  <dcterms:modified xsi:type="dcterms:W3CDTF">2007-11-14T01:36:19Z</dcterms:modified>
  <cp:revision>35</cp:revision>
  <dc:subject/>
  <dc:title>Sin título de diapositiva</dc:title>
</cp:coreProperties>
</file>