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28E-6346-4023-88C1-865559F3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3C9-0BB6-41A9-AD7D-38B05F63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546-B7EC-4BDA-8FFD-70F8FB46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956-B7CE-492D-8EF8-A97C52BB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4DC-F01B-48B2-A3B7-AAFA3FF4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E1F2-3963-41B0-8EF5-8854287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F6F4-0851-42B8-9CBD-7B2D8CD6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8E63-01E7-4358-8492-0A8ABB3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94E-4571-46AB-A01C-8B80CB7B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971C-7B60-4C9A-97D7-F4B4BBE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D799-85F7-4A2B-AD28-B08B2BB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DD1-D4B4-4DF4-B830-B526A79A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0A4-F11E-47ED-8387-016B3BB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1EA4-7744-460A-A823-D9F2808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E96F-B8BC-4D05-A03B-7322248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489-0DB9-48CD-967C-ABF5088E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0F40-EFAF-49FA-84D7-A61FD700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47E-EB21-4245-9539-053618B4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13A-1EA1-4E90-87C5-623D4A3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CD3-D18A-4E84-9287-F77DF46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79D-2E48-48F5-B6C6-3831ED97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5AF-A05D-44B2-9252-7A4556B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787-2257-45D0-AB6F-E08D1CB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C98-3F5C-4CF4-9D9B-A7FAD138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3EBD-57AB-4B6E-BE33-15D85793FC3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029A-9DBD-4977-BE55-01157657BC9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7:03Z</dcterms:modified>
  <cp:revision>38</cp:revision>
  <dc:subject/>
  <dc:title>Sin título de diapositiva</dc:title>
</cp:coreProperties>
</file>