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EDA-8556-420E-9770-B2864BC2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B04-5DA6-43FB-8420-BFAA628A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F74-7374-42CE-96C8-88181995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B46-9A87-44D9-92B3-CB2CFD89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471A-F215-4833-A40A-D52ED722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C838-998B-4190-A2DC-1BEF8FC6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4EC1-70C2-437F-805A-D1B7B5F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299B-E512-4894-B29A-16A88A91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2607-33D5-42C5-8BB7-50853B01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3F4B-FDBC-49CF-B3F6-D0A58732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6A2C-415B-4158-B2F6-6ABC2D7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14C-F951-4C67-B12B-88324514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06A3-A9AB-4C10-8A63-37E7553F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4F96-E17E-44B5-AF91-127FAD5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3647-28A9-4B19-99F2-E36E5462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FEBC-4DF5-4D12-B0E6-6787126A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EDF4-465A-463C-8849-9D02813F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20A-5EFC-4024-91AF-E7989206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3F2-2C2D-4102-B692-274BD0AF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5C3-FC58-457E-ADDE-2B4EBC30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76A-D8D4-486F-A652-806E183B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7404-66FB-4516-AE4C-CC125C97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33B-1159-40FA-B9E9-4A31D782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A5B-E5D3-4E1E-BF7E-310CC76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B61C-3CEE-40D7-8570-66C8162B395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ED6B-C6FE-4247-9CEB-D93A1926DB5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5-28T00:27:03Z</dcterms:modified>
  <cp:revision>38</cp:revision>
  <dc:subject/>
  <dc:title>Sin título de diapositiva</dc:title>
</cp:coreProperties>
</file>