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FE5-7D52-417D-ADC7-81ED3D4F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A55-6C1D-4655-8F4F-E8E3CA5D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DA9-C2FB-4CE0-AB70-3268B54F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23C-6DF5-4E9E-BA49-F9AD655D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40FE-7F80-401C-BAAC-F060D530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1968-6CA4-4011-B330-1F5043CB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3063-CE8B-4DA4-AA32-B729FF9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9C7F-8AEA-431F-894D-AAE44990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B760-BB72-4233-B8D3-49DE3946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CB7A-5A83-4BDA-808B-82A776CF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4CB6-7C1F-4266-9A08-68AE421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048-9A0A-4440-AEB0-E45D48A5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857C-70F1-4351-ADD6-8A6C5808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0763-44AC-4EC9-B420-5445341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BA9F-591C-4980-B9DC-A2EF7E0B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A497-414C-4935-8784-61090D3B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4D3B-481A-4CCA-AD9F-4A5B5E81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7DF-5A82-42BE-81D5-6DA605FD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9C8-87A9-491A-A1FB-4FCF298D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ED9-E1AB-4A70-94E4-896AAE7D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DC2-0D12-441D-9835-82E4D151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B92-D03D-4BC3-922A-3AB3EB64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321-9D80-4079-8CEA-46533F9D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0D9-5B06-47E8-9A19-46870B9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F56B-680F-466C-AC8E-A6B160321E1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321D-828B-4342-8975-B56A284D882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7:03Z</dcterms:modified>
  <cp:revision>38</cp:revision>
  <dc:subject/>
  <dc:title>Sin título de diapositiva</dc:title>
</cp:coreProperties>
</file>