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174-6CBE-4EDF-B94C-8DF0C7F6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272-FD9F-480B-B98C-21DE7D3A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3EE-8E54-4C42-976A-E9CD3863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556-46E3-4CE0-B65D-4547ECFB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2BE1-AA10-422F-9752-54BD93C1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803A-0782-4E68-9370-E8007250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551D-9797-4C68-BE1E-09B3B3D2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C5F6-087C-45BF-993D-C8B74FAF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46CB-0E90-492B-B126-27F779C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C59-2C21-42E8-B5C3-772E9E9E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3A66-C6DE-4058-A0FB-61DE1C4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8BB-D224-4CC9-9E72-91A2FF62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EF8E-010D-4A1B-95E2-E65B652B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3FE8-0942-4BFF-B12B-FA0AF28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A278-1DE5-4EC6-B1F5-C193C737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CBE4-AACE-4BB7-80C8-165B70DE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20B8-BD93-431D-BAC9-3F5F0A89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186-7A20-42D1-92B4-5AAAD841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018-3042-4923-A535-D69D0372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F16-CA5A-4F2A-BD45-2C823199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5C5-06AE-4A97-8FB6-8E9AA3A2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BB4-0C4E-4E71-9126-A56B69A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BFD-75FD-4EBC-8252-29A9FD5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E87-30C7-4474-89A3-6F43115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E63-5B69-4C41-9CC2-A80929E6117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D66D-2D9C-43B2-9792-9EBB70714B1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trol Presupuestario y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8880" indent="-758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58880" indent="-758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58880" indent="-758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Anfersa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Anfersa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Anfersa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nfersa 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Anfersa SA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Industri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estancado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progresivo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único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revisado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flexible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upuesto y Ciclo Presupues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resupuesto es la expresión en términos monetarios de los pla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acción que una empresa tiene previsto llevar a cabo a lo largo de un períod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 el proceso por el cual una empresa elab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resupuesto para un determinado período. En él se definen tres concep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nes de acción y sus respectivos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ultados previstos de los planes de a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495680"/>
            <a:ext cx="7199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s Financier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228600"/>
            <a:ext cx="7238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1337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026800"/>
            <a:ext cx="15238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lan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720" y="1432440"/>
            <a:ext cx="19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Nivel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026800"/>
            <a:ext cx="13716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941200"/>
            <a:ext cx="14749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86488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627000"/>
            <a:ext cx="1474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46508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GF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31640" y="143244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Nivel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3702960"/>
            <a:ext cx="14954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E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yec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2484000"/>
            <a:ext cx="158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de Caja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484596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yec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20440" y="1356120"/>
            <a:ext cx="23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Resultado Con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</a:t>
            </a: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Proyect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286000"/>
            <a:ext cx="3049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666880"/>
            <a:ext cx="0" cy="3049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3200400"/>
            <a:ext cx="38124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3200400"/>
            <a:ext cx="0" cy="15238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3962520"/>
            <a:ext cx="380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4724280"/>
            <a:ext cx="380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362320"/>
            <a:ext cx="4680" cy="27954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362320"/>
            <a:ext cx="20574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5181480"/>
            <a:ext cx="4572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3200400"/>
            <a:ext cx="15264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4800600"/>
            <a:ext cx="15264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0" y="2708280"/>
            <a:ext cx="36036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3962520"/>
            <a:ext cx="5335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1676520"/>
            <a:ext cx="6094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1676520"/>
            <a:ext cx="60984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4480" y="26028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3573360"/>
            <a:ext cx="0" cy="3603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3933720"/>
            <a:ext cx="720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novación A.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mento capa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lance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ado de Resul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ujo de C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9:07Z</dcterms:modified>
  <cp:revision>38</cp:revision>
  <dc:subject/>
  <dc:title>Sin título de diapositiva</dc:title>
</cp:coreProperties>
</file>