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9FCB-5EB3-4908-99CC-A859373B9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697F-C5EA-45F2-8E1B-1AD14FB2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1441-CA75-4FEE-A69A-6FFD36E5B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2D2F-6C51-4871-B588-5B198DBE7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C784-65AC-47EE-A5AF-4FFEB9637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2363-4A38-415C-9853-CB376998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2A6E0-51E4-4324-B9A9-50C0BE4F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40F4-CB8E-4328-A928-E3FCA7E7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D9DA-55D7-48F0-BCB1-88C84572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7AC71-4FE0-4799-9EC6-3990E86F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BEE5B-C8AC-48F2-A993-443C9EB7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ABB6-85A3-41AF-AB1B-D6D984D3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DE65-654B-4D6E-A09B-3D514786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F230-F31D-46EE-BB38-EA628F78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62C7-ADDA-432D-A61A-9A529999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6951-A18E-4EBC-A5F9-D5F0CE658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5EC2B-BB9E-483E-AF26-EB90DB661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2CF2-08E8-4207-A04D-0A7216C8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98E7-B6D1-4544-AED1-B0DA5638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8860-DDF3-4721-B0C0-F2ED1376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07D9-9B6E-4B52-BCCA-9B03B5C6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FE00-2ACC-4D2D-808E-DCE64B92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792C-4684-410F-ABFD-EA1F213E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05A6-BEDE-460C-ADE2-3C6ACE17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D8CB-0BA7-4731-A73C-14A5CD554A48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AA60-9219-48B1-B11F-DF315C344A4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5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Control Presupuestario y Costos Estánd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8880" indent="-7588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Formulación de Presupue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58880" indent="-7588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nálisis de Desvi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58880" indent="-7588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ostos Estánd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0560" y="3805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5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aracterísticas de los Presupuestos Operacion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ben comprender todas y cada una de las funciones que se desarrollan en la empresa, en situación de normalidad. Entonces habrán presupuestos de ventas, de compras, de remuneraciones, de producción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presentan la actuación futura de la organización, por lo que la información que contienen se refiere a proyecciones y no a hechos históri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uelen comprender el horizonte temporal correspondiente al ejercicio contable, generalmente un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686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4. Deben presentar información en términos cuantita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 La empresa Anfersa SA planea vender 9.500 computadores 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próximo año. Su presupuesto de ventas es el siguient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4753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250560" y="685800"/>
            <a:ext cx="85122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ben especificar tanto los objetivos concretos que se quieren alcanzar como los medios necesarios para conseguirl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 Para poder alcanzar las ventas deseadas, Anfersa deberá incurrir en los siguientes gastos de vent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52578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24000" y="685440"/>
            <a:ext cx="8424720" cy="15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s diferentes variables o conceptos que lo componen deben venir desagregadas por centros de responsabilidad. Esto facilita la evaluación en base a los objetivos asignados a cada unidad de la organización (control de gestió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23640" y="228240"/>
            <a:ext cx="813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5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esupuestos parciales e integración presupues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s distintas actividades llevadas a cabo dentro de la organización dará lugar a la necesidad de elaborar presupuesto en cada centro de responsabilidad, que se conocen como presupuestos parcial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or ejemplo: presupuesto de ventas, presupuestos de fabricación, presupuestos de compras, presupuestos financiero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in embargo, la empresa debe ser vista como un todo unitario, coordinado y coherente, en busca de un objetivo comú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integración de los presupuestos parciales dará lugar al Presupuesto Maest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3822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ormalmente se usa el método de integración sucesiva, en donde 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unto de partida es el presupuesto de vent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secuencia de la integración sucesiva es la siguien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ventas y gastos de ven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existencias de productos en proceso y productos termin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 La empresa Anfersa tiene un stock de 1.200 computadores valorados en $60 millones. Desea mantener un stock de seguridad de 900 unidades. Luego, necesitará producir 9.200 computadores el próximo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95280" y="533160"/>
            <a:ext cx="82915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s de costos de producción por departamentos o centros de actividad. Con la información anterior es posible planificar la producción, señalando los recursos neces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</a:t>
            </a: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Anfersa a determinado que para producir 9.200 computadores requerirá los siguientes recurs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971640" y="3141720"/>
            <a:ext cx="691344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24000" y="609120"/>
            <a:ext cx="8362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existencias de materias primas. En función del inventario actual y de las necesidades de producción, el responsable del almacén deberá determinar el volumen de existencias a mantener a lo largo del perío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jemplo: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l responsable del almacén de Anfersa SA, ha estimado mantener siempre un stock de seguridad que le permitan atender la producción de 850 unida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250560" y="457200"/>
            <a:ext cx="84358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s de compras y gastos de compras. Con la información del punto anterior, el responsable de las compras determinará los volúmenes que deberá solicitar mensualmente a los proveedores, así como los precios, las fechas de pago y los demás costos asociados a las compr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187280" y="2565360"/>
            <a:ext cx="64008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323640" y="228600"/>
            <a:ext cx="81342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inversiones. Paralelamente, los ingenieros de producción determinarán las necesidades de nuevos equipos, para llevar a cabo la fabricación previs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7.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gastos de administración. El responsable de administración calculará las necesidades de la empresa en estas fun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403280" y="3213000"/>
            <a:ext cx="64008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8360" y="495360"/>
            <a:ext cx="80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ahoma"/>
              </a:rPr>
              <a:t>Planificación estratégica y Presupues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676520"/>
            <a:ext cx="849600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C" sz="2000" spc="-1" strike="noStrike">
                <a:solidFill>
                  <a:srgbClr val="ffffff"/>
                </a:solidFill>
                <a:latin typeface="Arial"/>
              </a:rPr>
              <a:t>Plan Estratégico: define la dirección de una organiz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roceso de la planificación estratég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2560" y="3573360"/>
            <a:ext cx="122400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Misión 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Objetiv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124000" y="3573360"/>
            <a:ext cx="122400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Análisi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Entor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80000" y="3573360"/>
            <a:ext cx="122364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Formul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Estrateg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35640" y="3573360"/>
            <a:ext cx="136836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Implement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Estrateg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236000" y="3573360"/>
            <a:ext cx="1223640" cy="7207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Evaluación 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35280" y="393372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17840" y="3933720"/>
            <a:ext cx="289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75280" y="393372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75640" y="393372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4869000"/>
            <a:ext cx="158436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Visión: sueñ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Misión: que hará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Objetivos: donde se llegará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64000" y="494172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Programas. Presupues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635280" y="494172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Búsqueda ventaja competit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08000" y="501336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Análisis Interno Análisis Industria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48360" y="4941720"/>
            <a:ext cx="180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Parámetros. Objetivos. Indicadores. Comparaciones. Cambi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87280" y="4292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98920" y="4292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56000" y="4292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83280" y="4292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67640" y="4292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50560" y="609480"/>
            <a:ext cx="8435880" cy="18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de caja y de gastos financiero. El centro de administración financiera estimará los recursos líquidos necesarios para hacer frente a todos los pagos y las necesidades de financiamiento. Además, deberá presupuestar los costos del propio cent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900000" y="2997360"/>
            <a:ext cx="708660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Otros tipos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acuerdo al período temporal que comprend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estancado: se efectúa una vez al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progresivo: una vez transcurrido un subperíodo (mes, trimestre o cuatrimestre) se agrega el sigu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acuerdo a la posibilidad de introducir modifica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único: se mantiene pase lo que p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revisado: se actualiza, para reflejar los cambios en las condiciones que sirvieron de base para su elabor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 acuerdo a la adaptación de los valores presupuestados a los volúmenes realmente alcanzad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fij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upuesto flexible: se ajusta o se rehace con los valores reales de cantidades vendidas y produci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835280" y="981000"/>
            <a:ext cx="5113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81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rmulación de Presupues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591400" cy="475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supuesto y Ciclo Presupuesta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 presupuesto es la expresión en términos monetarios de los pla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 acción que una empresa tiene previsto llevar a cabo a lo largo de un período determin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iclo Presupuestar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s el proceso por el cual una empresa elabo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presupuesto para un determinado período. En él se definen tres concep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67012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67012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lanes de acción y sus respectivos progra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67012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esultados previstos de los planes de ac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ntajas del Proceso Presupues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23640" y="1218960"/>
            <a:ext cx="82105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liga a los ejecutivos o administradores a pensar en forma estructurada sobre el futu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mite establecer metas que posibiliten la evaluación del desempe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obtiene una mayor coordinación y coherencia en el trabajo de las distintas unidades o centros de responsabi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rve como motiv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mite comunicar los objetivos de la alta dirección a las divisiones operativ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pos de 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520" y="1773000"/>
            <a:ext cx="8153640" cy="401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pendiendo del horizonte de planificació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Presupuestos Maestros (1 añ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Oper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Presupuesto de Capital (más de 1 año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upuesto Maestr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)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Operacion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Vent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Produc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MP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M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Gastos de Fabric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Existenc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4495680"/>
            <a:ext cx="71992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)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s Financier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upuesto de Caj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.G. presupuest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ERR presupuest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83600" y="4941720"/>
            <a:ext cx="505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Symbol"/>
                <a:ea typeface="Symbol"/>
              </a:rPr>
              <a:t>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19640" y="5229360"/>
            <a:ext cx="24544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stado Financiero Profor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71600" y="228600"/>
            <a:ext cx="72388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2133720"/>
            <a:ext cx="1981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2026800"/>
            <a:ext cx="152388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Planific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stratég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3720" y="1432440"/>
            <a:ext cx="198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Nivel Estratég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026800"/>
            <a:ext cx="137160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Presupue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Vent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2941200"/>
            <a:ext cx="147492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Presupue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Produc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91120" y="2864880"/>
            <a:ext cx="144756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Presupue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M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91120" y="3627000"/>
            <a:ext cx="147456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Presupue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M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91120" y="4465080"/>
            <a:ext cx="144756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Presupue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GF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131640" y="1432440"/>
            <a:ext cx="209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Nivel Oper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72200" y="3702960"/>
            <a:ext cx="149544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EER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Proyect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156360" y="2484000"/>
            <a:ext cx="158436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Presupue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de Caja</a:t>
            </a:r>
            <a:r>
              <a:rPr b="1" lang="en-US" sz="16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48520" y="4845960"/>
            <a:ext cx="144756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Bal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Proyect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220440" y="1356120"/>
            <a:ext cx="233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Resultado Cont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 </a:t>
            </a:r>
            <a:r>
              <a:rPr b="1" i="1" lang="en-US" sz="2000" spc="-1" strike="noStrike" u="sng">
                <a:solidFill>
                  <a:srgbClr val="00ff00"/>
                </a:solidFill>
                <a:uFillTx/>
                <a:latin typeface="Times New Roman"/>
              </a:rPr>
              <a:t>Proyect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81080" y="2286000"/>
            <a:ext cx="30492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71800" y="2666880"/>
            <a:ext cx="0" cy="30492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9880" y="3200400"/>
            <a:ext cx="38124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9880" y="3200400"/>
            <a:ext cx="0" cy="152388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86200" y="3962520"/>
            <a:ext cx="38088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86200" y="4724280"/>
            <a:ext cx="38088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91320" y="2362320"/>
            <a:ext cx="4680" cy="279540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33920" y="2362320"/>
            <a:ext cx="205740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91320" y="5181480"/>
            <a:ext cx="45720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638680" y="3200400"/>
            <a:ext cx="15264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38680" y="4800600"/>
            <a:ext cx="152640" cy="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96000" y="2708280"/>
            <a:ext cx="36036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638680" y="3962520"/>
            <a:ext cx="53352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62320" y="1676520"/>
            <a:ext cx="609480" cy="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410080" y="1676520"/>
            <a:ext cx="609840" cy="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4480" y="26028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esupuesto Maest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87640" y="3573360"/>
            <a:ext cx="0" cy="360360"/>
          </a:xfrm>
          <a:prstGeom prst="line">
            <a:avLst/>
          </a:prstGeom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87640" y="3933720"/>
            <a:ext cx="72072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505320" y="365760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3492360" y="3657600"/>
            <a:ext cx="12960" cy="2940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86400" y="3657600"/>
            <a:ext cx="22320" cy="2940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373392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supues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44197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92360" y="4479840"/>
            <a:ext cx="2087640" cy="16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ueva Tecnologí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Renovación A.F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Nuevas Instalac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umento capac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492360" y="659772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30492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38080" y="312408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1952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38088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lanific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straté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066680"/>
            <a:ext cx="198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14400" y="1197000"/>
            <a:ext cx="200196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is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nálisis interno y exter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strategi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lanes de Ac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72200" y="22860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72200" y="228600"/>
            <a:ext cx="0" cy="2895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72200" y="312408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153280" y="228600"/>
            <a:ext cx="0" cy="28954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248520" y="30492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supues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nanci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72200" y="9907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1295280"/>
            <a:ext cx="182880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alance Gener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stado de Result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lujo de Caj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505320" y="30492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0532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86400" y="304920"/>
            <a:ext cx="0" cy="2819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81280" y="38088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esupues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per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505320" y="106668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81280" y="1127160"/>
            <a:ext cx="198144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ent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oduc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mpr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ers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astos Administrativ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ffff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504960" y="3124080"/>
            <a:ext cx="19810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19520" y="1676520"/>
            <a:ext cx="6858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86400" y="1676520"/>
            <a:ext cx="6858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28800" y="3124080"/>
            <a:ext cx="0" cy="1143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828800" y="4267080"/>
            <a:ext cx="16765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86400" y="4343400"/>
            <a:ext cx="1676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7162920" y="3123720"/>
            <a:ext cx="0" cy="121932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0T16:31:30Z</dcterms:created>
  <dc:creator>mmv</dc:creator>
  <dc:description/>
  <cp:keywords/>
  <dc:language>en-US</dc:language>
  <cp:lastModifiedBy>Ivan Alvarez</cp:lastModifiedBy>
  <cp:lastPrinted>1999-04-29T23:00:42Z</cp:lastPrinted>
  <dcterms:modified xsi:type="dcterms:W3CDTF">2007-05-28T00:29:07Z</dcterms:modified>
  <cp:revision>38</cp:revision>
  <dc:subject/>
  <dc:title>Sin título de diapositiva</dc:title>
</cp:coreProperties>
</file>