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B576-CA24-45A3-9F41-B46ACB685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38A7-E6B9-41B3-A0C2-5FEFB676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63F6-33F3-4FD7-94EE-FE33CAF31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4A5E-80A0-4337-A2BD-60F39908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6834-5E20-4467-BC1D-F7A6790A5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006B8-FB0C-4705-8474-575984C74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1758-81DA-48A5-A234-51C1804C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A6E0-C79C-412C-9478-9A4ACD68D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F1216-E849-4E3E-A66D-E6ABC4E2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358D2-5927-4F65-BC7A-45085DDA9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72ADC-EAEE-4B6D-8AAB-C3F81073E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AF1-83ED-4BED-B17E-208078B4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1E9A-1D66-4618-9052-3BD25652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3352-86DD-45A0-A81E-9A66D6A3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AE28A-C3A3-4E85-A9A1-E5ACCCE30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4399F-B3CE-4073-823C-954B0A4BA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2B46-0E7A-4F8D-94BF-CBDC1D083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8259-7198-494B-9CC0-D608A998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BA45-2010-4474-B20B-651B50C0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652B-12E7-4B4A-9AD6-CE69C8C52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A1D8-9B32-43CB-876D-B6EFF39C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8A5F9-8E60-4076-992A-CCEBEE57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CECC-0103-49D5-AEDC-B2DAFF80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2CA3-1F57-4E40-A6C5-435426CF0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A92B5-1C8C-4852-8999-1128C333C0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E72C-6529-4E42-B579-58365E1D6A8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Calculo de Cost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tiene la siguiente información de costos de una empres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7993080" cy="1297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373680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371628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calcul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Costos unitarios y Estad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Costo total usando método conve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Costo total usando método A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) Costos unitarios y 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) Costo total usando método convencional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abricación: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ministración: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primarios asignables a la primera sección de fabricación son de $ 3.000 y a la segunda de $1.5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de la sección de administración son de $1.350. Se asignan a las secciones de fabricación en la misma proporción de los costos prim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unidad de obra de las secciones de fabricación es la mano de obra. La primera sección consume 300 hrs. y la segunda100 h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5761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6769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) Costo total usando el método A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842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lección de induc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maquinad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las horas de funcionamiento de las máqui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los pedi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el número de pedidos gestio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gestión de client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el número de clientes que gestion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1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0:37:20Z</dcterms:created>
  <dc:creator>Ivan Alvarez</dc:creator>
  <dc:description/>
  <dc:language>en-US</dc:language>
  <cp:lastModifiedBy>Ivan Alvarez</cp:lastModifiedBy>
  <dcterms:modified xsi:type="dcterms:W3CDTF">2007-10-17T01:06:57Z</dcterms:modified>
  <cp:revision>10</cp:revision>
  <dc:subject/>
  <dc:title>Diapositiva 1</dc:title>
</cp:coreProperties>
</file>