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FCC82-FEFC-4D34-8CF5-7A077AFD9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4B5B6-12EF-4E4A-95F9-BEA6D58FD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9300D-4D3D-485A-9024-1C2D5DA25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A33A1-11EC-480F-B0C8-45F7224D9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517B0-B2A0-417B-80B6-07AB6F0FE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84498-9C65-41DB-A675-E6F34943F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260BA-C89D-424B-BA77-BB02CF12E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DF92D-A017-4FF3-8C66-EFA52A0DA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8C1A7-C32B-46BC-90D6-C4BF4660B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B3520-1FDA-41FB-A05A-7B5762BDC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E0369-848B-48EB-ACFE-FBBEFB5EC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F4691-C8F5-4A96-8AF6-2A26A578E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5998B-7611-46D5-805A-35989E791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7FFB8-0DD7-406C-B4E9-342F30BAC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49F47-0D97-437E-8ADF-F7E2F2660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C750C-5A10-45F7-A454-A8B7FC8DC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12B6F-AE2B-4D31-9FC5-A86A0212A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DF3DF-B8DB-42DA-8B69-A52CA8FF5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FC28D-E1E1-4751-BE92-D758955E8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AB3DE-173E-47AA-B920-D43279F62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7F01F-2E6D-4725-AF3A-8995D4467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44385-EC00-4B01-9EDE-1BED6E76F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E76A4-7A20-4C1D-B19E-2D0ABCFF4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493BF-78F6-42DA-93E4-C9500F8E5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F7348-F148-4C3C-BEAE-EDAF197B433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8E43B-00C7-4F6E-BD28-0ADEE496897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ffffff"/>
                </a:solidFill>
                <a:latin typeface="Arial"/>
              </a:rPr>
              <a:t>Calculo de Costo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Arial"/>
              </a:rPr>
              <a:t>Ejemplo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1332000" y="907920"/>
            <a:ext cx="648000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1116000" y="1413000"/>
            <a:ext cx="6985080" cy="31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5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Se tiene la siguiente información de costos de una empresa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539640" y="1700280"/>
            <a:ext cx="7993080" cy="129708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395280" y="3736800"/>
            <a:ext cx="523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68360" y="3716280"/>
            <a:ext cx="81360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Se pide calcular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a) Costos unitarios y Estado de Resultad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b) Costo total usando método convencion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c) Costo total usando método AB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797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a) Costos unitarios y Estado de Resultad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971640" y="1700280"/>
            <a:ext cx="7129440" cy="39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b) Costo total usando método convencional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Seccion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Fabricación: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Administración: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Los costos primarios asignables a la primera sección de fabricación son de $ 3.000 y a la segunda de $1.500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Los costos de la sección de administración son de $1.350. Se asignan a las secciones de fabricación en la misma proporción de los costos primari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La unidad de obra de las secciones de fabricación es la mano de obra. La primera sección consume 300 hrs. y la segunda100 h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1258920" y="836640"/>
            <a:ext cx="5761080" cy="53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1042920" y="2421000"/>
            <a:ext cx="676908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c) Costo total usando el método AB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1042920" y="1844640"/>
            <a:ext cx="684216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Selección de inducto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00"/>
                </a:solidFill>
                <a:latin typeface="Arial"/>
              </a:rPr>
              <a:t>Actividades relacionadas con maquinado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: las horas de funcionamiento de las máquina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00"/>
                </a:solidFill>
                <a:latin typeface="Arial"/>
              </a:rPr>
              <a:t>Actividades relacionadas con los pedidos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: el número de pedidos gestionad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00"/>
                </a:solidFill>
                <a:latin typeface="Arial"/>
              </a:rPr>
              <a:t>Actividades relacionadas con gestión de clientes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: el número de clientes que gestiona la empres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684360" y="765000"/>
            <a:ext cx="792144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6T00:37:20Z</dcterms:created>
  <dc:creator>Ivan Alvarez</dc:creator>
  <dc:description/>
  <dc:language>en-US</dc:language>
  <cp:lastModifiedBy>Ivan Alvarez</cp:lastModifiedBy>
  <dcterms:modified xsi:type="dcterms:W3CDTF">2007-10-17T01:06:57Z</dcterms:modified>
  <cp:revision>10</cp:revision>
  <dc:subject/>
  <dc:title>Diapositiva 1</dc:title>
</cp:coreProperties>
</file>